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C1116-8A1B-4814-8C81-D8500D37368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C7416-C698-4B94-9E08-F3F44328CFA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15B91-D026-4843-A7FD-4467A7AB084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4DEA5-C042-47D3-ABD3-DAFFFB195B3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793DC-0C64-4615-A299-B673BA970B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3A2EB-9CB7-40E5-A464-8A2B1F0AD72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7171C-7015-444D-88CA-829BD9436D4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745C1-A967-4801-B765-710BDF661D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FBA-C317-414C-B90E-B1FD47FA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BF5-28BD-4346-AA53-B1019235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E83-D9C4-4991-9DD1-45AED546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DEF-03A1-4E6E-AD30-0F1B00C8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A24-CE72-4552-8DD1-3FB32BA7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D70-F01B-4B74-BAE7-707DD8D0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B786-EEBC-4916-9EC8-F9B91CA1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0DF-F9A3-4A2A-A448-9479D56C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163-4A3C-48E8-BD12-C6E18CA0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AAF-2DDD-48F8-88A0-740E940E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23D-27F3-43D0-B697-33D5033F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DA56-2343-4C36-ACF1-031A51D5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E1E82-7110-47DF-AED5-D288AC39A0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349960" cy="371772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765600" y="205884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224160" y="4206600"/>
            <a:ext cx="5349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零丁洋，在广东省珠江口外。文天祥被元军俘虏，囚于零丁洋上的战船中。此时敌人一再逼他写信招降在海上坚持抗元斗争的宋军将领，他断然拒绝。文天祥面朝大海，感慨国家命运，心潮起伏，提笔作诗。“人生自古谁无死，留取丹心照汗青”永远铭刻在每一位爱国志士的心上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2430360" y="3379680"/>
            <a:ext cx="425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落 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惶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"/>
          <p:cNvSpPr/>
          <p:nvPr/>
        </p:nvSpPr>
        <p:spPr>
          <a:xfrm>
            <a:off x="2335320" y="288432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iá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组合 2"/>
          <p:cNvGrpSpPr/>
          <p:nvPr/>
        </p:nvGrpSpPr>
        <p:grpSpPr>
          <a:xfrm>
            <a:off x="620640" y="1376280"/>
            <a:ext cx="2905200" cy="666720"/>
            <a:chOff x="620640" y="1376280"/>
            <a:chExt cx="2905200" cy="666720"/>
          </a:xfrm>
        </p:grpSpPr>
        <p:sp>
          <p:nvSpPr>
            <p:cNvPr id="155" name="圆角矩形 12"/>
            <p:cNvSpPr/>
            <p:nvPr/>
          </p:nvSpPr>
          <p:spPr>
            <a:xfrm>
              <a:off x="1436400" y="151416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20640" y="137628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文本框 16"/>
            <p:cNvSpPr/>
            <p:nvPr/>
          </p:nvSpPr>
          <p:spPr>
            <a:xfrm>
              <a:off x="1695960" y="153324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矩形 18"/>
          <p:cNvSpPr/>
          <p:nvPr/>
        </p:nvSpPr>
        <p:spPr>
          <a:xfrm>
            <a:off x="4668120" y="289404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á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60" name="圆角矩形 13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1"/>
          <p:cNvSpPr/>
          <p:nvPr/>
        </p:nvSpPr>
        <p:spPr>
          <a:xfrm>
            <a:off x="2335320" y="3306600"/>
            <a:ext cx="5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10"/>
          <p:cNvGrpSpPr/>
          <p:nvPr/>
        </p:nvGrpSpPr>
        <p:grpSpPr>
          <a:xfrm>
            <a:off x="2833560" y="2622600"/>
            <a:ext cx="2757600" cy="2288520"/>
            <a:chOff x="2833560" y="2622600"/>
            <a:chExt cx="2757600" cy="2288520"/>
          </a:xfrm>
        </p:grpSpPr>
        <p:sp>
          <p:nvSpPr>
            <p:cNvPr id="165" name="左大括号 11"/>
            <p:cNvSpPr/>
            <p:nvPr/>
          </p:nvSpPr>
          <p:spPr>
            <a:xfrm>
              <a:off x="2833560" y="2727360"/>
              <a:ext cx="150480" cy="211464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2114640"/>
                <a:gd name="textAreaBottom" fmla="*/ 2111040 h 211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65"/>
                    <a:pt x="10800" y="129"/>
                  </a:cubicBezTo>
                  <a:lnTo>
                    <a:pt x="10800" y="10671"/>
                  </a:lnTo>
                  <a:cubicBezTo>
                    <a:pt x="10800" y="10736"/>
                    <a:pt x="5400" y="10800"/>
                    <a:pt x="0" y="10800"/>
                  </a:cubicBezTo>
                  <a:cubicBezTo>
                    <a:pt x="5400" y="10800"/>
                    <a:pt x="10800" y="10865"/>
                    <a:pt x="10800" y="10929"/>
                  </a:cubicBezTo>
                  <a:lnTo>
                    <a:pt x="10800" y="21471"/>
                  </a:lnTo>
                  <a:cubicBezTo>
                    <a:pt x="10800" y="2153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Box 12"/>
            <p:cNvSpPr/>
            <p:nvPr/>
          </p:nvSpPr>
          <p:spPr>
            <a:xfrm>
              <a:off x="2984040" y="2622600"/>
              <a:ext cx="26071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uò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落日　落后）</a:t>
              </a: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à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丢三落四）</a:t>
              </a: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ào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落汗  落枕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uō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大大落落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"/>
          <p:cNvSpPr/>
          <p:nvPr/>
        </p:nvSpPr>
        <p:spPr>
          <a:xfrm>
            <a:off x="1504800" y="2114640"/>
            <a:ext cx="745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遭逢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起一经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干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寥落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69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矩形 1"/>
          <p:cNvSpPr/>
          <p:nvPr/>
        </p:nvSpPr>
        <p:spPr>
          <a:xfrm>
            <a:off x="2387520" y="2112840"/>
            <a:ext cx="649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碰上；遇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指因精通某一经籍而通过科举考试得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两种兵器，这里指战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他们凶暴地同希腊人进行“贸易”，结果引起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干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玩火自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意为冷清，稀稀落落。在此指宋元间的战事已经接近尾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1504800" y="2232000"/>
            <a:ext cx="74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惶恐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零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丹心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汗青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75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矩形 1"/>
          <p:cNvSpPr/>
          <p:nvPr/>
        </p:nvSpPr>
        <p:spPr>
          <a:xfrm>
            <a:off x="2387520" y="2230560"/>
            <a:ext cx="64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惊慌害怕。造句：这场地震令人惶恐不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也写作“伶仃”。孤独；没有依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指赤红炽热的心，赤诚的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古代在竹简上写字，在写字前，先把竹简放在火上烤，因竹片水分渗出如汗，故称汗青。这里特指史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组合 4"/>
          <p:cNvGrpSpPr/>
          <p:nvPr/>
        </p:nvGrpSpPr>
        <p:grpSpPr>
          <a:xfrm>
            <a:off x="444600" y="1200240"/>
            <a:ext cx="2722320" cy="666720"/>
            <a:chOff x="444600" y="1200240"/>
            <a:chExt cx="2722320" cy="666720"/>
          </a:xfrm>
        </p:grpSpPr>
        <p:sp>
          <p:nvSpPr>
            <p:cNvPr id="180" name="圆角矩形 3"/>
            <p:cNvSpPr/>
            <p:nvPr/>
          </p:nvSpPr>
          <p:spPr>
            <a:xfrm>
              <a:off x="1260360" y="1338120"/>
              <a:ext cx="17888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44460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文本框 16"/>
            <p:cNvSpPr/>
            <p:nvPr/>
          </p:nvSpPr>
          <p:spPr>
            <a:xfrm>
              <a:off x="1506240" y="135720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梳理文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矩形 6"/>
          <p:cNvSpPr/>
          <p:nvPr/>
        </p:nvSpPr>
        <p:spPr>
          <a:xfrm>
            <a:off x="857160" y="2011320"/>
            <a:ext cx="789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辛苦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遭逢起一经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干戈寥（</a:t>
            </a:r>
            <a:r>
              <a:rPr b="1" lang="en-US" sz="3200" spc="-1" strike="noStrike">
                <a:solidFill>
                  <a:srgbClr val="0070c0"/>
                </a:solidFill>
                <a:latin typeface="方正姚体"/>
                <a:ea typeface="方正姚体"/>
              </a:rPr>
              <a:t>liáo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）落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四周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任意多边形 10"/>
          <p:cNvSpPr/>
          <p:nvPr/>
        </p:nvSpPr>
        <p:spPr>
          <a:xfrm>
            <a:off x="1324080" y="3013200"/>
            <a:ext cx="1573200" cy="45216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遭逢：遭遇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任意多边形 11"/>
          <p:cNvSpPr/>
          <p:nvPr/>
        </p:nvSpPr>
        <p:spPr>
          <a:xfrm>
            <a:off x="3060720" y="2971800"/>
            <a:ext cx="2425680" cy="113652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13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起一经：因精通某一经籍，通过科举考试得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任意多边形 12"/>
          <p:cNvSpPr/>
          <p:nvPr/>
        </p:nvSpPr>
        <p:spPr>
          <a:xfrm>
            <a:off x="5626080" y="2971800"/>
            <a:ext cx="2295720" cy="74304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干戈：指抗元战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3"/>
          <p:cNvSpPr/>
          <p:nvPr/>
        </p:nvSpPr>
        <p:spPr>
          <a:xfrm>
            <a:off x="1273320" y="4543560"/>
            <a:ext cx="68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经过辛苦努力，因为精通五经之一，考中了进士，被起用做官。生逢乱世，战事已经四年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任意多边形 14"/>
          <p:cNvSpPr/>
          <p:nvPr/>
        </p:nvSpPr>
        <p:spPr>
          <a:xfrm>
            <a:off x="5611680" y="3800520"/>
            <a:ext cx="2310120" cy="74304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寥落：荒凉冷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1519200" y="1693800"/>
            <a:ext cx="643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山河破碎风飘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絮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身世浮沉雨打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萍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任意多边形 5"/>
          <p:cNvSpPr/>
          <p:nvPr/>
        </p:nvSpPr>
        <p:spPr>
          <a:xfrm>
            <a:off x="3419640" y="2523960"/>
            <a:ext cx="1447560" cy="63360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絮：柳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6"/>
          <p:cNvSpPr/>
          <p:nvPr/>
        </p:nvSpPr>
        <p:spPr>
          <a:xfrm>
            <a:off x="1273320" y="3733920"/>
            <a:ext cx="68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国家危在旦夕恰如狂风中的柳絮，我一生动荡如同被雨打的浮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任意多边形 4"/>
          <p:cNvSpPr/>
          <p:nvPr/>
        </p:nvSpPr>
        <p:spPr>
          <a:xfrm>
            <a:off x="6583320" y="2523960"/>
            <a:ext cx="1509840" cy="63360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萍：浮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577800" y="1585800"/>
            <a:ext cx="84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惶（</a:t>
            </a:r>
            <a:r>
              <a:rPr b="1" lang="en-US" sz="3200" spc="-1" strike="noStrike">
                <a:solidFill>
                  <a:srgbClr val="0070c0"/>
                </a:solidFill>
                <a:latin typeface="方正姚体"/>
                <a:ea typeface="方正姚体"/>
              </a:rPr>
              <a:t>huáng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）恐滩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头说惶恐，零丁洋里叹零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任意多边形 5"/>
          <p:cNvSpPr/>
          <p:nvPr/>
        </p:nvSpPr>
        <p:spPr>
          <a:xfrm>
            <a:off x="714240" y="2711520"/>
            <a:ext cx="5823000" cy="59220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惶恐滩：在江西省万安县，是赣江中的险滩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6"/>
          <p:cNvSpPr/>
          <p:nvPr/>
        </p:nvSpPr>
        <p:spPr>
          <a:xfrm>
            <a:off x="892080" y="3774960"/>
            <a:ext cx="777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在惶恐滩的时候，我为国家危急恐惧不已，零丁洋身陷元虏可叹我孤苦零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矩形 2"/>
          <p:cNvSpPr/>
          <p:nvPr/>
        </p:nvSpPr>
        <p:spPr>
          <a:xfrm>
            <a:off x="1009800" y="1585800"/>
            <a:ext cx="76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人生自古谁无死，留取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丹心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照汗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任意多边形 5"/>
          <p:cNvSpPr/>
          <p:nvPr/>
        </p:nvSpPr>
        <p:spPr>
          <a:xfrm>
            <a:off x="4397400" y="2575080"/>
            <a:ext cx="3557520" cy="59184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丹心：：红心，赤诚的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6"/>
          <p:cNvSpPr/>
          <p:nvPr/>
        </p:nvSpPr>
        <p:spPr>
          <a:xfrm>
            <a:off x="1009800" y="3755880"/>
            <a:ext cx="68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自古以来谁能永远不死，只要对国家一片忠心就能光照史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1"/>
          <p:cNvSpPr/>
          <p:nvPr/>
        </p:nvSpPr>
        <p:spPr>
          <a:xfrm>
            <a:off x="795240" y="2014560"/>
            <a:ext cx="76662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诗歌首联写了个人和国家的两件大事：一是他明经入仕，因科举而走入仕途；二是在国家危急存亡关头，起兵勤王抗元。第二联写国家山河破碎，局势危急，个人命运也动荡不安，国家命运和个人命运紧密相连，历经艰辛危苦。第三联上句追忆当年兵败福建时，忧念国事的心情，下句写目前不幸被俘的孤独处境。诗歌很巧妙地借惶恐滩和零丁洋两个地名，写出了形势的险恶和境况的危苦。最后一联，直抒胸臆，表明自己以死明志的决心，是千古传诵的名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组合 4"/>
          <p:cNvGrpSpPr/>
          <p:nvPr/>
        </p:nvGrpSpPr>
        <p:grpSpPr>
          <a:xfrm>
            <a:off x="306360" y="1144440"/>
            <a:ext cx="2722680" cy="666720"/>
            <a:chOff x="306360" y="1144440"/>
            <a:chExt cx="2722680" cy="666720"/>
          </a:xfrm>
        </p:grpSpPr>
        <p:sp>
          <p:nvSpPr>
            <p:cNvPr id="201" name="圆角矩形 5"/>
            <p:cNvSpPr/>
            <p:nvPr/>
          </p:nvSpPr>
          <p:spPr>
            <a:xfrm>
              <a:off x="1122120" y="12823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306360" y="11444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文本框 16"/>
            <p:cNvSpPr/>
            <p:nvPr/>
          </p:nvSpPr>
          <p:spPr>
            <a:xfrm>
              <a:off x="1368000" y="13014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整体感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205" name=""/>
          <p:cNvGraphicFramePr/>
          <p:nvPr/>
        </p:nvGraphicFramePr>
        <p:xfrm>
          <a:off x="4902120" y="3216240"/>
          <a:ext cx="144000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902120" y="4343400"/>
          <a:ext cx="144000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695600" y="321624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95600" y="434340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矩形 23"/>
          <p:cNvSpPr/>
          <p:nvPr/>
        </p:nvSpPr>
        <p:spPr>
          <a:xfrm>
            <a:off x="1481040" y="206208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我能根据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xiāng féng            piāo xù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huáng kǒng            hàn qī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24"/>
          <p:cNvSpPr/>
          <p:nvPr/>
        </p:nvSpPr>
        <p:spPr>
          <a:xfrm>
            <a:off x="1912680" y="32590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 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25"/>
          <p:cNvSpPr/>
          <p:nvPr/>
        </p:nvSpPr>
        <p:spPr>
          <a:xfrm>
            <a:off x="1912680" y="43862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惶 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26"/>
          <p:cNvSpPr/>
          <p:nvPr/>
        </p:nvSpPr>
        <p:spPr>
          <a:xfrm>
            <a:off x="5117760" y="3265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飘 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27"/>
          <p:cNvSpPr/>
          <p:nvPr/>
        </p:nvSpPr>
        <p:spPr>
          <a:xfrm>
            <a:off x="5127480" y="43704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汗 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8" descr="http://test.ycsyxx.cn/ycsyxx/xs2006/UploadFiles/200610/20061024231314193.jpg"/>
          <p:cNvPicPr/>
          <p:nvPr/>
        </p:nvPicPr>
        <p:blipFill>
          <a:blip r:embed="rId1"/>
          <a:stretch/>
        </p:blipFill>
        <p:spPr>
          <a:xfrm>
            <a:off x="2468520" y="2193840"/>
            <a:ext cx="4329000" cy="324972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749600"/>
            <a:ext cx="7226640" cy="13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61" name="矩形 13324"/>
          <p:cNvSpPr/>
          <p:nvPr/>
        </p:nvSpPr>
        <p:spPr>
          <a:xfrm>
            <a:off x="2455920" y="2585880"/>
            <a:ext cx="4244760" cy="2468880"/>
          </a:xfrm>
          <a:prstGeom prst="rect">
            <a:avLst/>
          </a:prstGeom>
          <a:solidFill>
            <a:srgbClr val="ffffff">
              <a:alpha val="33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组合 13338"/>
          <p:cNvGrpSpPr/>
          <p:nvPr/>
        </p:nvGrpSpPr>
        <p:grpSpPr>
          <a:xfrm>
            <a:off x="2068560" y="766800"/>
            <a:ext cx="4913280" cy="1181160"/>
            <a:chOff x="2068560" y="766800"/>
            <a:chExt cx="4913280" cy="1181160"/>
          </a:xfrm>
        </p:grpSpPr>
        <p:sp>
          <p:nvSpPr>
            <p:cNvPr id="63" name="Text Box 2"/>
            <p:cNvSpPr/>
            <p:nvPr/>
          </p:nvSpPr>
          <p:spPr>
            <a:xfrm>
              <a:off x="3420720" y="930240"/>
              <a:ext cx="3561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过零丁洋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组合 13337"/>
            <p:cNvGrpSpPr/>
            <p:nvPr/>
          </p:nvGrpSpPr>
          <p:grpSpPr>
            <a:xfrm>
              <a:off x="2068560" y="766800"/>
              <a:ext cx="1181160" cy="1181160"/>
              <a:chOff x="2068560" y="766800"/>
              <a:chExt cx="1181160" cy="1181160"/>
            </a:xfrm>
          </p:grpSpPr>
          <p:sp>
            <p:nvSpPr>
              <p:cNvPr id="65" name="AutoShape 11"/>
              <p:cNvSpPr/>
              <p:nvPr/>
            </p:nvSpPr>
            <p:spPr>
              <a:xfrm>
                <a:off x="2068560" y="766800"/>
                <a:ext cx="1181160" cy="118116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文本框 13"/>
              <p:cNvSpPr/>
              <p:nvPr/>
            </p:nvSpPr>
            <p:spPr>
              <a:xfrm>
                <a:off x="2306160" y="84924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68" name="任意多边形 30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任意多边形 31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任意多边形 32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任意多边形 33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流程图: 摘录 34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流程图: 摘录 35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流程图: 摘录 36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76" name="矩形 38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7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矩形 42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3"/>
          <p:cNvSpPr/>
          <p:nvPr/>
        </p:nvSpPr>
        <p:spPr>
          <a:xfrm>
            <a:off x="846000" y="167796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解释下列加点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辛苦遭逢起一经。　　　遭逢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戈寥落四周星。　　　干戈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2081160" y="276084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1481040" y="350028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20"/>
          <p:cNvSpPr/>
          <p:nvPr/>
        </p:nvSpPr>
        <p:spPr>
          <a:xfrm>
            <a:off x="6187680" y="263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遭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21"/>
          <p:cNvSpPr/>
          <p:nvPr/>
        </p:nvSpPr>
        <p:spPr>
          <a:xfrm>
            <a:off x="5928480" y="33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指抗元战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7"/>
          <p:cNvSpPr/>
          <p:nvPr/>
        </p:nvSpPr>
        <p:spPr>
          <a:xfrm>
            <a:off x="750960" y="1373040"/>
            <a:ext cx="756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按要求答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诗句：人生自古谁无死，留取丹心照汗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补充诗句：死去元知万事空，但悲不见九州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,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1217520" y="247176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自古以来谁能永远不死，死后我也要留下这颗精忠报国的红心，让它永照史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9"/>
          <p:cNvSpPr/>
          <p:nvPr/>
        </p:nvSpPr>
        <p:spPr>
          <a:xfrm>
            <a:off x="2953800" y="421956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王师北定中原日　家祭无忘告乃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6"/>
          <p:cNvSpPr/>
          <p:nvPr/>
        </p:nvSpPr>
        <p:spPr>
          <a:xfrm>
            <a:off x="907920" y="1585800"/>
            <a:ext cx="749952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零丁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宋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文天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辛苦遭逢起一经，干戈寥落四周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山河破碎风飘絮，身世浮沉雨打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惶恐滩头说惶恐，零丁洋里叹零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生自古谁无死，留取丹心照汗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6"/>
          <p:cNvSpPr/>
          <p:nvPr/>
        </p:nvSpPr>
        <p:spPr>
          <a:xfrm>
            <a:off x="857160" y="222408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；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字；理解“辛苦、遭逢、寥落、惶恐、零丁、汗青”等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1174680" y="2006640"/>
            <a:ext cx="50054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文天祥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文天祥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36—128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：南宋爱国诗人。字宋瑞，又字履善，号文山，吉州庐陵（今属江西）人。南宋末，全力抗敌，兵败被俘，始终不屈于元人的威逼利诱，最后从容就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指南录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指南后录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文山诗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。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过零丁洋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气歌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等名篇为后世所传诵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4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5" name="圆角矩形 12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近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8" name="Picture 10" descr=""/>
          <p:cNvPicPr/>
          <p:nvPr/>
        </p:nvPicPr>
        <p:blipFill>
          <a:blip r:embed="rId3"/>
          <a:stretch/>
        </p:blipFill>
        <p:spPr>
          <a:xfrm>
            <a:off x="6716880" y="2006640"/>
            <a:ext cx="19522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4"/>
          <p:cNvSpPr/>
          <p:nvPr/>
        </p:nvSpPr>
        <p:spPr>
          <a:xfrm>
            <a:off x="1174680" y="1974960"/>
            <a:ext cx="61405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79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正月， 元军出珠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口，进攻南宋最后据点厓山（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今广东新会南海中），文天祥被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押解同行。船过零丁洋，元军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帅张弘范逼迫文天祥招降坚守厓山的宋军统帅张世杰，文天祥写下此诗以死言志，严词拒绝。文天祥出示此诗后，张弘范见其诗中态度坚决，连称：“好人！好诗！”竟不再相逼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91" name="圆角矩形 12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写作背景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5518080" y="1974960"/>
            <a:ext cx="2800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4"/>
          <p:cNvSpPr/>
          <p:nvPr/>
        </p:nvSpPr>
        <p:spPr>
          <a:xfrm>
            <a:off x="22240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逢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97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8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02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 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辶”起笔低，平捺长伸，托住被包部分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矩形 3"/>
          <p:cNvSpPr/>
          <p:nvPr/>
        </p:nvSpPr>
        <p:spPr>
          <a:xfrm>
            <a:off x="1960560" y="1868400"/>
            <a:ext cx="146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é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Freeform 93"/>
          <p:cNvSpPr/>
          <p:nvPr/>
        </p:nvSpPr>
        <p:spPr>
          <a:xfrm>
            <a:off x="5516640" y="4629240"/>
            <a:ext cx="2274840" cy="407880"/>
          </a:xfrm>
          <a:custGeom>
            <a:avLst/>
            <a:gdLst/>
            <a:ahLst/>
            <a:rect l="l" t="t" r="r" b="b"/>
            <a:pathLst>
              <a:path w="2865" h="512">
                <a:moveTo>
                  <a:pt x="2163" y="512"/>
                </a:moveTo>
                <a:lnTo>
                  <a:pt x="2155" y="512"/>
                </a:lnTo>
                <a:lnTo>
                  <a:pt x="2146" y="510"/>
                </a:lnTo>
                <a:lnTo>
                  <a:pt x="2138" y="508"/>
                </a:lnTo>
                <a:lnTo>
                  <a:pt x="2128" y="506"/>
                </a:lnTo>
                <a:lnTo>
                  <a:pt x="2117" y="504"/>
                </a:lnTo>
                <a:lnTo>
                  <a:pt x="2107" y="502"/>
                </a:lnTo>
                <a:lnTo>
                  <a:pt x="2096" y="501"/>
                </a:lnTo>
                <a:lnTo>
                  <a:pt x="2084" y="499"/>
                </a:lnTo>
                <a:lnTo>
                  <a:pt x="2073" y="497"/>
                </a:lnTo>
                <a:lnTo>
                  <a:pt x="2061" y="493"/>
                </a:lnTo>
                <a:lnTo>
                  <a:pt x="2048" y="491"/>
                </a:lnTo>
                <a:lnTo>
                  <a:pt x="2034" y="487"/>
                </a:lnTo>
                <a:lnTo>
                  <a:pt x="2021" y="485"/>
                </a:lnTo>
                <a:lnTo>
                  <a:pt x="2006" y="481"/>
                </a:lnTo>
                <a:lnTo>
                  <a:pt x="1990" y="477"/>
                </a:lnTo>
                <a:lnTo>
                  <a:pt x="1975" y="474"/>
                </a:lnTo>
                <a:lnTo>
                  <a:pt x="1959" y="470"/>
                </a:lnTo>
                <a:lnTo>
                  <a:pt x="1944" y="466"/>
                </a:lnTo>
                <a:lnTo>
                  <a:pt x="1927" y="462"/>
                </a:lnTo>
                <a:lnTo>
                  <a:pt x="1910" y="458"/>
                </a:lnTo>
                <a:lnTo>
                  <a:pt x="1892" y="453"/>
                </a:lnTo>
                <a:lnTo>
                  <a:pt x="1873" y="449"/>
                </a:lnTo>
                <a:lnTo>
                  <a:pt x="1854" y="443"/>
                </a:lnTo>
                <a:lnTo>
                  <a:pt x="1835" y="437"/>
                </a:lnTo>
                <a:lnTo>
                  <a:pt x="1816" y="431"/>
                </a:lnTo>
                <a:lnTo>
                  <a:pt x="1794" y="426"/>
                </a:lnTo>
                <a:lnTo>
                  <a:pt x="1775" y="420"/>
                </a:lnTo>
                <a:lnTo>
                  <a:pt x="1752" y="414"/>
                </a:lnTo>
                <a:lnTo>
                  <a:pt x="1731" y="408"/>
                </a:lnTo>
                <a:lnTo>
                  <a:pt x="1710" y="401"/>
                </a:lnTo>
                <a:lnTo>
                  <a:pt x="1687" y="395"/>
                </a:lnTo>
                <a:lnTo>
                  <a:pt x="1664" y="387"/>
                </a:lnTo>
                <a:lnTo>
                  <a:pt x="1618" y="372"/>
                </a:lnTo>
                <a:lnTo>
                  <a:pt x="1572" y="357"/>
                </a:lnTo>
                <a:lnTo>
                  <a:pt x="1526" y="341"/>
                </a:lnTo>
                <a:lnTo>
                  <a:pt x="1482" y="326"/>
                </a:lnTo>
                <a:lnTo>
                  <a:pt x="1437" y="312"/>
                </a:lnTo>
                <a:lnTo>
                  <a:pt x="1393" y="297"/>
                </a:lnTo>
                <a:lnTo>
                  <a:pt x="1349" y="286"/>
                </a:lnTo>
                <a:lnTo>
                  <a:pt x="1307" y="272"/>
                </a:lnTo>
                <a:lnTo>
                  <a:pt x="1265" y="259"/>
                </a:lnTo>
                <a:lnTo>
                  <a:pt x="1222" y="247"/>
                </a:lnTo>
                <a:lnTo>
                  <a:pt x="1182" y="234"/>
                </a:lnTo>
                <a:lnTo>
                  <a:pt x="1142" y="222"/>
                </a:lnTo>
                <a:lnTo>
                  <a:pt x="1102" y="211"/>
                </a:lnTo>
                <a:lnTo>
                  <a:pt x="1063" y="199"/>
                </a:lnTo>
                <a:lnTo>
                  <a:pt x="1025" y="186"/>
                </a:lnTo>
                <a:lnTo>
                  <a:pt x="986" y="174"/>
                </a:lnTo>
                <a:lnTo>
                  <a:pt x="946" y="165"/>
                </a:lnTo>
                <a:lnTo>
                  <a:pt x="910" y="157"/>
                </a:lnTo>
                <a:lnTo>
                  <a:pt x="873" y="149"/>
                </a:lnTo>
                <a:lnTo>
                  <a:pt x="839" y="142"/>
                </a:lnTo>
                <a:lnTo>
                  <a:pt x="806" y="134"/>
                </a:lnTo>
                <a:lnTo>
                  <a:pt x="775" y="128"/>
                </a:lnTo>
                <a:lnTo>
                  <a:pt x="746" y="122"/>
                </a:lnTo>
                <a:lnTo>
                  <a:pt x="720" y="119"/>
                </a:lnTo>
                <a:lnTo>
                  <a:pt x="695" y="115"/>
                </a:lnTo>
                <a:lnTo>
                  <a:pt x="672" y="111"/>
                </a:lnTo>
                <a:lnTo>
                  <a:pt x="650" y="107"/>
                </a:lnTo>
                <a:lnTo>
                  <a:pt x="629" y="105"/>
                </a:lnTo>
                <a:lnTo>
                  <a:pt x="612" y="103"/>
                </a:lnTo>
                <a:lnTo>
                  <a:pt x="597" y="101"/>
                </a:lnTo>
                <a:lnTo>
                  <a:pt x="589" y="101"/>
                </a:lnTo>
                <a:lnTo>
                  <a:pt x="581" y="99"/>
                </a:lnTo>
                <a:lnTo>
                  <a:pt x="576" y="99"/>
                </a:lnTo>
                <a:lnTo>
                  <a:pt x="570" y="99"/>
                </a:lnTo>
                <a:lnTo>
                  <a:pt x="543" y="101"/>
                </a:lnTo>
                <a:lnTo>
                  <a:pt x="516" y="101"/>
                </a:lnTo>
                <a:lnTo>
                  <a:pt x="489" y="105"/>
                </a:lnTo>
                <a:lnTo>
                  <a:pt x="460" y="109"/>
                </a:lnTo>
                <a:lnTo>
                  <a:pt x="434" y="115"/>
                </a:lnTo>
                <a:lnTo>
                  <a:pt x="405" y="120"/>
                </a:lnTo>
                <a:lnTo>
                  <a:pt x="374" y="128"/>
                </a:lnTo>
                <a:lnTo>
                  <a:pt x="343" y="138"/>
                </a:lnTo>
                <a:lnTo>
                  <a:pt x="328" y="144"/>
                </a:lnTo>
                <a:lnTo>
                  <a:pt x="315" y="151"/>
                </a:lnTo>
                <a:lnTo>
                  <a:pt x="301" y="157"/>
                </a:lnTo>
                <a:lnTo>
                  <a:pt x="288" y="161"/>
                </a:lnTo>
                <a:lnTo>
                  <a:pt x="276" y="167"/>
                </a:lnTo>
                <a:lnTo>
                  <a:pt x="265" y="170"/>
                </a:lnTo>
                <a:lnTo>
                  <a:pt x="253" y="174"/>
                </a:lnTo>
                <a:lnTo>
                  <a:pt x="244" y="176"/>
                </a:lnTo>
                <a:lnTo>
                  <a:pt x="234" y="180"/>
                </a:lnTo>
                <a:lnTo>
                  <a:pt x="224" y="182"/>
                </a:lnTo>
                <a:lnTo>
                  <a:pt x="215" y="184"/>
                </a:lnTo>
                <a:lnTo>
                  <a:pt x="207" y="186"/>
                </a:lnTo>
                <a:lnTo>
                  <a:pt x="192" y="186"/>
                </a:lnTo>
                <a:lnTo>
                  <a:pt x="178" y="188"/>
                </a:lnTo>
                <a:lnTo>
                  <a:pt x="171" y="190"/>
                </a:lnTo>
                <a:lnTo>
                  <a:pt x="165" y="190"/>
                </a:lnTo>
                <a:lnTo>
                  <a:pt x="157" y="192"/>
                </a:lnTo>
                <a:lnTo>
                  <a:pt x="151" y="190"/>
                </a:lnTo>
                <a:lnTo>
                  <a:pt x="144" y="190"/>
                </a:lnTo>
                <a:lnTo>
                  <a:pt x="138" y="186"/>
                </a:lnTo>
                <a:lnTo>
                  <a:pt x="130" y="184"/>
                </a:lnTo>
                <a:lnTo>
                  <a:pt x="125" y="180"/>
                </a:lnTo>
                <a:lnTo>
                  <a:pt x="117" y="176"/>
                </a:lnTo>
                <a:lnTo>
                  <a:pt x="111" y="170"/>
                </a:lnTo>
                <a:lnTo>
                  <a:pt x="103" y="165"/>
                </a:lnTo>
                <a:lnTo>
                  <a:pt x="98" y="157"/>
                </a:lnTo>
                <a:lnTo>
                  <a:pt x="90" y="151"/>
                </a:lnTo>
                <a:lnTo>
                  <a:pt x="84" y="142"/>
                </a:lnTo>
                <a:lnTo>
                  <a:pt x="77" y="134"/>
                </a:lnTo>
                <a:lnTo>
                  <a:pt x="71" y="124"/>
                </a:lnTo>
                <a:lnTo>
                  <a:pt x="61" y="119"/>
                </a:lnTo>
                <a:lnTo>
                  <a:pt x="54" y="111"/>
                </a:lnTo>
                <a:lnTo>
                  <a:pt x="46" y="103"/>
                </a:lnTo>
                <a:lnTo>
                  <a:pt x="40" y="97"/>
                </a:lnTo>
                <a:lnTo>
                  <a:pt x="32" y="90"/>
                </a:lnTo>
                <a:lnTo>
                  <a:pt x="27" y="84"/>
                </a:lnTo>
                <a:lnTo>
                  <a:pt x="21" y="78"/>
                </a:lnTo>
                <a:lnTo>
                  <a:pt x="17" y="73"/>
                </a:lnTo>
                <a:lnTo>
                  <a:pt x="13" y="67"/>
                </a:lnTo>
                <a:lnTo>
                  <a:pt x="9" y="61"/>
                </a:lnTo>
                <a:lnTo>
                  <a:pt x="6" y="55"/>
                </a:lnTo>
                <a:lnTo>
                  <a:pt x="4" y="51"/>
                </a:lnTo>
                <a:lnTo>
                  <a:pt x="2" y="48"/>
                </a:lnTo>
                <a:lnTo>
                  <a:pt x="0" y="44"/>
                </a:lnTo>
                <a:lnTo>
                  <a:pt x="0" y="40"/>
                </a:lnTo>
                <a:lnTo>
                  <a:pt x="0" y="38"/>
                </a:lnTo>
                <a:lnTo>
                  <a:pt x="25" y="34"/>
                </a:lnTo>
                <a:lnTo>
                  <a:pt x="52" y="30"/>
                </a:lnTo>
                <a:lnTo>
                  <a:pt x="78" y="26"/>
                </a:lnTo>
                <a:lnTo>
                  <a:pt x="105" y="25"/>
                </a:lnTo>
                <a:lnTo>
                  <a:pt x="130" y="23"/>
                </a:lnTo>
                <a:lnTo>
                  <a:pt x="155" y="21"/>
                </a:lnTo>
                <a:lnTo>
                  <a:pt x="178" y="17"/>
                </a:lnTo>
                <a:lnTo>
                  <a:pt x="201" y="13"/>
                </a:lnTo>
                <a:lnTo>
                  <a:pt x="213" y="11"/>
                </a:lnTo>
                <a:lnTo>
                  <a:pt x="224" y="9"/>
                </a:lnTo>
                <a:lnTo>
                  <a:pt x="238" y="7"/>
                </a:lnTo>
                <a:lnTo>
                  <a:pt x="251" y="5"/>
                </a:lnTo>
                <a:lnTo>
                  <a:pt x="265" y="3"/>
                </a:lnTo>
                <a:lnTo>
                  <a:pt x="280" y="3"/>
                </a:lnTo>
                <a:lnTo>
                  <a:pt x="295" y="1"/>
                </a:lnTo>
                <a:lnTo>
                  <a:pt x="311" y="1"/>
                </a:lnTo>
                <a:lnTo>
                  <a:pt x="328" y="1"/>
                </a:lnTo>
                <a:lnTo>
                  <a:pt x="345" y="1"/>
                </a:lnTo>
                <a:lnTo>
                  <a:pt x="364" y="0"/>
                </a:lnTo>
                <a:lnTo>
                  <a:pt x="386" y="0"/>
                </a:lnTo>
                <a:lnTo>
                  <a:pt x="407" y="0"/>
                </a:lnTo>
                <a:lnTo>
                  <a:pt x="428" y="0"/>
                </a:lnTo>
                <a:lnTo>
                  <a:pt x="451" y="0"/>
                </a:lnTo>
                <a:lnTo>
                  <a:pt x="474" y="0"/>
                </a:lnTo>
                <a:lnTo>
                  <a:pt x="524" y="1"/>
                </a:lnTo>
                <a:lnTo>
                  <a:pt x="570" y="1"/>
                </a:lnTo>
                <a:lnTo>
                  <a:pt x="618" y="5"/>
                </a:lnTo>
                <a:lnTo>
                  <a:pt x="664" y="7"/>
                </a:lnTo>
                <a:lnTo>
                  <a:pt x="708" y="11"/>
                </a:lnTo>
                <a:lnTo>
                  <a:pt x="754" y="15"/>
                </a:lnTo>
                <a:lnTo>
                  <a:pt x="844" y="25"/>
                </a:lnTo>
                <a:lnTo>
                  <a:pt x="854" y="28"/>
                </a:lnTo>
                <a:lnTo>
                  <a:pt x="865" y="30"/>
                </a:lnTo>
                <a:lnTo>
                  <a:pt x="875" y="32"/>
                </a:lnTo>
                <a:lnTo>
                  <a:pt x="888" y="36"/>
                </a:lnTo>
                <a:lnTo>
                  <a:pt x="900" y="38"/>
                </a:lnTo>
                <a:lnTo>
                  <a:pt x="913" y="40"/>
                </a:lnTo>
                <a:lnTo>
                  <a:pt x="927" y="44"/>
                </a:lnTo>
                <a:lnTo>
                  <a:pt x="940" y="46"/>
                </a:lnTo>
                <a:lnTo>
                  <a:pt x="956" y="49"/>
                </a:lnTo>
                <a:lnTo>
                  <a:pt x="971" y="53"/>
                </a:lnTo>
                <a:lnTo>
                  <a:pt x="986" y="55"/>
                </a:lnTo>
                <a:lnTo>
                  <a:pt x="1004" y="59"/>
                </a:lnTo>
                <a:lnTo>
                  <a:pt x="1019" y="63"/>
                </a:lnTo>
                <a:lnTo>
                  <a:pt x="1036" y="65"/>
                </a:lnTo>
                <a:lnTo>
                  <a:pt x="1055" y="69"/>
                </a:lnTo>
                <a:lnTo>
                  <a:pt x="1073" y="73"/>
                </a:lnTo>
                <a:lnTo>
                  <a:pt x="1092" y="76"/>
                </a:lnTo>
                <a:lnTo>
                  <a:pt x="1111" y="80"/>
                </a:lnTo>
                <a:lnTo>
                  <a:pt x="1132" y="84"/>
                </a:lnTo>
                <a:lnTo>
                  <a:pt x="1151" y="90"/>
                </a:lnTo>
                <a:lnTo>
                  <a:pt x="1173" y="94"/>
                </a:lnTo>
                <a:lnTo>
                  <a:pt x="1196" y="97"/>
                </a:lnTo>
                <a:lnTo>
                  <a:pt x="1217" y="103"/>
                </a:lnTo>
                <a:lnTo>
                  <a:pt x="1240" y="107"/>
                </a:lnTo>
                <a:lnTo>
                  <a:pt x="1263" y="111"/>
                </a:lnTo>
                <a:lnTo>
                  <a:pt x="1286" y="117"/>
                </a:lnTo>
                <a:lnTo>
                  <a:pt x="1311" y="122"/>
                </a:lnTo>
                <a:lnTo>
                  <a:pt x="1334" y="126"/>
                </a:lnTo>
                <a:lnTo>
                  <a:pt x="1359" y="132"/>
                </a:lnTo>
                <a:lnTo>
                  <a:pt x="1386" y="138"/>
                </a:lnTo>
                <a:lnTo>
                  <a:pt x="1411" y="144"/>
                </a:lnTo>
                <a:lnTo>
                  <a:pt x="1437" y="149"/>
                </a:lnTo>
                <a:lnTo>
                  <a:pt x="1491" y="161"/>
                </a:lnTo>
                <a:lnTo>
                  <a:pt x="1541" y="172"/>
                </a:lnTo>
                <a:lnTo>
                  <a:pt x="1591" y="182"/>
                </a:lnTo>
                <a:lnTo>
                  <a:pt x="1641" y="190"/>
                </a:lnTo>
                <a:lnTo>
                  <a:pt x="1689" y="199"/>
                </a:lnTo>
                <a:lnTo>
                  <a:pt x="1735" y="205"/>
                </a:lnTo>
                <a:lnTo>
                  <a:pt x="1779" y="213"/>
                </a:lnTo>
                <a:lnTo>
                  <a:pt x="1823" y="218"/>
                </a:lnTo>
                <a:lnTo>
                  <a:pt x="1865" y="222"/>
                </a:lnTo>
                <a:lnTo>
                  <a:pt x="1906" y="226"/>
                </a:lnTo>
                <a:lnTo>
                  <a:pt x="1946" y="230"/>
                </a:lnTo>
                <a:lnTo>
                  <a:pt x="1984" y="234"/>
                </a:lnTo>
                <a:lnTo>
                  <a:pt x="2023" y="236"/>
                </a:lnTo>
                <a:lnTo>
                  <a:pt x="2057" y="236"/>
                </a:lnTo>
                <a:lnTo>
                  <a:pt x="2094" y="238"/>
                </a:lnTo>
                <a:lnTo>
                  <a:pt x="2128" y="238"/>
                </a:lnTo>
                <a:lnTo>
                  <a:pt x="2190" y="238"/>
                </a:lnTo>
                <a:lnTo>
                  <a:pt x="2251" y="236"/>
                </a:lnTo>
                <a:lnTo>
                  <a:pt x="2315" y="234"/>
                </a:lnTo>
                <a:lnTo>
                  <a:pt x="2376" y="230"/>
                </a:lnTo>
                <a:lnTo>
                  <a:pt x="2436" y="226"/>
                </a:lnTo>
                <a:lnTo>
                  <a:pt x="2497" y="222"/>
                </a:lnTo>
                <a:lnTo>
                  <a:pt x="2556" y="216"/>
                </a:lnTo>
                <a:lnTo>
                  <a:pt x="2614" y="213"/>
                </a:lnTo>
                <a:lnTo>
                  <a:pt x="2643" y="211"/>
                </a:lnTo>
                <a:lnTo>
                  <a:pt x="2670" y="209"/>
                </a:lnTo>
                <a:lnTo>
                  <a:pt x="2695" y="209"/>
                </a:lnTo>
                <a:lnTo>
                  <a:pt x="2718" y="207"/>
                </a:lnTo>
                <a:lnTo>
                  <a:pt x="2739" y="207"/>
                </a:lnTo>
                <a:lnTo>
                  <a:pt x="2758" y="207"/>
                </a:lnTo>
                <a:lnTo>
                  <a:pt x="2777" y="209"/>
                </a:lnTo>
                <a:lnTo>
                  <a:pt x="2793" y="209"/>
                </a:lnTo>
                <a:lnTo>
                  <a:pt x="2808" y="211"/>
                </a:lnTo>
                <a:lnTo>
                  <a:pt x="2821" y="213"/>
                </a:lnTo>
                <a:lnTo>
                  <a:pt x="2833" y="215"/>
                </a:lnTo>
                <a:lnTo>
                  <a:pt x="2842" y="216"/>
                </a:lnTo>
                <a:lnTo>
                  <a:pt x="2850" y="218"/>
                </a:lnTo>
                <a:lnTo>
                  <a:pt x="2856" y="220"/>
                </a:lnTo>
                <a:lnTo>
                  <a:pt x="2862" y="222"/>
                </a:lnTo>
                <a:lnTo>
                  <a:pt x="2865" y="226"/>
                </a:lnTo>
                <a:lnTo>
                  <a:pt x="2865" y="228"/>
                </a:lnTo>
                <a:lnTo>
                  <a:pt x="2865" y="230"/>
                </a:lnTo>
                <a:lnTo>
                  <a:pt x="2864" y="232"/>
                </a:lnTo>
                <a:lnTo>
                  <a:pt x="2862" y="234"/>
                </a:lnTo>
                <a:lnTo>
                  <a:pt x="2860" y="236"/>
                </a:lnTo>
                <a:lnTo>
                  <a:pt x="2856" y="239"/>
                </a:lnTo>
                <a:lnTo>
                  <a:pt x="2854" y="241"/>
                </a:lnTo>
                <a:lnTo>
                  <a:pt x="2848" y="245"/>
                </a:lnTo>
                <a:lnTo>
                  <a:pt x="2844" y="247"/>
                </a:lnTo>
                <a:lnTo>
                  <a:pt x="2839" y="251"/>
                </a:lnTo>
                <a:lnTo>
                  <a:pt x="2833" y="255"/>
                </a:lnTo>
                <a:lnTo>
                  <a:pt x="2827" y="259"/>
                </a:lnTo>
                <a:lnTo>
                  <a:pt x="2819" y="264"/>
                </a:lnTo>
                <a:lnTo>
                  <a:pt x="2812" y="268"/>
                </a:lnTo>
                <a:lnTo>
                  <a:pt x="2802" y="272"/>
                </a:lnTo>
                <a:lnTo>
                  <a:pt x="2794" y="278"/>
                </a:lnTo>
                <a:lnTo>
                  <a:pt x="2785" y="284"/>
                </a:lnTo>
                <a:lnTo>
                  <a:pt x="2775" y="289"/>
                </a:lnTo>
                <a:lnTo>
                  <a:pt x="2764" y="295"/>
                </a:lnTo>
                <a:lnTo>
                  <a:pt x="2752" y="301"/>
                </a:lnTo>
                <a:lnTo>
                  <a:pt x="2741" y="307"/>
                </a:lnTo>
                <a:lnTo>
                  <a:pt x="2727" y="314"/>
                </a:lnTo>
                <a:lnTo>
                  <a:pt x="2716" y="322"/>
                </a:lnTo>
                <a:lnTo>
                  <a:pt x="2702" y="328"/>
                </a:lnTo>
                <a:lnTo>
                  <a:pt x="2687" y="335"/>
                </a:lnTo>
                <a:lnTo>
                  <a:pt x="2674" y="343"/>
                </a:lnTo>
                <a:lnTo>
                  <a:pt x="2658" y="353"/>
                </a:lnTo>
                <a:lnTo>
                  <a:pt x="2641" y="360"/>
                </a:lnTo>
                <a:lnTo>
                  <a:pt x="2626" y="370"/>
                </a:lnTo>
                <a:lnTo>
                  <a:pt x="2608" y="378"/>
                </a:lnTo>
                <a:lnTo>
                  <a:pt x="2591" y="387"/>
                </a:lnTo>
                <a:lnTo>
                  <a:pt x="2556" y="405"/>
                </a:lnTo>
                <a:lnTo>
                  <a:pt x="2522" y="418"/>
                </a:lnTo>
                <a:lnTo>
                  <a:pt x="2489" y="431"/>
                </a:lnTo>
                <a:lnTo>
                  <a:pt x="2457" y="445"/>
                </a:lnTo>
                <a:lnTo>
                  <a:pt x="2428" y="456"/>
                </a:lnTo>
                <a:lnTo>
                  <a:pt x="2397" y="466"/>
                </a:lnTo>
                <a:lnTo>
                  <a:pt x="2368" y="476"/>
                </a:lnTo>
                <a:lnTo>
                  <a:pt x="2341" y="483"/>
                </a:lnTo>
                <a:lnTo>
                  <a:pt x="2315" y="491"/>
                </a:lnTo>
                <a:lnTo>
                  <a:pt x="2290" y="497"/>
                </a:lnTo>
                <a:lnTo>
                  <a:pt x="2267" y="502"/>
                </a:lnTo>
                <a:lnTo>
                  <a:pt x="2244" y="506"/>
                </a:lnTo>
                <a:lnTo>
                  <a:pt x="2222" y="508"/>
                </a:lnTo>
                <a:lnTo>
                  <a:pt x="2201" y="510"/>
                </a:lnTo>
                <a:lnTo>
                  <a:pt x="2182" y="512"/>
                </a:lnTo>
                <a:lnTo>
                  <a:pt x="2163" y="5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94"/>
          <p:cNvSpPr/>
          <p:nvPr/>
        </p:nvSpPr>
        <p:spPr>
          <a:xfrm>
            <a:off x="5578560" y="3746520"/>
            <a:ext cx="541080" cy="912960"/>
          </a:xfrm>
          <a:custGeom>
            <a:avLst/>
            <a:gdLst/>
            <a:ahLst/>
            <a:rect l="l" t="t" r="r" b="b"/>
            <a:pathLst>
              <a:path w="682" h="1152">
                <a:moveTo>
                  <a:pt x="409" y="50"/>
                </a:moveTo>
                <a:lnTo>
                  <a:pt x="415" y="44"/>
                </a:lnTo>
                <a:lnTo>
                  <a:pt x="421" y="37"/>
                </a:lnTo>
                <a:lnTo>
                  <a:pt x="427" y="33"/>
                </a:lnTo>
                <a:lnTo>
                  <a:pt x="432" y="27"/>
                </a:lnTo>
                <a:lnTo>
                  <a:pt x="438" y="21"/>
                </a:lnTo>
                <a:lnTo>
                  <a:pt x="444" y="18"/>
                </a:lnTo>
                <a:lnTo>
                  <a:pt x="450" y="14"/>
                </a:lnTo>
                <a:lnTo>
                  <a:pt x="455" y="12"/>
                </a:lnTo>
                <a:lnTo>
                  <a:pt x="467" y="6"/>
                </a:lnTo>
                <a:lnTo>
                  <a:pt x="478" y="4"/>
                </a:lnTo>
                <a:lnTo>
                  <a:pt x="492" y="2"/>
                </a:lnTo>
                <a:lnTo>
                  <a:pt x="503" y="0"/>
                </a:lnTo>
                <a:lnTo>
                  <a:pt x="517" y="6"/>
                </a:lnTo>
                <a:lnTo>
                  <a:pt x="530" y="10"/>
                </a:lnTo>
                <a:lnTo>
                  <a:pt x="544" y="16"/>
                </a:lnTo>
                <a:lnTo>
                  <a:pt x="559" y="23"/>
                </a:lnTo>
                <a:lnTo>
                  <a:pt x="574" y="31"/>
                </a:lnTo>
                <a:lnTo>
                  <a:pt x="590" y="39"/>
                </a:lnTo>
                <a:lnTo>
                  <a:pt x="597" y="44"/>
                </a:lnTo>
                <a:lnTo>
                  <a:pt x="605" y="50"/>
                </a:lnTo>
                <a:lnTo>
                  <a:pt x="613" y="56"/>
                </a:lnTo>
                <a:lnTo>
                  <a:pt x="622" y="64"/>
                </a:lnTo>
                <a:lnTo>
                  <a:pt x="636" y="77"/>
                </a:lnTo>
                <a:lnTo>
                  <a:pt x="647" y="89"/>
                </a:lnTo>
                <a:lnTo>
                  <a:pt x="657" y="100"/>
                </a:lnTo>
                <a:lnTo>
                  <a:pt x="665" y="112"/>
                </a:lnTo>
                <a:lnTo>
                  <a:pt x="672" y="121"/>
                </a:lnTo>
                <a:lnTo>
                  <a:pt x="676" y="127"/>
                </a:lnTo>
                <a:lnTo>
                  <a:pt x="678" y="133"/>
                </a:lnTo>
                <a:lnTo>
                  <a:pt x="680" y="137"/>
                </a:lnTo>
                <a:lnTo>
                  <a:pt x="680" y="142"/>
                </a:lnTo>
                <a:lnTo>
                  <a:pt x="682" y="146"/>
                </a:lnTo>
                <a:lnTo>
                  <a:pt x="682" y="152"/>
                </a:lnTo>
                <a:lnTo>
                  <a:pt x="672" y="169"/>
                </a:lnTo>
                <a:lnTo>
                  <a:pt x="668" y="179"/>
                </a:lnTo>
                <a:lnTo>
                  <a:pt x="663" y="188"/>
                </a:lnTo>
                <a:lnTo>
                  <a:pt x="657" y="198"/>
                </a:lnTo>
                <a:lnTo>
                  <a:pt x="649" y="208"/>
                </a:lnTo>
                <a:lnTo>
                  <a:pt x="643" y="217"/>
                </a:lnTo>
                <a:lnTo>
                  <a:pt x="634" y="227"/>
                </a:lnTo>
                <a:lnTo>
                  <a:pt x="628" y="231"/>
                </a:lnTo>
                <a:lnTo>
                  <a:pt x="622" y="236"/>
                </a:lnTo>
                <a:lnTo>
                  <a:pt x="615" y="242"/>
                </a:lnTo>
                <a:lnTo>
                  <a:pt x="609" y="250"/>
                </a:lnTo>
                <a:lnTo>
                  <a:pt x="603" y="258"/>
                </a:lnTo>
                <a:lnTo>
                  <a:pt x="597" y="265"/>
                </a:lnTo>
                <a:lnTo>
                  <a:pt x="592" y="275"/>
                </a:lnTo>
                <a:lnTo>
                  <a:pt x="586" y="284"/>
                </a:lnTo>
                <a:lnTo>
                  <a:pt x="582" y="294"/>
                </a:lnTo>
                <a:lnTo>
                  <a:pt x="576" y="305"/>
                </a:lnTo>
                <a:lnTo>
                  <a:pt x="571" y="317"/>
                </a:lnTo>
                <a:lnTo>
                  <a:pt x="565" y="330"/>
                </a:lnTo>
                <a:lnTo>
                  <a:pt x="559" y="344"/>
                </a:lnTo>
                <a:lnTo>
                  <a:pt x="551" y="357"/>
                </a:lnTo>
                <a:lnTo>
                  <a:pt x="546" y="373"/>
                </a:lnTo>
                <a:lnTo>
                  <a:pt x="540" y="388"/>
                </a:lnTo>
                <a:lnTo>
                  <a:pt x="532" y="405"/>
                </a:lnTo>
                <a:lnTo>
                  <a:pt x="526" y="419"/>
                </a:lnTo>
                <a:lnTo>
                  <a:pt x="523" y="432"/>
                </a:lnTo>
                <a:lnTo>
                  <a:pt x="517" y="446"/>
                </a:lnTo>
                <a:lnTo>
                  <a:pt x="513" y="457"/>
                </a:lnTo>
                <a:lnTo>
                  <a:pt x="509" y="467"/>
                </a:lnTo>
                <a:lnTo>
                  <a:pt x="505" y="476"/>
                </a:lnTo>
                <a:lnTo>
                  <a:pt x="503" y="486"/>
                </a:lnTo>
                <a:lnTo>
                  <a:pt x="500" y="494"/>
                </a:lnTo>
                <a:lnTo>
                  <a:pt x="498" y="499"/>
                </a:lnTo>
                <a:lnTo>
                  <a:pt x="496" y="507"/>
                </a:lnTo>
                <a:lnTo>
                  <a:pt x="494" y="511"/>
                </a:lnTo>
                <a:lnTo>
                  <a:pt x="494" y="517"/>
                </a:lnTo>
                <a:lnTo>
                  <a:pt x="492" y="520"/>
                </a:lnTo>
                <a:lnTo>
                  <a:pt x="492" y="524"/>
                </a:lnTo>
                <a:lnTo>
                  <a:pt x="492" y="526"/>
                </a:lnTo>
                <a:lnTo>
                  <a:pt x="492" y="530"/>
                </a:lnTo>
                <a:lnTo>
                  <a:pt x="492" y="534"/>
                </a:lnTo>
                <a:lnTo>
                  <a:pt x="494" y="538"/>
                </a:lnTo>
                <a:lnTo>
                  <a:pt x="494" y="545"/>
                </a:lnTo>
                <a:lnTo>
                  <a:pt x="496" y="553"/>
                </a:lnTo>
                <a:lnTo>
                  <a:pt x="498" y="561"/>
                </a:lnTo>
                <a:lnTo>
                  <a:pt x="500" y="570"/>
                </a:lnTo>
                <a:lnTo>
                  <a:pt x="503" y="582"/>
                </a:lnTo>
                <a:lnTo>
                  <a:pt x="505" y="595"/>
                </a:lnTo>
                <a:lnTo>
                  <a:pt x="509" y="609"/>
                </a:lnTo>
                <a:lnTo>
                  <a:pt x="513" y="622"/>
                </a:lnTo>
                <a:lnTo>
                  <a:pt x="517" y="638"/>
                </a:lnTo>
                <a:lnTo>
                  <a:pt x="523" y="655"/>
                </a:lnTo>
                <a:lnTo>
                  <a:pt x="526" y="674"/>
                </a:lnTo>
                <a:lnTo>
                  <a:pt x="532" y="693"/>
                </a:lnTo>
                <a:lnTo>
                  <a:pt x="540" y="714"/>
                </a:lnTo>
                <a:lnTo>
                  <a:pt x="546" y="735"/>
                </a:lnTo>
                <a:lnTo>
                  <a:pt x="551" y="757"/>
                </a:lnTo>
                <a:lnTo>
                  <a:pt x="557" y="780"/>
                </a:lnTo>
                <a:lnTo>
                  <a:pt x="561" y="803"/>
                </a:lnTo>
                <a:lnTo>
                  <a:pt x="567" y="828"/>
                </a:lnTo>
                <a:lnTo>
                  <a:pt x="571" y="853"/>
                </a:lnTo>
                <a:lnTo>
                  <a:pt x="572" y="877"/>
                </a:lnTo>
                <a:lnTo>
                  <a:pt x="576" y="904"/>
                </a:lnTo>
                <a:lnTo>
                  <a:pt x="578" y="931"/>
                </a:lnTo>
                <a:lnTo>
                  <a:pt x="582" y="960"/>
                </a:lnTo>
                <a:lnTo>
                  <a:pt x="582" y="989"/>
                </a:lnTo>
                <a:lnTo>
                  <a:pt x="584" y="1020"/>
                </a:lnTo>
                <a:lnTo>
                  <a:pt x="586" y="1050"/>
                </a:lnTo>
                <a:lnTo>
                  <a:pt x="586" y="1083"/>
                </a:lnTo>
                <a:lnTo>
                  <a:pt x="586" y="1117"/>
                </a:lnTo>
                <a:lnTo>
                  <a:pt x="588" y="1152"/>
                </a:lnTo>
                <a:lnTo>
                  <a:pt x="492" y="1152"/>
                </a:lnTo>
                <a:lnTo>
                  <a:pt x="492" y="1121"/>
                </a:lnTo>
                <a:lnTo>
                  <a:pt x="490" y="1092"/>
                </a:lnTo>
                <a:lnTo>
                  <a:pt x="490" y="1062"/>
                </a:lnTo>
                <a:lnTo>
                  <a:pt x="488" y="1035"/>
                </a:lnTo>
                <a:lnTo>
                  <a:pt x="486" y="1006"/>
                </a:lnTo>
                <a:lnTo>
                  <a:pt x="482" y="979"/>
                </a:lnTo>
                <a:lnTo>
                  <a:pt x="478" y="952"/>
                </a:lnTo>
                <a:lnTo>
                  <a:pt x="475" y="927"/>
                </a:lnTo>
                <a:lnTo>
                  <a:pt x="471" y="901"/>
                </a:lnTo>
                <a:lnTo>
                  <a:pt x="467" y="876"/>
                </a:lnTo>
                <a:lnTo>
                  <a:pt x="461" y="853"/>
                </a:lnTo>
                <a:lnTo>
                  <a:pt x="457" y="828"/>
                </a:lnTo>
                <a:lnTo>
                  <a:pt x="452" y="805"/>
                </a:lnTo>
                <a:lnTo>
                  <a:pt x="446" y="782"/>
                </a:lnTo>
                <a:lnTo>
                  <a:pt x="438" y="760"/>
                </a:lnTo>
                <a:lnTo>
                  <a:pt x="432" y="739"/>
                </a:lnTo>
                <a:lnTo>
                  <a:pt x="425" y="718"/>
                </a:lnTo>
                <a:lnTo>
                  <a:pt x="415" y="699"/>
                </a:lnTo>
                <a:lnTo>
                  <a:pt x="407" y="680"/>
                </a:lnTo>
                <a:lnTo>
                  <a:pt x="402" y="662"/>
                </a:lnTo>
                <a:lnTo>
                  <a:pt x="396" y="647"/>
                </a:lnTo>
                <a:lnTo>
                  <a:pt x="388" y="632"/>
                </a:lnTo>
                <a:lnTo>
                  <a:pt x="384" y="618"/>
                </a:lnTo>
                <a:lnTo>
                  <a:pt x="379" y="605"/>
                </a:lnTo>
                <a:lnTo>
                  <a:pt x="375" y="593"/>
                </a:lnTo>
                <a:lnTo>
                  <a:pt x="371" y="584"/>
                </a:lnTo>
                <a:lnTo>
                  <a:pt x="367" y="574"/>
                </a:lnTo>
                <a:lnTo>
                  <a:pt x="365" y="565"/>
                </a:lnTo>
                <a:lnTo>
                  <a:pt x="363" y="557"/>
                </a:lnTo>
                <a:lnTo>
                  <a:pt x="361" y="549"/>
                </a:lnTo>
                <a:lnTo>
                  <a:pt x="361" y="543"/>
                </a:lnTo>
                <a:lnTo>
                  <a:pt x="361" y="540"/>
                </a:lnTo>
                <a:lnTo>
                  <a:pt x="361" y="536"/>
                </a:lnTo>
                <a:lnTo>
                  <a:pt x="361" y="532"/>
                </a:lnTo>
                <a:lnTo>
                  <a:pt x="361" y="526"/>
                </a:lnTo>
                <a:lnTo>
                  <a:pt x="363" y="520"/>
                </a:lnTo>
                <a:lnTo>
                  <a:pt x="365" y="513"/>
                </a:lnTo>
                <a:lnTo>
                  <a:pt x="365" y="505"/>
                </a:lnTo>
                <a:lnTo>
                  <a:pt x="367" y="496"/>
                </a:lnTo>
                <a:lnTo>
                  <a:pt x="371" y="486"/>
                </a:lnTo>
                <a:lnTo>
                  <a:pt x="373" y="474"/>
                </a:lnTo>
                <a:lnTo>
                  <a:pt x="375" y="463"/>
                </a:lnTo>
                <a:lnTo>
                  <a:pt x="379" y="449"/>
                </a:lnTo>
                <a:lnTo>
                  <a:pt x="380" y="436"/>
                </a:lnTo>
                <a:lnTo>
                  <a:pt x="384" y="423"/>
                </a:lnTo>
                <a:lnTo>
                  <a:pt x="388" y="407"/>
                </a:lnTo>
                <a:lnTo>
                  <a:pt x="392" y="392"/>
                </a:lnTo>
                <a:lnTo>
                  <a:pt x="396" y="377"/>
                </a:lnTo>
                <a:lnTo>
                  <a:pt x="398" y="359"/>
                </a:lnTo>
                <a:lnTo>
                  <a:pt x="402" y="346"/>
                </a:lnTo>
                <a:lnTo>
                  <a:pt x="404" y="330"/>
                </a:lnTo>
                <a:lnTo>
                  <a:pt x="405" y="317"/>
                </a:lnTo>
                <a:lnTo>
                  <a:pt x="407" y="305"/>
                </a:lnTo>
                <a:lnTo>
                  <a:pt x="409" y="294"/>
                </a:lnTo>
                <a:lnTo>
                  <a:pt x="409" y="282"/>
                </a:lnTo>
                <a:lnTo>
                  <a:pt x="411" y="273"/>
                </a:lnTo>
                <a:lnTo>
                  <a:pt x="413" y="263"/>
                </a:lnTo>
                <a:lnTo>
                  <a:pt x="413" y="256"/>
                </a:lnTo>
                <a:lnTo>
                  <a:pt x="413" y="248"/>
                </a:lnTo>
                <a:lnTo>
                  <a:pt x="413" y="242"/>
                </a:lnTo>
                <a:lnTo>
                  <a:pt x="413" y="236"/>
                </a:lnTo>
                <a:lnTo>
                  <a:pt x="411" y="233"/>
                </a:lnTo>
                <a:lnTo>
                  <a:pt x="411" y="229"/>
                </a:lnTo>
                <a:lnTo>
                  <a:pt x="409" y="227"/>
                </a:lnTo>
                <a:lnTo>
                  <a:pt x="405" y="223"/>
                </a:lnTo>
                <a:lnTo>
                  <a:pt x="404" y="223"/>
                </a:lnTo>
                <a:lnTo>
                  <a:pt x="400" y="221"/>
                </a:lnTo>
                <a:lnTo>
                  <a:pt x="396" y="221"/>
                </a:lnTo>
                <a:lnTo>
                  <a:pt x="390" y="221"/>
                </a:lnTo>
                <a:lnTo>
                  <a:pt x="384" y="221"/>
                </a:lnTo>
                <a:lnTo>
                  <a:pt x="379" y="221"/>
                </a:lnTo>
                <a:lnTo>
                  <a:pt x="371" y="223"/>
                </a:lnTo>
                <a:lnTo>
                  <a:pt x="363" y="223"/>
                </a:lnTo>
                <a:lnTo>
                  <a:pt x="356" y="225"/>
                </a:lnTo>
                <a:lnTo>
                  <a:pt x="346" y="227"/>
                </a:lnTo>
                <a:lnTo>
                  <a:pt x="336" y="229"/>
                </a:lnTo>
                <a:lnTo>
                  <a:pt x="327" y="231"/>
                </a:lnTo>
                <a:lnTo>
                  <a:pt x="315" y="234"/>
                </a:lnTo>
                <a:lnTo>
                  <a:pt x="302" y="236"/>
                </a:lnTo>
                <a:lnTo>
                  <a:pt x="290" y="238"/>
                </a:lnTo>
                <a:lnTo>
                  <a:pt x="275" y="242"/>
                </a:lnTo>
                <a:lnTo>
                  <a:pt x="260" y="248"/>
                </a:lnTo>
                <a:lnTo>
                  <a:pt x="246" y="252"/>
                </a:lnTo>
                <a:lnTo>
                  <a:pt x="235" y="256"/>
                </a:lnTo>
                <a:lnTo>
                  <a:pt x="221" y="258"/>
                </a:lnTo>
                <a:lnTo>
                  <a:pt x="212" y="261"/>
                </a:lnTo>
                <a:lnTo>
                  <a:pt x="200" y="263"/>
                </a:lnTo>
                <a:lnTo>
                  <a:pt x="192" y="267"/>
                </a:lnTo>
                <a:lnTo>
                  <a:pt x="183" y="269"/>
                </a:lnTo>
                <a:lnTo>
                  <a:pt x="175" y="271"/>
                </a:lnTo>
                <a:lnTo>
                  <a:pt x="169" y="273"/>
                </a:lnTo>
                <a:lnTo>
                  <a:pt x="162" y="273"/>
                </a:lnTo>
                <a:lnTo>
                  <a:pt x="158" y="275"/>
                </a:lnTo>
                <a:lnTo>
                  <a:pt x="152" y="275"/>
                </a:lnTo>
                <a:lnTo>
                  <a:pt x="150" y="275"/>
                </a:lnTo>
                <a:lnTo>
                  <a:pt x="146" y="277"/>
                </a:lnTo>
                <a:lnTo>
                  <a:pt x="137" y="275"/>
                </a:lnTo>
                <a:lnTo>
                  <a:pt x="127" y="273"/>
                </a:lnTo>
                <a:lnTo>
                  <a:pt x="116" y="271"/>
                </a:lnTo>
                <a:lnTo>
                  <a:pt x="104" y="267"/>
                </a:lnTo>
                <a:lnTo>
                  <a:pt x="91" y="261"/>
                </a:lnTo>
                <a:lnTo>
                  <a:pt x="79" y="256"/>
                </a:lnTo>
                <a:lnTo>
                  <a:pt x="66" y="248"/>
                </a:lnTo>
                <a:lnTo>
                  <a:pt x="52" y="238"/>
                </a:lnTo>
                <a:lnTo>
                  <a:pt x="43" y="236"/>
                </a:lnTo>
                <a:lnTo>
                  <a:pt x="35" y="234"/>
                </a:lnTo>
                <a:lnTo>
                  <a:pt x="29" y="231"/>
                </a:lnTo>
                <a:lnTo>
                  <a:pt x="23" y="229"/>
                </a:lnTo>
                <a:lnTo>
                  <a:pt x="18" y="227"/>
                </a:lnTo>
                <a:lnTo>
                  <a:pt x="12" y="225"/>
                </a:lnTo>
                <a:lnTo>
                  <a:pt x="8" y="221"/>
                </a:lnTo>
                <a:lnTo>
                  <a:pt x="6" y="219"/>
                </a:lnTo>
                <a:lnTo>
                  <a:pt x="2" y="217"/>
                </a:lnTo>
                <a:lnTo>
                  <a:pt x="2" y="215"/>
                </a:lnTo>
                <a:lnTo>
                  <a:pt x="0" y="213"/>
                </a:lnTo>
                <a:lnTo>
                  <a:pt x="0" y="210"/>
                </a:lnTo>
                <a:lnTo>
                  <a:pt x="0" y="208"/>
                </a:lnTo>
                <a:lnTo>
                  <a:pt x="0" y="206"/>
                </a:lnTo>
                <a:lnTo>
                  <a:pt x="2" y="204"/>
                </a:lnTo>
                <a:lnTo>
                  <a:pt x="4" y="202"/>
                </a:lnTo>
                <a:lnTo>
                  <a:pt x="8" y="198"/>
                </a:lnTo>
                <a:lnTo>
                  <a:pt x="12" y="196"/>
                </a:lnTo>
                <a:lnTo>
                  <a:pt x="18" y="194"/>
                </a:lnTo>
                <a:lnTo>
                  <a:pt x="23" y="190"/>
                </a:lnTo>
                <a:lnTo>
                  <a:pt x="31" y="188"/>
                </a:lnTo>
                <a:lnTo>
                  <a:pt x="41" y="186"/>
                </a:lnTo>
                <a:lnTo>
                  <a:pt x="52" y="183"/>
                </a:lnTo>
                <a:lnTo>
                  <a:pt x="64" y="179"/>
                </a:lnTo>
                <a:lnTo>
                  <a:pt x="77" y="175"/>
                </a:lnTo>
                <a:lnTo>
                  <a:pt x="91" y="171"/>
                </a:lnTo>
                <a:lnTo>
                  <a:pt x="106" y="167"/>
                </a:lnTo>
                <a:lnTo>
                  <a:pt x="121" y="163"/>
                </a:lnTo>
                <a:lnTo>
                  <a:pt x="139" y="158"/>
                </a:lnTo>
                <a:lnTo>
                  <a:pt x="156" y="152"/>
                </a:lnTo>
                <a:lnTo>
                  <a:pt x="175" y="146"/>
                </a:lnTo>
                <a:lnTo>
                  <a:pt x="194" y="138"/>
                </a:lnTo>
                <a:lnTo>
                  <a:pt x="214" y="133"/>
                </a:lnTo>
                <a:lnTo>
                  <a:pt x="233" y="129"/>
                </a:lnTo>
                <a:lnTo>
                  <a:pt x="250" y="123"/>
                </a:lnTo>
                <a:lnTo>
                  <a:pt x="267" y="119"/>
                </a:lnTo>
                <a:lnTo>
                  <a:pt x="285" y="114"/>
                </a:lnTo>
                <a:lnTo>
                  <a:pt x="300" y="110"/>
                </a:lnTo>
                <a:lnTo>
                  <a:pt x="315" y="104"/>
                </a:lnTo>
                <a:lnTo>
                  <a:pt x="329" y="98"/>
                </a:lnTo>
                <a:lnTo>
                  <a:pt x="342" y="94"/>
                </a:lnTo>
                <a:lnTo>
                  <a:pt x="354" y="89"/>
                </a:lnTo>
                <a:lnTo>
                  <a:pt x="365" y="83"/>
                </a:lnTo>
                <a:lnTo>
                  <a:pt x="375" y="77"/>
                </a:lnTo>
                <a:lnTo>
                  <a:pt x="384" y="71"/>
                </a:lnTo>
                <a:lnTo>
                  <a:pt x="394" y="64"/>
                </a:lnTo>
                <a:lnTo>
                  <a:pt x="402" y="58"/>
                </a:lnTo>
                <a:lnTo>
                  <a:pt x="409" y="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95"/>
          <p:cNvSpPr/>
          <p:nvPr/>
        </p:nvSpPr>
        <p:spPr>
          <a:xfrm>
            <a:off x="5770440" y="3121200"/>
            <a:ext cx="330480" cy="285480"/>
          </a:xfrm>
          <a:custGeom>
            <a:avLst/>
            <a:gdLst/>
            <a:ahLst/>
            <a:rect l="l" t="t" r="r" b="b"/>
            <a:pathLst>
              <a:path w="417" h="359">
                <a:moveTo>
                  <a:pt x="0" y="25"/>
                </a:moveTo>
                <a:lnTo>
                  <a:pt x="0" y="23"/>
                </a:lnTo>
                <a:lnTo>
                  <a:pt x="2" y="20"/>
                </a:lnTo>
                <a:lnTo>
                  <a:pt x="4" y="18"/>
                </a:lnTo>
                <a:lnTo>
                  <a:pt x="8" y="16"/>
                </a:lnTo>
                <a:lnTo>
                  <a:pt x="14" y="14"/>
                </a:lnTo>
                <a:lnTo>
                  <a:pt x="19" y="12"/>
                </a:lnTo>
                <a:lnTo>
                  <a:pt x="27" y="10"/>
                </a:lnTo>
                <a:lnTo>
                  <a:pt x="35" y="8"/>
                </a:lnTo>
                <a:lnTo>
                  <a:pt x="43" y="6"/>
                </a:lnTo>
                <a:lnTo>
                  <a:pt x="52" y="4"/>
                </a:lnTo>
                <a:lnTo>
                  <a:pt x="64" y="2"/>
                </a:lnTo>
                <a:lnTo>
                  <a:pt x="75" y="2"/>
                </a:lnTo>
                <a:lnTo>
                  <a:pt x="89" y="0"/>
                </a:lnTo>
                <a:lnTo>
                  <a:pt x="102" y="0"/>
                </a:lnTo>
                <a:lnTo>
                  <a:pt x="115" y="0"/>
                </a:lnTo>
                <a:lnTo>
                  <a:pt x="131" y="0"/>
                </a:lnTo>
                <a:lnTo>
                  <a:pt x="146" y="0"/>
                </a:lnTo>
                <a:lnTo>
                  <a:pt x="162" y="0"/>
                </a:lnTo>
                <a:lnTo>
                  <a:pt x="175" y="2"/>
                </a:lnTo>
                <a:lnTo>
                  <a:pt x="188" y="4"/>
                </a:lnTo>
                <a:lnTo>
                  <a:pt x="202" y="6"/>
                </a:lnTo>
                <a:lnTo>
                  <a:pt x="215" y="10"/>
                </a:lnTo>
                <a:lnTo>
                  <a:pt x="240" y="18"/>
                </a:lnTo>
                <a:lnTo>
                  <a:pt x="265" y="25"/>
                </a:lnTo>
                <a:lnTo>
                  <a:pt x="288" y="37"/>
                </a:lnTo>
                <a:lnTo>
                  <a:pt x="311" y="48"/>
                </a:lnTo>
                <a:lnTo>
                  <a:pt x="332" y="62"/>
                </a:lnTo>
                <a:lnTo>
                  <a:pt x="344" y="71"/>
                </a:lnTo>
                <a:lnTo>
                  <a:pt x="353" y="81"/>
                </a:lnTo>
                <a:lnTo>
                  <a:pt x="363" y="92"/>
                </a:lnTo>
                <a:lnTo>
                  <a:pt x="371" y="102"/>
                </a:lnTo>
                <a:lnTo>
                  <a:pt x="378" y="114"/>
                </a:lnTo>
                <a:lnTo>
                  <a:pt x="386" y="123"/>
                </a:lnTo>
                <a:lnTo>
                  <a:pt x="392" y="135"/>
                </a:lnTo>
                <a:lnTo>
                  <a:pt x="398" y="146"/>
                </a:lnTo>
                <a:lnTo>
                  <a:pt x="401" y="156"/>
                </a:lnTo>
                <a:lnTo>
                  <a:pt x="405" y="167"/>
                </a:lnTo>
                <a:lnTo>
                  <a:pt x="409" y="179"/>
                </a:lnTo>
                <a:lnTo>
                  <a:pt x="411" y="190"/>
                </a:lnTo>
                <a:lnTo>
                  <a:pt x="413" y="202"/>
                </a:lnTo>
                <a:lnTo>
                  <a:pt x="415" y="213"/>
                </a:lnTo>
                <a:lnTo>
                  <a:pt x="417" y="225"/>
                </a:lnTo>
                <a:lnTo>
                  <a:pt x="417" y="238"/>
                </a:lnTo>
                <a:lnTo>
                  <a:pt x="417" y="248"/>
                </a:lnTo>
                <a:lnTo>
                  <a:pt x="417" y="259"/>
                </a:lnTo>
                <a:lnTo>
                  <a:pt x="417" y="269"/>
                </a:lnTo>
                <a:lnTo>
                  <a:pt x="417" y="279"/>
                </a:lnTo>
                <a:lnTo>
                  <a:pt x="417" y="288"/>
                </a:lnTo>
                <a:lnTo>
                  <a:pt x="415" y="298"/>
                </a:lnTo>
                <a:lnTo>
                  <a:pt x="415" y="306"/>
                </a:lnTo>
                <a:lnTo>
                  <a:pt x="415" y="313"/>
                </a:lnTo>
                <a:lnTo>
                  <a:pt x="415" y="319"/>
                </a:lnTo>
                <a:lnTo>
                  <a:pt x="413" y="325"/>
                </a:lnTo>
                <a:lnTo>
                  <a:pt x="413" y="330"/>
                </a:lnTo>
                <a:lnTo>
                  <a:pt x="411" y="336"/>
                </a:lnTo>
                <a:lnTo>
                  <a:pt x="409" y="340"/>
                </a:lnTo>
                <a:lnTo>
                  <a:pt x="409" y="344"/>
                </a:lnTo>
                <a:lnTo>
                  <a:pt x="407" y="348"/>
                </a:lnTo>
                <a:lnTo>
                  <a:pt x="405" y="350"/>
                </a:lnTo>
                <a:lnTo>
                  <a:pt x="400" y="354"/>
                </a:lnTo>
                <a:lnTo>
                  <a:pt x="394" y="357"/>
                </a:lnTo>
                <a:lnTo>
                  <a:pt x="386" y="359"/>
                </a:lnTo>
                <a:lnTo>
                  <a:pt x="377" y="359"/>
                </a:lnTo>
                <a:lnTo>
                  <a:pt x="369" y="359"/>
                </a:lnTo>
                <a:lnTo>
                  <a:pt x="357" y="357"/>
                </a:lnTo>
                <a:lnTo>
                  <a:pt x="346" y="354"/>
                </a:lnTo>
                <a:lnTo>
                  <a:pt x="332" y="350"/>
                </a:lnTo>
                <a:lnTo>
                  <a:pt x="327" y="348"/>
                </a:lnTo>
                <a:lnTo>
                  <a:pt x="319" y="344"/>
                </a:lnTo>
                <a:lnTo>
                  <a:pt x="309" y="338"/>
                </a:lnTo>
                <a:lnTo>
                  <a:pt x="302" y="334"/>
                </a:lnTo>
                <a:lnTo>
                  <a:pt x="292" y="327"/>
                </a:lnTo>
                <a:lnTo>
                  <a:pt x="282" y="319"/>
                </a:lnTo>
                <a:lnTo>
                  <a:pt x="271" y="311"/>
                </a:lnTo>
                <a:lnTo>
                  <a:pt x="259" y="302"/>
                </a:lnTo>
                <a:lnTo>
                  <a:pt x="248" y="292"/>
                </a:lnTo>
                <a:lnTo>
                  <a:pt x="234" y="281"/>
                </a:lnTo>
                <a:lnTo>
                  <a:pt x="221" y="267"/>
                </a:lnTo>
                <a:lnTo>
                  <a:pt x="208" y="254"/>
                </a:lnTo>
                <a:lnTo>
                  <a:pt x="192" y="238"/>
                </a:lnTo>
                <a:lnTo>
                  <a:pt x="177" y="223"/>
                </a:lnTo>
                <a:lnTo>
                  <a:pt x="160" y="206"/>
                </a:lnTo>
                <a:lnTo>
                  <a:pt x="142" y="188"/>
                </a:lnTo>
                <a:lnTo>
                  <a:pt x="125" y="169"/>
                </a:lnTo>
                <a:lnTo>
                  <a:pt x="110" y="152"/>
                </a:lnTo>
                <a:lnTo>
                  <a:pt x="94" y="137"/>
                </a:lnTo>
                <a:lnTo>
                  <a:pt x="81" y="121"/>
                </a:lnTo>
                <a:lnTo>
                  <a:pt x="67" y="108"/>
                </a:lnTo>
                <a:lnTo>
                  <a:pt x="56" y="94"/>
                </a:lnTo>
                <a:lnTo>
                  <a:pt x="46" y="83"/>
                </a:lnTo>
                <a:lnTo>
                  <a:pt x="37" y="73"/>
                </a:lnTo>
                <a:lnTo>
                  <a:pt x="27" y="64"/>
                </a:lnTo>
                <a:lnTo>
                  <a:pt x="19" y="56"/>
                </a:lnTo>
                <a:lnTo>
                  <a:pt x="14" y="48"/>
                </a:lnTo>
                <a:lnTo>
                  <a:pt x="10" y="41"/>
                </a:lnTo>
                <a:lnTo>
                  <a:pt x="4" y="35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96"/>
          <p:cNvSpPr/>
          <p:nvPr/>
        </p:nvSpPr>
        <p:spPr>
          <a:xfrm>
            <a:off x="6702480" y="3659040"/>
            <a:ext cx="190440" cy="1209960"/>
          </a:xfrm>
          <a:custGeom>
            <a:avLst/>
            <a:gdLst/>
            <a:ahLst/>
            <a:rect l="l" t="t" r="r" b="b"/>
            <a:pathLst>
              <a:path w="242" h="1524">
                <a:moveTo>
                  <a:pt x="219" y="148"/>
                </a:moveTo>
                <a:lnTo>
                  <a:pt x="217" y="150"/>
                </a:lnTo>
                <a:lnTo>
                  <a:pt x="215" y="153"/>
                </a:lnTo>
                <a:lnTo>
                  <a:pt x="215" y="157"/>
                </a:lnTo>
                <a:lnTo>
                  <a:pt x="215" y="163"/>
                </a:lnTo>
                <a:lnTo>
                  <a:pt x="213" y="171"/>
                </a:lnTo>
                <a:lnTo>
                  <a:pt x="213" y="176"/>
                </a:lnTo>
                <a:lnTo>
                  <a:pt x="211" y="186"/>
                </a:lnTo>
                <a:lnTo>
                  <a:pt x="211" y="194"/>
                </a:lnTo>
                <a:lnTo>
                  <a:pt x="211" y="203"/>
                </a:lnTo>
                <a:lnTo>
                  <a:pt x="209" y="215"/>
                </a:lnTo>
                <a:lnTo>
                  <a:pt x="209" y="226"/>
                </a:lnTo>
                <a:lnTo>
                  <a:pt x="209" y="240"/>
                </a:lnTo>
                <a:lnTo>
                  <a:pt x="209" y="253"/>
                </a:lnTo>
                <a:lnTo>
                  <a:pt x="209" y="267"/>
                </a:lnTo>
                <a:lnTo>
                  <a:pt x="207" y="282"/>
                </a:lnTo>
                <a:lnTo>
                  <a:pt x="207" y="299"/>
                </a:lnTo>
                <a:lnTo>
                  <a:pt x="207" y="317"/>
                </a:lnTo>
                <a:lnTo>
                  <a:pt x="207" y="334"/>
                </a:lnTo>
                <a:lnTo>
                  <a:pt x="207" y="353"/>
                </a:lnTo>
                <a:lnTo>
                  <a:pt x="207" y="372"/>
                </a:lnTo>
                <a:lnTo>
                  <a:pt x="207" y="393"/>
                </a:lnTo>
                <a:lnTo>
                  <a:pt x="207" y="416"/>
                </a:lnTo>
                <a:lnTo>
                  <a:pt x="207" y="438"/>
                </a:lnTo>
                <a:lnTo>
                  <a:pt x="207" y="462"/>
                </a:lnTo>
                <a:lnTo>
                  <a:pt x="207" y="487"/>
                </a:lnTo>
                <a:lnTo>
                  <a:pt x="207" y="512"/>
                </a:lnTo>
                <a:lnTo>
                  <a:pt x="207" y="539"/>
                </a:lnTo>
                <a:lnTo>
                  <a:pt x="207" y="566"/>
                </a:lnTo>
                <a:lnTo>
                  <a:pt x="207" y="595"/>
                </a:lnTo>
                <a:lnTo>
                  <a:pt x="207" y="624"/>
                </a:lnTo>
                <a:lnTo>
                  <a:pt x="207" y="654"/>
                </a:lnTo>
                <a:lnTo>
                  <a:pt x="207" y="685"/>
                </a:lnTo>
                <a:lnTo>
                  <a:pt x="207" y="716"/>
                </a:lnTo>
                <a:lnTo>
                  <a:pt x="207" y="747"/>
                </a:lnTo>
                <a:lnTo>
                  <a:pt x="207" y="777"/>
                </a:lnTo>
                <a:lnTo>
                  <a:pt x="205" y="806"/>
                </a:lnTo>
                <a:lnTo>
                  <a:pt x="205" y="835"/>
                </a:lnTo>
                <a:lnTo>
                  <a:pt x="205" y="864"/>
                </a:lnTo>
                <a:lnTo>
                  <a:pt x="205" y="891"/>
                </a:lnTo>
                <a:lnTo>
                  <a:pt x="205" y="917"/>
                </a:lnTo>
                <a:lnTo>
                  <a:pt x="205" y="944"/>
                </a:lnTo>
                <a:lnTo>
                  <a:pt x="205" y="969"/>
                </a:lnTo>
                <a:lnTo>
                  <a:pt x="205" y="994"/>
                </a:lnTo>
                <a:lnTo>
                  <a:pt x="205" y="1017"/>
                </a:lnTo>
                <a:lnTo>
                  <a:pt x="205" y="1040"/>
                </a:lnTo>
                <a:lnTo>
                  <a:pt x="205" y="1063"/>
                </a:lnTo>
                <a:lnTo>
                  <a:pt x="205" y="1086"/>
                </a:lnTo>
                <a:lnTo>
                  <a:pt x="205" y="1107"/>
                </a:lnTo>
                <a:lnTo>
                  <a:pt x="204" y="1129"/>
                </a:lnTo>
                <a:lnTo>
                  <a:pt x="204" y="1148"/>
                </a:lnTo>
                <a:lnTo>
                  <a:pt x="204" y="1167"/>
                </a:lnTo>
                <a:lnTo>
                  <a:pt x="204" y="1186"/>
                </a:lnTo>
                <a:lnTo>
                  <a:pt x="204" y="1205"/>
                </a:lnTo>
                <a:lnTo>
                  <a:pt x="202" y="1223"/>
                </a:lnTo>
                <a:lnTo>
                  <a:pt x="202" y="1238"/>
                </a:lnTo>
                <a:lnTo>
                  <a:pt x="202" y="1255"/>
                </a:lnTo>
                <a:lnTo>
                  <a:pt x="200" y="1271"/>
                </a:lnTo>
                <a:lnTo>
                  <a:pt x="200" y="1286"/>
                </a:lnTo>
                <a:lnTo>
                  <a:pt x="200" y="1299"/>
                </a:lnTo>
                <a:lnTo>
                  <a:pt x="198" y="1313"/>
                </a:lnTo>
                <a:lnTo>
                  <a:pt x="198" y="1326"/>
                </a:lnTo>
                <a:lnTo>
                  <a:pt x="196" y="1338"/>
                </a:lnTo>
                <a:lnTo>
                  <a:pt x="196" y="1349"/>
                </a:lnTo>
                <a:lnTo>
                  <a:pt x="194" y="1361"/>
                </a:lnTo>
                <a:lnTo>
                  <a:pt x="192" y="1380"/>
                </a:lnTo>
                <a:lnTo>
                  <a:pt x="190" y="1399"/>
                </a:lnTo>
                <a:lnTo>
                  <a:pt x="186" y="1416"/>
                </a:lnTo>
                <a:lnTo>
                  <a:pt x="184" y="1434"/>
                </a:lnTo>
                <a:lnTo>
                  <a:pt x="180" y="1447"/>
                </a:lnTo>
                <a:lnTo>
                  <a:pt x="177" y="1461"/>
                </a:lnTo>
                <a:lnTo>
                  <a:pt x="173" y="1474"/>
                </a:lnTo>
                <a:lnTo>
                  <a:pt x="169" y="1484"/>
                </a:lnTo>
                <a:lnTo>
                  <a:pt x="165" y="1493"/>
                </a:lnTo>
                <a:lnTo>
                  <a:pt x="161" y="1501"/>
                </a:lnTo>
                <a:lnTo>
                  <a:pt x="157" y="1509"/>
                </a:lnTo>
                <a:lnTo>
                  <a:pt x="152" y="1514"/>
                </a:lnTo>
                <a:lnTo>
                  <a:pt x="148" y="1518"/>
                </a:lnTo>
                <a:lnTo>
                  <a:pt x="144" y="1520"/>
                </a:lnTo>
                <a:lnTo>
                  <a:pt x="140" y="1522"/>
                </a:lnTo>
                <a:lnTo>
                  <a:pt x="134" y="1524"/>
                </a:lnTo>
                <a:lnTo>
                  <a:pt x="131" y="1522"/>
                </a:lnTo>
                <a:lnTo>
                  <a:pt x="127" y="1520"/>
                </a:lnTo>
                <a:lnTo>
                  <a:pt x="123" y="1518"/>
                </a:lnTo>
                <a:lnTo>
                  <a:pt x="119" y="1514"/>
                </a:lnTo>
                <a:lnTo>
                  <a:pt x="115" y="1509"/>
                </a:lnTo>
                <a:lnTo>
                  <a:pt x="113" y="1501"/>
                </a:lnTo>
                <a:lnTo>
                  <a:pt x="109" y="1493"/>
                </a:lnTo>
                <a:lnTo>
                  <a:pt x="106" y="1484"/>
                </a:lnTo>
                <a:lnTo>
                  <a:pt x="104" y="1474"/>
                </a:lnTo>
                <a:lnTo>
                  <a:pt x="102" y="1461"/>
                </a:lnTo>
                <a:lnTo>
                  <a:pt x="98" y="1447"/>
                </a:lnTo>
                <a:lnTo>
                  <a:pt x="96" y="1434"/>
                </a:lnTo>
                <a:lnTo>
                  <a:pt x="94" y="1416"/>
                </a:lnTo>
                <a:lnTo>
                  <a:pt x="92" y="1399"/>
                </a:lnTo>
                <a:lnTo>
                  <a:pt x="90" y="1380"/>
                </a:lnTo>
                <a:lnTo>
                  <a:pt x="88" y="1361"/>
                </a:lnTo>
                <a:lnTo>
                  <a:pt x="86" y="1351"/>
                </a:lnTo>
                <a:lnTo>
                  <a:pt x="85" y="1340"/>
                </a:lnTo>
                <a:lnTo>
                  <a:pt x="85" y="1328"/>
                </a:lnTo>
                <a:lnTo>
                  <a:pt x="83" y="1317"/>
                </a:lnTo>
                <a:lnTo>
                  <a:pt x="83" y="1303"/>
                </a:lnTo>
                <a:lnTo>
                  <a:pt x="81" y="1290"/>
                </a:lnTo>
                <a:lnTo>
                  <a:pt x="81" y="1274"/>
                </a:lnTo>
                <a:lnTo>
                  <a:pt x="79" y="1259"/>
                </a:lnTo>
                <a:lnTo>
                  <a:pt x="77" y="1244"/>
                </a:lnTo>
                <a:lnTo>
                  <a:pt x="77" y="1226"/>
                </a:lnTo>
                <a:lnTo>
                  <a:pt x="75" y="1209"/>
                </a:lnTo>
                <a:lnTo>
                  <a:pt x="75" y="1190"/>
                </a:lnTo>
                <a:lnTo>
                  <a:pt x="73" y="1171"/>
                </a:lnTo>
                <a:lnTo>
                  <a:pt x="73" y="1152"/>
                </a:lnTo>
                <a:lnTo>
                  <a:pt x="71" y="1130"/>
                </a:lnTo>
                <a:lnTo>
                  <a:pt x="71" y="1109"/>
                </a:lnTo>
                <a:lnTo>
                  <a:pt x="71" y="1086"/>
                </a:lnTo>
                <a:lnTo>
                  <a:pt x="69" y="1063"/>
                </a:lnTo>
                <a:lnTo>
                  <a:pt x="69" y="1040"/>
                </a:lnTo>
                <a:lnTo>
                  <a:pt x="67" y="1015"/>
                </a:lnTo>
                <a:lnTo>
                  <a:pt x="67" y="990"/>
                </a:lnTo>
                <a:lnTo>
                  <a:pt x="67" y="963"/>
                </a:lnTo>
                <a:lnTo>
                  <a:pt x="65" y="937"/>
                </a:lnTo>
                <a:lnTo>
                  <a:pt x="65" y="908"/>
                </a:lnTo>
                <a:lnTo>
                  <a:pt x="65" y="881"/>
                </a:lnTo>
                <a:lnTo>
                  <a:pt x="65" y="850"/>
                </a:lnTo>
                <a:lnTo>
                  <a:pt x="63" y="821"/>
                </a:lnTo>
                <a:lnTo>
                  <a:pt x="63" y="791"/>
                </a:lnTo>
                <a:lnTo>
                  <a:pt x="63" y="758"/>
                </a:lnTo>
                <a:lnTo>
                  <a:pt x="63" y="727"/>
                </a:lnTo>
                <a:lnTo>
                  <a:pt x="63" y="695"/>
                </a:lnTo>
                <a:lnTo>
                  <a:pt x="63" y="660"/>
                </a:lnTo>
                <a:lnTo>
                  <a:pt x="63" y="628"/>
                </a:lnTo>
                <a:lnTo>
                  <a:pt x="63" y="595"/>
                </a:lnTo>
                <a:lnTo>
                  <a:pt x="63" y="562"/>
                </a:lnTo>
                <a:lnTo>
                  <a:pt x="63" y="532"/>
                </a:lnTo>
                <a:lnTo>
                  <a:pt x="63" y="503"/>
                </a:lnTo>
                <a:lnTo>
                  <a:pt x="61" y="474"/>
                </a:lnTo>
                <a:lnTo>
                  <a:pt x="61" y="447"/>
                </a:lnTo>
                <a:lnTo>
                  <a:pt x="61" y="420"/>
                </a:lnTo>
                <a:lnTo>
                  <a:pt x="61" y="395"/>
                </a:lnTo>
                <a:lnTo>
                  <a:pt x="60" y="370"/>
                </a:lnTo>
                <a:lnTo>
                  <a:pt x="60" y="347"/>
                </a:lnTo>
                <a:lnTo>
                  <a:pt x="58" y="326"/>
                </a:lnTo>
                <a:lnTo>
                  <a:pt x="58" y="303"/>
                </a:lnTo>
                <a:lnTo>
                  <a:pt x="56" y="284"/>
                </a:lnTo>
                <a:lnTo>
                  <a:pt x="56" y="265"/>
                </a:lnTo>
                <a:lnTo>
                  <a:pt x="54" y="246"/>
                </a:lnTo>
                <a:lnTo>
                  <a:pt x="54" y="228"/>
                </a:lnTo>
                <a:lnTo>
                  <a:pt x="52" y="213"/>
                </a:lnTo>
                <a:lnTo>
                  <a:pt x="50" y="198"/>
                </a:lnTo>
                <a:lnTo>
                  <a:pt x="50" y="182"/>
                </a:lnTo>
                <a:lnTo>
                  <a:pt x="48" y="169"/>
                </a:lnTo>
                <a:lnTo>
                  <a:pt x="46" y="155"/>
                </a:lnTo>
                <a:lnTo>
                  <a:pt x="44" y="144"/>
                </a:lnTo>
                <a:lnTo>
                  <a:pt x="44" y="134"/>
                </a:lnTo>
                <a:lnTo>
                  <a:pt x="42" y="125"/>
                </a:lnTo>
                <a:lnTo>
                  <a:pt x="40" y="117"/>
                </a:lnTo>
                <a:lnTo>
                  <a:pt x="38" y="109"/>
                </a:lnTo>
                <a:lnTo>
                  <a:pt x="37" y="102"/>
                </a:lnTo>
                <a:lnTo>
                  <a:pt x="35" y="96"/>
                </a:lnTo>
                <a:lnTo>
                  <a:pt x="33" y="92"/>
                </a:lnTo>
                <a:lnTo>
                  <a:pt x="31" y="88"/>
                </a:lnTo>
                <a:lnTo>
                  <a:pt x="29" y="84"/>
                </a:lnTo>
                <a:lnTo>
                  <a:pt x="21" y="81"/>
                </a:lnTo>
                <a:lnTo>
                  <a:pt x="15" y="75"/>
                </a:lnTo>
                <a:lnTo>
                  <a:pt x="12" y="71"/>
                </a:lnTo>
                <a:lnTo>
                  <a:pt x="8" y="65"/>
                </a:lnTo>
                <a:lnTo>
                  <a:pt x="4" y="61"/>
                </a:lnTo>
                <a:lnTo>
                  <a:pt x="2" y="57"/>
                </a:lnTo>
                <a:lnTo>
                  <a:pt x="0" y="52"/>
                </a:lnTo>
                <a:lnTo>
                  <a:pt x="0" y="48"/>
                </a:lnTo>
                <a:lnTo>
                  <a:pt x="0" y="42"/>
                </a:lnTo>
                <a:lnTo>
                  <a:pt x="0" y="38"/>
                </a:lnTo>
                <a:lnTo>
                  <a:pt x="2" y="33"/>
                </a:lnTo>
                <a:lnTo>
                  <a:pt x="2" y="29"/>
                </a:lnTo>
                <a:lnTo>
                  <a:pt x="6" y="23"/>
                </a:lnTo>
                <a:lnTo>
                  <a:pt x="8" y="19"/>
                </a:lnTo>
                <a:lnTo>
                  <a:pt x="12" y="13"/>
                </a:lnTo>
                <a:lnTo>
                  <a:pt x="15" y="9"/>
                </a:lnTo>
                <a:lnTo>
                  <a:pt x="19" y="8"/>
                </a:lnTo>
                <a:lnTo>
                  <a:pt x="21" y="6"/>
                </a:lnTo>
                <a:lnTo>
                  <a:pt x="27" y="4"/>
                </a:lnTo>
                <a:lnTo>
                  <a:pt x="31" y="2"/>
                </a:lnTo>
                <a:lnTo>
                  <a:pt x="37" y="2"/>
                </a:lnTo>
                <a:lnTo>
                  <a:pt x="42" y="0"/>
                </a:lnTo>
                <a:lnTo>
                  <a:pt x="50" y="0"/>
                </a:lnTo>
                <a:lnTo>
                  <a:pt x="58" y="0"/>
                </a:lnTo>
                <a:lnTo>
                  <a:pt x="65" y="0"/>
                </a:lnTo>
                <a:lnTo>
                  <a:pt x="75" y="0"/>
                </a:lnTo>
                <a:lnTo>
                  <a:pt x="83" y="2"/>
                </a:lnTo>
                <a:lnTo>
                  <a:pt x="92" y="2"/>
                </a:lnTo>
                <a:lnTo>
                  <a:pt x="113" y="6"/>
                </a:lnTo>
                <a:lnTo>
                  <a:pt x="134" y="9"/>
                </a:lnTo>
                <a:lnTo>
                  <a:pt x="146" y="11"/>
                </a:lnTo>
                <a:lnTo>
                  <a:pt x="156" y="15"/>
                </a:lnTo>
                <a:lnTo>
                  <a:pt x="165" y="17"/>
                </a:lnTo>
                <a:lnTo>
                  <a:pt x="175" y="21"/>
                </a:lnTo>
                <a:lnTo>
                  <a:pt x="184" y="25"/>
                </a:lnTo>
                <a:lnTo>
                  <a:pt x="192" y="29"/>
                </a:lnTo>
                <a:lnTo>
                  <a:pt x="200" y="31"/>
                </a:lnTo>
                <a:lnTo>
                  <a:pt x="205" y="34"/>
                </a:lnTo>
                <a:lnTo>
                  <a:pt x="213" y="38"/>
                </a:lnTo>
                <a:lnTo>
                  <a:pt x="219" y="42"/>
                </a:lnTo>
                <a:lnTo>
                  <a:pt x="225" y="46"/>
                </a:lnTo>
                <a:lnTo>
                  <a:pt x="228" y="48"/>
                </a:lnTo>
                <a:lnTo>
                  <a:pt x="232" y="52"/>
                </a:lnTo>
                <a:lnTo>
                  <a:pt x="236" y="54"/>
                </a:lnTo>
                <a:lnTo>
                  <a:pt x="240" y="57"/>
                </a:lnTo>
                <a:lnTo>
                  <a:pt x="242" y="59"/>
                </a:lnTo>
                <a:lnTo>
                  <a:pt x="242" y="69"/>
                </a:lnTo>
                <a:lnTo>
                  <a:pt x="240" y="79"/>
                </a:lnTo>
                <a:lnTo>
                  <a:pt x="238" y="88"/>
                </a:lnTo>
                <a:lnTo>
                  <a:pt x="234" y="100"/>
                </a:lnTo>
                <a:lnTo>
                  <a:pt x="230" y="109"/>
                </a:lnTo>
                <a:lnTo>
                  <a:pt x="227" y="121"/>
                </a:lnTo>
                <a:lnTo>
                  <a:pt x="223" y="134"/>
                </a:lnTo>
                <a:lnTo>
                  <a:pt x="219" y="14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97"/>
          <p:cNvSpPr/>
          <p:nvPr/>
        </p:nvSpPr>
        <p:spPr>
          <a:xfrm>
            <a:off x="6299280" y="4243320"/>
            <a:ext cx="1057320" cy="217440"/>
          </a:xfrm>
          <a:custGeom>
            <a:avLst/>
            <a:gdLst/>
            <a:ahLst/>
            <a:rect l="l" t="t" r="r" b="b"/>
            <a:pathLst>
              <a:path w="1332" h="275">
                <a:moveTo>
                  <a:pt x="48" y="250"/>
                </a:moveTo>
                <a:lnTo>
                  <a:pt x="41" y="246"/>
                </a:lnTo>
                <a:lnTo>
                  <a:pt x="35" y="240"/>
                </a:lnTo>
                <a:lnTo>
                  <a:pt x="29" y="236"/>
                </a:lnTo>
                <a:lnTo>
                  <a:pt x="25" y="232"/>
                </a:lnTo>
                <a:lnTo>
                  <a:pt x="21" y="227"/>
                </a:lnTo>
                <a:lnTo>
                  <a:pt x="18" y="223"/>
                </a:lnTo>
                <a:lnTo>
                  <a:pt x="10" y="213"/>
                </a:lnTo>
                <a:lnTo>
                  <a:pt x="6" y="205"/>
                </a:lnTo>
                <a:lnTo>
                  <a:pt x="2" y="200"/>
                </a:lnTo>
                <a:lnTo>
                  <a:pt x="0" y="192"/>
                </a:lnTo>
                <a:lnTo>
                  <a:pt x="0" y="188"/>
                </a:lnTo>
                <a:lnTo>
                  <a:pt x="0" y="184"/>
                </a:lnTo>
                <a:lnTo>
                  <a:pt x="2" y="180"/>
                </a:lnTo>
                <a:lnTo>
                  <a:pt x="6" y="179"/>
                </a:lnTo>
                <a:lnTo>
                  <a:pt x="10" y="177"/>
                </a:lnTo>
                <a:lnTo>
                  <a:pt x="18" y="177"/>
                </a:lnTo>
                <a:lnTo>
                  <a:pt x="21" y="175"/>
                </a:lnTo>
                <a:lnTo>
                  <a:pt x="25" y="175"/>
                </a:lnTo>
                <a:lnTo>
                  <a:pt x="29" y="175"/>
                </a:lnTo>
                <a:lnTo>
                  <a:pt x="35" y="175"/>
                </a:lnTo>
                <a:lnTo>
                  <a:pt x="41" y="175"/>
                </a:lnTo>
                <a:lnTo>
                  <a:pt x="48" y="175"/>
                </a:lnTo>
                <a:lnTo>
                  <a:pt x="50" y="175"/>
                </a:lnTo>
                <a:lnTo>
                  <a:pt x="56" y="175"/>
                </a:lnTo>
                <a:lnTo>
                  <a:pt x="62" y="175"/>
                </a:lnTo>
                <a:lnTo>
                  <a:pt x="68" y="175"/>
                </a:lnTo>
                <a:lnTo>
                  <a:pt x="75" y="173"/>
                </a:lnTo>
                <a:lnTo>
                  <a:pt x="83" y="173"/>
                </a:lnTo>
                <a:lnTo>
                  <a:pt x="91" y="171"/>
                </a:lnTo>
                <a:lnTo>
                  <a:pt x="100" y="171"/>
                </a:lnTo>
                <a:lnTo>
                  <a:pt x="112" y="169"/>
                </a:lnTo>
                <a:lnTo>
                  <a:pt x="123" y="167"/>
                </a:lnTo>
                <a:lnTo>
                  <a:pt x="135" y="167"/>
                </a:lnTo>
                <a:lnTo>
                  <a:pt x="148" y="165"/>
                </a:lnTo>
                <a:lnTo>
                  <a:pt x="162" y="163"/>
                </a:lnTo>
                <a:lnTo>
                  <a:pt x="177" y="159"/>
                </a:lnTo>
                <a:lnTo>
                  <a:pt x="192" y="157"/>
                </a:lnTo>
                <a:lnTo>
                  <a:pt x="208" y="156"/>
                </a:lnTo>
                <a:lnTo>
                  <a:pt x="225" y="152"/>
                </a:lnTo>
                <a:lnTo>
                  <a:pt x="244" y="150"/>
                </a:lnTo>
                <a:lnTo>
                  <a:pt x="261" y="146"/>
                </a:lnTo>
                <a:lnTo>
                  <a:pt x="282" y="144"/>
                </a:lnTo>
                <a:lnTo>
                  <a:pt x="302" y="140"/>
                </a:lnTo>
                <a:lnTo>
                  <a:pt x="323" y="136"/>
                </a:lnTo>
                <a:lnTo>
                  <a:pt x="346" y="132"/>
                </a:lnTo>
                <a:lnTo>
                  <a:pt x="369" y="129"/>
                </a:lnTo>
                <a:lnTo>
                  <a:pt x="392" y="123"/>
                </a:lnTo>
                <a:lnTo>
                  <a:pt x="417" y="119"/>
                </a:lnTo>
                <a:lnTo>
                  <a:pt x="442" y="115"/>
                </a:lnTo>
                <a:lnTo>
                  <a:pt x="469" y="109"/>
                </a:lnTo>
                <a:lnTo>
                  <a:pt x="496" y="104"/>
                </a:lnTo>
                <a:lnTo>
                  <a:pt x="524" y="100"/>
                </a:lnTo>
                <a:lnTo>
                  <a:pt x="553" y="94"/>
                </a:lnTo>
                <a:lnTo>
                  <a:pt x="582" y="88"/>
                </a:lnTo>
                <a:lnTo>
                  <a:pt x="613" y="81"/>
                </a:lnTo>
                <a:lnTo>
                  <a:pt x="641" y="77"/>
                </a:lnTo>
                <a:lnTo>
                  <a:pt x="668" y="71"/>
                </a:lnTo>
                <a:lnTo>
                  <a:pt x="697" y="65"/>
                </a:lnTo>
                <a:lnTo>
                  <a:pt x="722" y="61"/>
                </a:lnTo>
                <a:lnTo>
                  <a:pt x="749" y="56"/>
                </a:lnTo>
                <a:lnTo>
                  <a:pt x="772" y="52"/>
                </a:lnTo>
                <a:lnTo>
                  <a:pt x="797" y="46"/>
                </a:lnTo>
                <a:lnTo>
                  <a:pt x="820" y="42"/>
                </a:lnTo>
                <a:lnTo>
                  <a:pt x="843" y="38"/>
                </a:lnTo>
                <a:lnTo>
                  <a:pt x="864" y="35"/>
                </a:lnTo>
                <a:lnTo>
                  <a:pt x="885" y="33"/>
                </a:lnTo>
                <a:lnTo>
                  <a:pt x="904" y="29"/>
                </a:lnTo>
                <a:lnTo>
                  <a:pt x="924" y="25"/>
                </a:lnTo>
                <a:lnTo>
                  <a:pt x="943" y="23"/>
                </a:lnTo>
                <a:lnTo>
                  <a:pt x="960" y="19"/>
                </a:lnTo>
                <a:lnTo>
                  <a:pt x="977" y="17"/>
                </a:lnTo>
                <a:lnTo>
                  <a:pt x="993" y="15"/>
                </a:lnTo>
                <a:lnTo>
                  <a:pt x="1008" y="13"/>
                </a:lnTo>
                <a:lnTo>
                  <a:pt x="1023" y="12"/>
                </a:lnTo>
                <a:lnTo>
                  <a:pt x="1037" y="10"/>
                </a:lnTo>
                <a:lnTo>
                  <a:pt x="1050" y="8"/>
                </a:lnTo>
                <a:lnTo>
                  <a:pt x="1062" y="6"/>
                </a:lnTo>
                <a:lnTo>
                  <a:pt x="1073" y="4"/>
                </a:lnTo>
                <a:lnTo>
                  <a:pt x="1085" y="4"/>
                </a:lnTo>
                <a:lnTo>
                  <a:pt x="1094" y="2"/>
                </a:lnTo>
                <a:lnTo>
                  <a:pt x="1104" y="2"/>
                </a:lnTo>
                <a:lnTo>
                  <a:pt x="1114" y="2"/>
                </a:lnTo>
                <a:lnTo>
                  <a:pt x="1121" y="0"/>
                </a:lnTo>
                <a:lnTo>
                  <a:pt x="1129" y="0"/>
                </a:lnTo>
                <a:lnTo>
                  <a:pt x="1135" y="0"/>
                </a:lnTo>
                <a:lnTo>
                  <a:pt x="1142" y="0"/>
                </a:lnTo>
                <a:lnTo>
                  <a:pt x="1160" y="0"/>
                </a:lnTo>
                <a:lnTo>
                  <a:pt x="1177" y="2"/>
                </a:lnTo>
                <a:lnTo>
                  <a:pt x="1194" y="4"/>
                </a:lnTo>
                <a:lnTo>
                  <a:pt x="1211" y="8"/>
                </a:lnTo>
                <a:lnTo>
                  <a:pt x="1227" y="12"/>
                </a:lnTo>
                <a:lnTo>
                  <a:pt x="1244" y="15"/>
                </a:lnTo>
                <a:lnTo>
                  <a:pt x="1258" y="21"/>
                </a:lnTo>
                <a:lnTo>
                  <a:pt x="1273" y="25"/>
                </a:lnTo>
                <a:lnTo>
                  <a:pt x="1284" y="35"/>
                </a:lnTo>
                <a:lnTo>
                  <a:pt x="1296" y="44"/>
                </a:lnTo>
                <a:lnTo>
                  <a:pt x="1306" y="52"/>
                </a:lnTo>
                <a:lnTo>
                  <a:pt x="1315" y="61"/>
                </a:lnTo>
                <a:lnTo>
                  <a:pt x="1323" y="69"/>
                </a:lnTo>
                <a:lnTo>
                  <a:pt x="1325" y="73"/>
                </a:lnTo>
                <a:lnTo>
                  <a:pt x="1327" y="77"/>
                </a:lnTo>
                <a:lnTo>
                  <a:pt x="1329" y="79"/>
                </a:lnTo>
                <a:lnTo>
                  <a:pt x="1330" y="83"/>
                </a:lnTo>
                <a:lnTo>
                  <a:pt x="1330" y="84"/>
                </a:lnTo>
                <a:lnTo>
                  <a:pt x="1332" y="88"/>
                </a:lnTo>
                <a:lnTo>
                  <a:pt x="1330" y="90"/>
                </a:lnTo>
                <a:lnTo>
                  <a:pt x="1330" y="92"/>
                </a:lnTo>
                <a:lnTo>
                  <a:pt x="1329" y="94"/>
                </a:lnTo>
                <a:lnTo>
                  <a:pt x="1325" y="98"/>
                </a:lnTo>
                <a:lnTo>
                  <a:pt x="1321" y="100"/>
                </a:lnTo>
                <a:lnTo>
                  <a:pt x="1317" y="102"/>
                </a:lnTo>
                <a:lnTo>
                  <a:pt x="1311" y="104"/>
                </a:lnTo>
                <a:lnTo>
                  <a:pt x="1306" y="106"/>
                </a:lnTo>
                <a:lnTo>
                  <a:pt x="1298" y="109"/>
                </a:lnTo>
                <a:lnTo>
                  <a:pt x="1290" y="111"/>
                </a:lnTo>
                <a:lnTo>
                  <a:pt x="1281" y="113"/>
                </a:lnTo>
                <a:lnTo>
                  <a:pt x="1271" y="115"/>
                </a:lnTo>
                <a:lnTo>
                  <a:pt x="1261" y="119"/>
                </a:lnTo>
                <a:lnTo>
                  <a:pt x="1250" y="121"/>
                </a:lnTo>
                <a:lnTo>
                  <a:pt x="1238" y="123"/>
                </a:lnTo>
                <a:lnTo>
                  <a:pt x="1225" y="125"/>
                </a:lnTo>
                <a:lnTo>
                  <a:pt x="1210" y="127"/>
                </a:lnTo>
                <a:lnTo>
                  <a:pt x="1194" y="131"/>
                </a:lnTo>
                <a:lnTo>
                  <a:pt x="1181" y="132"/>
                </a:lnTo>
                <a:lnTo>
                  <a:pt x="1167" y="134"/>
                </a:lnTo>
                <a:lnTo>
                  <a:pt x="1154" y="136"/>
                </a:lnTo>
                <a:lnTo>
                  <a:pt x="1140" y="138"/>
                </a:lnTo>
                <a:lnTo>
                  <a:pt x="1116" y="142"/>
                </a:lnTo>
                <a:lnTo>
                  <a:pt x="1094" y="146"/>
                </a:lnTo>
                <a:lnTo>
                  <a:pt x="1073" y="148"/>
                </a:lnTo>
                <a:lnTo>
                  <a:pt x="1052" y="150"/>
                </a:lnTo>
                <a:lnTo>
                  <a:pt x="1035" y="150"/>
                </a:lnTo>
                <a:lnTo>
                  <a:pt x="1029" y="150"/>
                </a:lnTo>
                <a:lnTo>
                  <a:pt x="1021" y="150"/>
                </a:lnTo>
                <a:lnTo>
                  <a:pt x="1016" y="152"/>
                </a:lnTo>
                <a:lnTo>
                  <a:pt x="1008" y="152"/>
                </a:lnTo>
                <a:lnTo>
                  <a:pt x="1000" y="152"/>
                </a:lnTo>
                <a:lnTo>
                  <a:pt x="991" y="154"/>
                </a:lnTo>
                <a:lnTo>
                  <a:pt x="981" y="154"/>
                </a:lnTo>
                <a:lnTo>
                  <a:pt x="972" y="156"/>
                </a:lnTo>
                <a:lnTo>
                  <a:pt x="962" y="156"/>
                </a:lnTo>
                <a:lnTo>
                  <a:pt x="950" y="157"/>
                </a:lnTo>
                <a:lnTo>
                  <a:pt x="939" y="157"/>
                </a:lnTo>
                <a:lnTo>
                  <a:pt x="927" y="159"/>
                </a:lnTo>
                <a:lnTo>
                  <a:pt x="914" y="161"/>
                </a:lnTo>
                <a:lnTo>
                  <a:pt x="901" y="163"/>
                </a:lnTo>
                <a:lnTo>
                  <a:pt x="887" y="165"/>
                </a:lnTo>
                <a:lnTo>
                  <a:pt x="872" y="167"/>
                </a:lnTo>
                <a:lnTo>
                  <a:pt x="856" y="169"/>
                </a:lnTo>
                <a:lnTo>
                  <a:pt x="841" y="171"/>
                </a:lnTo>
                <a:lnTo>
                  <a:pt x="826" y="173"/>
                </a:lnTo>
                <a:lnTo>
                  <a:pt x="808" y="177"/>
                </a:lnTo>
                <a:lnTo>
                  <a:pt x="791" y="179"/>
                </a:lnTo>
                <a:lnTo>
                  <a:pt x="772" y="180"/>
                </a:lnTo>
                <a:lnTo>
                  <a:pt x="755" y="184"/>
                </a:lnTo>
                <a:lnTo>
                  <a:pt x="735" y="186"/>
                </a:lnTo>
                <a:lnTo>
                  <a:pt x="714" y="190"/>
                </a:lnTo>
                <a:lnTo>
                  <a:pt x="695" y="192"/>
                </a:lnTo>
                <a:lnTo>
                  <a:pt x="674" y="196"/>
                </a:lnTo>
                <a:lnTo>
                  <a:pt x="651" y="200"/>
                </a:lnTo>
                <a:lnTo>
                  <a:pt x="630" y="202"/>
                </a:lnTo>
                <a:lnTo>
                  <a:pt x="607" y="205"/>
                </a:lnTo>
                <a:lnTo>
                  <a:pt x="582" y="209"/>
                </a:lnTo>
                <a:lnTo>
                  <a:pt x="559" y="213"/>
                </a:lnTo>
                <a:lnTo>
                  <a:pt x="534" y="217"/>
                </a:lnTo>
                <a:lnTo>
                  <a:pt x="509" y="219"/>
                </a:lnTo>
                <a:lnTo>
                  <a:pt x="486" y="223"/>
                </a:lnTo>
                <a:lnTo>
                  <a:pt x="463" y="227"/>
                </a:lnTo>
                <a:lnTo>
                  <a:pt x="440" y="230"/>
                </a:lnTo>
                <a:lnTo>
                  <a:pt x="419" y="232"/>
                </a:lnTo>
                <a:lnTo>
                  <a:pt x="398" y="236"/>
                </a:lnTo>
                <a:lnTo>
                  <a:pt x="378" y="238"/>
                </a:lnTo>
                <a:lnTo>
                  <a:pt x="359" y="242"/>
                </a:lnTo>
                <a:lnTo>
                  <a:pt x="340" y="244"/>
                </a:lnTo>
                <a:lnTo>
                  <a:pt x="323" y="248"/>
                </a:lnTo>
                <a:lnTo>
                  <a:pt x="306" y="250"/>
                </a:lnTo>
                <a:lnTo>
                  <a:pt x="290" y="251"/>
                </a:lnTo>
                <a:lnTo>
                  <a:pt x="275" y="253"/>
                </a:lnTo>
                <a:lnTo>
                  <a:pt x="259" y="255"/>
                </a:lnTo>
                <a:lnTo>
                  <a:pt x="246" y="259"/>
                </a:lnTo>
                <a:lnTo>
                  <a:pt x="233" y="261"/>
                </a:lnTo>
                <a:lnTo>
                  <a:pt x="221" y="263"/>
                </a:lnTo>
                <a:lnTo>
                  <a:pt x="210" y="263"/>
                </a:lnTo>
                <a:lnTo>
                  <a:pt x="200" y="265"/>
                </a:lnTo>
                <a:lnTo>
                  <a:pt x="188" y="267"/>
                </a:lnTo>
                <a:lnTo>
                  <a:pt x="181" y="269"/>
                </a:lnTo>
                <a:lnTo>
                  <a:pt x="171" y="269"/>
                </a:lnTo>
                <a:lnTo>
                  <a:pt x="163" y="271"/>
                </a:lnTo>
                <a:lnTo>
                  <a:pt x="158" y="273"/>
                </a:lnTo>
                <a:lnTo>
                  <a:pt x="150" y="273"/>
                </a:lnTo>
                <a:lnTo>
                  <a:pt x="146" y="273"/>
                </a:lnTo>
                <a:lnTo>
                  <a:pt x="140" y="275"/>
                </a:lnTo>
                <a:lnTo>
                  <a:pt x="137" y="275"/>
                </a:lnTo>
                <a:lnTo>
                  <a:pt x="135" y="275"/>
                </a:lnTo>
                <a:lnTo>
                  <a:pt x="133" y="275"/>
                </a:lnTo>
                <a:lnTo>
                  <a:pt x="131" y="275"/>
                </a:lnTo>
                <a:lnTo>
                  <a:pt x="127" y="275"/>
                </a:lnTo>
                <a:lnTo>
                  <a:pt x="125" y="275"/>
                </a:lnTo>
                <a:lnTo>
                  <a:pt x="121" y="275"/>
                </a:lnTo>
                <a:lnTo>
                  <a:pt x="117" y="273"/>
                </a:lnTo>
                <a:lnTo>
                  <a:pt x="108" y="271"/>
                </a:lnTo>
                <a:lnTo>
                  <a:pt x="98" y="267"/>
                </a:lnTo>
                <a:lnTo>
                  <a:pt x="87" y="263"/>
                </a:lnTo>
                <a:lnTo>
                  <a:pt x="73" y="259"/>
                </a:lnTo>
                <a:lnTo>
                  <a:pt x="60" y="255"/>
                </a:lnTo>
                <a:lnTo>
                  <a:pt x="48" y="2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98"/>
          <p:cNvSpPr/>
          <p:nvPr/>
        </p:nvSpPr>
        <p:spPr>
          <a:xfrm>
            <a:off x="6526080" y="4044960"/>
            <a:ext cx="574920" cy="135000"/>
          </a:xfrm>
          <a:custGeom>
            <a:avLst/>
            <a:gdLst/>
            <a:ahLst/>
            <a:rect l="l" t="t" r="r" b="b"/>
            <a:pathLst>
              <a:path w="724" h="170">
                <a:moveTo>
                  <a:pt x="618" y="99"/>
                </a:moveTo>
                <a:lnTo>
                  <a:pt x="605" y="101"/>
                </a:lnTo>
                <a:lnTo>
                  <a:pt x="592" y="103"/>
                </a:lnTo>
                <a:lnTo>
                  <a:pt x="582" y="105"/>
                </a:lnTo>
                <a:lnTo>
                  <a:pt x="570" y="107"/>
                </a:lnTo>
                <a:lnTo>
                  <a:pt x="561" y="107"/>
                </a:lnTo>
                <a:lnTo>
                  <a:pt x="551" y="109"/>
                </a:lnTo>
                <a:lnTo>
                  <a:pt x="544" y="109"/>
                </a:lnTo>
                <a:lnTo>
                  <a:pt x="536" y="111"/>
                </a:lnTo>
                <a:lnTo>
                  <a:pt x="528" y="111"/>
                </a:lnTo>
                <a:lnTo>
                  <a:pt x="522" y="111"/>
                </a:lnTo>
                <a:lnTo>
                  <a:pt x="517" y="111"/>
                </a:lnTo>
                <a:lnTo>
                  <a:pt x="513" y="111"/>
                </a:lnTo>
                <a:lnTo>
                  <a:pt x="507" y="111"/>
                </a:lnTo>
                <a:lnTo>
                  <a:pt x="503" y="111"/>
                </a:lnTo>
                <a:lnTo>
                  <a:pt x="501" y="111"/>
                </a:lnTo>
                <a:lnTo>
                  <a:pt x="499" y="111"/>
                </a:lnTo>
                <a:lnTo>
                  <a:pt x="496" y="111"/>
                </a:lnTo>
                <a:lnTo>
                  <a:pt x="492" y="113"/>
                </a:lnTo>
                <a:lnTo>
                  <a:pt x="486" y="113"/>
                </a:lnTo>
                <a:lnTo>
                  <a:pt x="478" y="113"/>
                </a:lnTo>
                <a:lnTo>
                  <a:pt x="471" y="115"/>
                </a:lnTo>
                <a:lnTo>
                  <a:pt x="461" y="117"/>
                </a:lnTo>
                <a:lnTo>
                  <a:pt x="451" y="119"/>
                </a:lnTo>
                <a:lnTo>
                  <a:pt x="440" y="120"/>
                </a:lnTo>
                <a:lnTo>
                  <a:pt x="426" y="122"/>
                </a:lnTo>
                <a:lnTo>
                  <a:pt x="413" y="126"/>
                </a:lnTo>
                <a:lnTo>
                  <a:pt x="398" y="128"/>
                </a:lnTo>
                <a:lnTo>
                  <a:pt x="382" y="132"/>
                </a:lnTo>
                <a:lnTo>
                  <a:pt x="365" y="136"/>
                </a:lnTo>
                <a:lnTo>
                  <a:pt x="348" y="140"/>
                </a:lnTo>
                <a:lnTo>
                  <a:pt x="329" y="145"/>
                </a:lnTo>
                <a:lnTo>
                  <a:pt x="309" y="149"/>
                </a:lnTo>
                <a:lnTo>
                  <a:pt x="286" y="153"/>
                </a:lnTo>
                <a:lnTo>
                  <a:pt x="265" y="157"/>
                </a:lnTo>
                <a:lnTo>
                  <a:pt x="246" y="161"/>
                </a:lnTo>
                <a:lnTo>
                  <a:pt x="227" y="165"/>
                </a:lnTo>
                <a:lnTo>
                  <a:pt x="208" y="166"/>
                </a:lnTo>
                <a:lnTo>
                  <a:pt x="190" y="168"/>
                </a:lnTo>
                <a:lnTo>
                  <a:pt x="173" y="168"/>
                </a:lnTo>
                <a:lnTo>
                  <a:pt x="158" y="170"/>
                </a:lnTo>
                <a:lnTo>
                  <a:pt x="144" y="170"/>
                </a:lnTo>
                <a:lnTo>
                  <a:pt x="131" y="170"/>
                </a:lnTo>
                <a:lnTo>
                  <a:pt x="117" y="170"/>
                </a:lnTo>
                <a:lnTo>
                  <a:pt x="106" y="168"/>
                </a:lnTo>
                <a:lnTo>
                  <a:pt x="96" y="166"/>
                </a:lnTo>
                <a:lnTo>
                  <a:pt x="87" y="166"/>
                </a:lnTo>
                <a:lnTo>
                  <a:pt x="77" y="165"/>
                </a:lnTo>
                <a:lnTo>
                  <a:pt x="71" y="163"/>
                </a:lnTo>
                <a:lnTo>
                  <a:pt x="62" y="159"/>
                </a:lnTo>
                <a:lnTo>
                  <a:pt x="54" y="157"/>
                </a:lnTo>
                <a:lnTo>
                  <a:pt x="46" y="153"/>
                </a:lnTo>
                <a:lnTo>
                  <a:pt x="39" y="149"/>
                </a:lnTo>
                <a:lnTo>
                  <a:pt x="33" y="147"/>
                </a:lnTo>
                <a:lnTo>
                  <a:pt x="27" y="143"/>
                </a:lnTo>
                <a:lnTo>
                  <a:pt x="21" y="140"/>
                </a:lnTo>
                <a:lnTo>
                  <a:pt x="18" y="136"/>
                </a:lnTo>
                <a:lnTo>
                  <a:pt x="14" y="132"/>
                </a:lnTo>
                <a:lnTo>
                  <a:pt x="10" y="130"/>
                </a:lnTo>
                <a:lnTo>
                  <a:pt x="6" y="126"/>
                </a:lnTo>
                <a:lnTo>
                  <a:pt x="4" y="122"/>
                </a:lnTo>
                <a:lnTo>
                  <a:pt x="2" y="120"/>
                </a:lnTo>
                <a:lnTo>
                  <a:pt x="0" y="117"/>
                </a:lnTo>
                <a:lnTo>
                  <a:pt x="0" y="115"/>
                </a:lnTo>
                <a:lnTo>
                  <a:pt x="0" y="111"/>
                </a:lnTo>
                <a:lnTo>
                  <a:pt x="0" y="109"/>
                </a:lnTo>
                <a:lnTo>
                  <a:pt x="2" y="107"/>
                </a:lnTo>
                <a:lnTo>
                  <a:pt x="4" y="107"/>
                </a:lnTo>
                <a:lnTo>
                  <a:pt x="6" y="105"/>
                </a:lnTo>
                <a:lnTo>
                  <a:pt x="8" y="105"/>
                </a:lnTo>
                <a:lnTo>
                  <a:pt x="12" y="103"/>
                </a:lnTo>
                <a:lnTo>
                  <a:pt x="16" y="101"/>
                </a:lnTo>
                <a:lnTo>
                  <a:pt x="20" y="101"/>
                </a:lnTo>
                <a:lnTo>
                  <a:pt x="23" y="99"/>
                </a:lnTo>
                <a:lnTo>
                  <a:pt x="29" y="97"/>
                </a:lnTo>
                <a:lnTo>
                  <a:pt x="35" y="95"/>
                </a:lnTo>
                <a:lnTo>
                  <a:pt x="41" y="95"/>
                </a:lnTo>
                <a:lnTo>
                  <a:pt x="48" y="94"/>
                </a:lnTo>
                <a:lnTo>
                  <a:pt x="56" y="92"/>
                </a:lnTo>
                <a:lnTo>
                  <a:pt x="64" y="90"/>
                </a:lnTo>
                <a:lnTo>
                  <a:pt x="71" y="88"/>
                </a:lnTo>
                <a:lnTo>
                  <a:pt x="81" y="86"/>
                </a:lnTo>
                <a:lnTo>
                  <a:pt x="91" y="84"/>
                </a:lnTo>
                <a:lnTo>
                  <a:pt x="100" y="82"/>
                </a:lnTo>
                <a:lnTo>
                  <a:pt x="110" y="80"/>
                </a:lnTo>
                <a:lnTo>
                  <a:pt x="121" y="78"/>
                </a:lnTo>
                <a:lnTo>
                  <a:pt x="133" y="76"/>
                </a:lnTo>
                <a:lnTo>
                  <a:pt x="144" y="72"/>
                </a:lnTo>
                <a:lnTo>
                  <a:pt x="158" y="71"/>
                </a:lnTo>
                <a:lnTo>
                  <a:pt x="171" y="69"/>
                </a:lnTo>
                <a:lnTo>
                  <a:pt x="185" y="65"/>
                </a:lnTo>
                <a:lnTo>
                  <a:pt x="198" y="63"/>
                </a:lnTo>
                <a:lnTo>
                  <a:pt x="213" y="59"/>
                </a:lnTo>
                <a:lnTo>
                  <a:pt x="229" y="55"/>
                </a:lnTo>
                <a:lnTo>
                  <a:pt x="244" y="53"/>
                </a:lnTo>
                <a:lnTo>
                  <a:pt x="261" y="49"/>
                </a:lnTo>
                <a:lnTo>
                  <a:pt x="292" y="42"/>
                </a:lnTo>
                <a:lnTo>
                  <a:pt x="321" y="36"/>
                </a:lnTo>
                <a:lnTo>
                  <a:pt x="348" y="30"/>
                </a:lnTo>
                <a:lnTo>
                  <a:pt x="375" y="24"/>
                </a:lnTo>
                <a:lnTo>
                  <a:pt x="400" y="21"/>
                </a:lnTo>
                <a:lnTo>
                  <a:pt x="423" y="17"/>
                </a:lnTo>
                <a:lnTo>
                  <a:pt x="444" y="13"/>
                </a:lnTo>
                <a:lnTo>
                  <a:pt x="465" y="9"/>
                </a:lnTo>
                <a:lnTo>
                  <a:pt x="484" y="7"/>
                </a:lnTo>
                <a:lnTo>
                  <a:pt x="501" y="5"/>
                </a:lnTo>
                <a:lnTo>
                  <a:pt x="517" y="3"/>
                </a:lnTo>
                <a:lnTo>
                  <a:pt x="530" y="1"/>
                </a:lnTo>
                <a:lnTo>
                  <a:pt x="542" y="0"/>
                </a:lnTo>
                <a:lnTo>
                  <a:pt x="553" y="0"/>
                </a:lnTo>
                <a:lnTo>
                  <a:pt x="563" y="0"/>
                </a:lnTo>
                <a:lnTo>
                  <a:pt x="570" y="0"/>
                </a:lnTo>
                <a:lnTo>
                  <a:pt x="597" y="0"/>
                </a:lnTo>
                <a:lnTo>
                  <a:pt x="611" y="0"/>
                </a:lnTo>
                <a:lnTo>
                  <a:pt x="624" y="0"/>
                </a:lnTo>
                <a:lnTo>
                  <a:pt x="638" y="1"/>
                </a:lnTo>
                <a:lnTo>
                  <a:pt x="651" y="3"/>
                </a:lnTo>
                <a:lnTo>
                  <a:pt x="664" y="7"/>
                </a:lnTo>
                <a:lnTo>
                  <a:pt x="678" y="11"/>
                </a:lnTo>
                <a:lnTo>
                  <a:pt x="684" y="15"/>
                </a:lnTo>
                <a:lnTo>
                  <a:pt x="689" y="17"/>
                </a:lnTo>
                <a:lnTo>
                  <a:pt x="695" y="21"/>
                </a:lnTo>
                <a:lnTo>
                  <a:pt x="699" y="23"/>
                </a:lnTo>
                <a:lnTo>
                  <a:pt x="703" y="26"/>
                </a:lnTo>
                <a:lnTo>
                  <a:pt x="707" y="30"/>
                </a:lnTo>
                <a:lnTo>
                  <a:pt x="714" y="36"/>
                </a:lnTo>
                <a:lnTo>
                  <a:pt x="718" y="44"/>
                </a:lnTo>
                <a:lnTo>
                  <a:pt x="722" y="49"/>
                </a:lnTo>
                <a:lnTo>
                  <a:pt x="724" y="57"/>
                </a:lnTo>
                <a:lnTo>
                  <a:pt x="724" y="61"/>
                </a:lnTo>
                <a:lnTo>
                  <a:pt x="724" y="63"/>
                </a:lnTo>
                <a:lnTo>
                  <a:pt x="722" y="67"/>
                </a:lnTo>
                <a:lnTo>
                  <a:pt x="720" y="69"/>
                </a:lnTo>
                <a:lnTo>
                  <a:pt x="718" y="71"/>
                </a:lnTo>
                <a:lnTo>
                  <a:pt x="714" y="72"/>
                </a:lnTo>
                <a:lnTo>
                  <a:pt x="709" y="76"/>
                </a:lnTo>
                <a:lnTo>
                  <a:pt x="705" y="78"/>
                </a:lnTo>
                <a:lnTo>
                  <a:pt x="697" y="80"/>
                </a:lnTo>
                <a:lnTo>
                  <a:pt x="691" y="82"/>
                </a:lnTo>
                <a:lnTo>
                  <a:pt x="684" y="84"/>
                </a:lnTo>
                <a:lnTo>
                  <a:pt x="674" y="88"/>
                </a:lnTo>
                <a:lnTo>
                  <a:pt x="664" y="90"/>
                </a:lnTo>
                <a:lnTo>
                  <a:pt x="653" y="92"/>
                </a:lnTo>
                <a:lnTo>
                  <a:pt x="643" y="94"/>
                </a:lnTo>
                <a:lnTo>
                  <a:pt x="630" y="97"/>
                </a:lnTo>
                <a:lnTo>
                  <a:pt x="618" y="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99"/>
          <p:cNvSpPr/>
          <p:nvPr/>
        </p:nvSpPr>
        <p:spPr>
          <a:xfrm>
            <a:off x="6450120" y="3795840"/>
            <a:ext cx="679320" cy="155520"/>
          </a:xfrm>
          <a:custGeom>
            <a:avLst/>
            <a:gdLst/>
            <a:ahLst/>
            <a:rect l="l" t="t" r="r" b="b"/>
            <a:pathLst>
              <a:path w="856" h="195">
                <a:moveTo>
                  <a:pt x="808" y="113"/>
                </a:moveTo>
                <a:lnTo>
                  <a:pt x="801" y="113"/>
                </a:lnTo>
                <a:lnTo>
                  <a:pt x="791" y="113"/>
                </a:lnTo>
                <a:lnTo>
                  <a:pt x="782" y="113"/>
                </a:lnTo>
                <a:lnTo>
                  <a:pt x="768" y="115"/>
                </a:lnTo>
                <a:lnTo>
                  <a:pt x="755" y="117"/>
                </a:lnTo>
                <a:lnTo>
                  <a:pt x="737" y="117"/>
                </a:lnTo>
                <a:lnTo>
                  <a:pt x="720" y="121"/>
                </a:lnTo>
                <a:lnTo>
                  <a:pt x="701" y="122"/>
                </a:lnTo>
                <a:lnTo>
                  <a:pt x="678" y="126"/>
                </a:lnTo>
                <a:lnTo>
                  <a:pt x="655" y="130"/>
                </a:lnTo>
                <a:lnTo>
                  <a:pt x="630" y="134"/>
                </a:lnTo>
                <a:lnTo>
                  <a:pt x="603" y="138"/>
                </a:lnTo>
                <a:lnTo>
                  <a:pt x="574" y="144"/>
                </a:lnTo>
                <a:lnTo>
                  <a:pt x="559" y="146"/>
                </a:lnTo>
                <a:lnTo>
                  <a:pt x="544" y="149"/>
                </a:lnTo>
                <a:lnTo>
                  <a:pt x="526" y="151"/>
                </a:lnTo>
                <a:lnTo>
                  <a:pt x="511" y="155"/>
                </a:lnTo>
                <a:lnTo>
                  <a:pt x="494" y="159"/>
                </a:lnTo>
                <a:lnTo>
                  <a:pt x="476" y="163"/>
                </a:lnTo>
                <a:lnTo>
                  <a:pt x="440" y="169"/>
                </a:lnTo>
                <a:lnTo>
                  <a:pt x="407" y="174"/>
                </a:lnTo>
                <a:lnTo>
                  <a:pt x="375" y="180"/>
                </a:lnTo>
                <a:lnTo>
                  <a:pt x="344" y="184"/>
                </a:lnTo>
                <a:lnTo>
                  <a:pt x="315" y="188"/>
                </a:lnTo>
                <a:lnTo>
                  <a:pt x="286" y="190"/>
                </a:lnTo>
                <a:lnTo>
                  <a:pt x="261" y="192"/>
                </a:lnTo>
                <a:lnTo>
                  <a:pt x="236" y="194"/>
                </a:lnTo>
                <a:lnTo>
                  <a:pt x="213" y="194"/>
                </a:lnTo>
                <a:lnTo>
                  <a:pt x="192" y="195"/>
                </a:lnTo>
                <a:lnTo>
                  <a:pt x="171" y="195"/>
                </a:lnTo>
                <a:lnTo>
                  <a:pt x="154" y="194"/>
                </a:lnTo>
                <a:lnTo>
                  <a:pt x="137" y="194"/>
                </a:lnTo>
                <a:lnTo>
                  <a:pt x="121" y="192"/>
                </a:lnTo>
                <a:lnTo>
                  <a:pt x="108" y="190"/>
                </a:lnTo>
                <a:lnTo>
                  <a:pt x="96" y="188"/>
                </a:lnTo>
                <a:lnTo>
                  <a:pt x="85" y="184"/>
                </a:lnTo>
                <a:lnTo>
                  <a:pt x="73" y="182"/>
                </a:lnTo>
                <a:lnTo>
                  <a:pt x="64" y="180"/>
                </a:lnTo>
                <a:lnTo>
                  <a:pt x="56" y="178"/>
                </a:lnTo>
                <a:lnTo>
                  <a:pt x="46" y="174"/>
                </a:lnTo>
                <a:lnTo>
                  <a:pt x="39" y="172"/>
                </a:lnTo>
                <a:lnTo>
                  <a:pt x="31" y="170"/>
                </a:lnTo>
                <a:lnTo>
                  <a:pt x="25" y="169"/>
                </a:lnTo>
                <a:lnTo>
                  <a:pt x="20" y="167"/>
                </a:lnTo>
                <a:lnTo>
                  <a:pt x="14" y="163"/>
                </a:lnTo>
                <a:lnTo>
                  <a:pt x="10" y="161"/>
                </a:lnTo>
                <a:lnTo>
                  <a:pt x="6" y="159"/>
                </a:lnTo>
                <a:lnTo>
                  <a:pt x="4" y="157"/>
                </a:lnTo>
                <a:lnTo>
                  <a:pt x="2" y="153"/>
                </a:lnTo>
                <a:lnTo>
                  <a:pt x="0" y="151"/>
                </a:lnTo>
                <a:lnTo>
                  <a:pt x="0" y="149"/>
                </a:lnTo>
                <a:lnTo>
                  <a:pt x="0" y="147"/>
                </a:lnTo>
                <a:lnTo>
                  <a:pt x="2" y="146"/>
                </a:lnTo>
                <a:lnTo>
                  <a:pt x="4" y="144"/>
                </a:lnTo>
                <a:lnTo>
                  <a:pt x="8" y="142"/>
                </a:lnTo>
                <a:lnTo>
                  <a:pt x="12" y="140"/>
                </a:lnTo>
                <a:lnTo>
                  <a:pt x="16" y="138"/>
                </a:lnTo>
                <a:lnTo>
                  <a:pt x="20" y="136"/>
                </a:lnTo>
                <a:lnTo>
                  <a:pt x="25" y="134"/>
                </a:lnTo>
                <a:lnTo>
                  <a:pt x="31" y="132"/>
                </a:lnTo>
                <a:lnTo>
                  <a:pt x="39" y="128"/>
                </a:lnTo>
                <a:lnTo>
                  <a:pt x="46" y="126"/>
                </a:lnTo>
                <a:lnTo>
                  <a:pt x="54" y="124"/>
                </a:lnTo>
                <a:lnTo>
                  <a:pt x="62" y="121"/>
                </a:lnTo>
                <a:lnTo>
                  <a:pt x="71" y="119"/>
                </a:lnTo>
                <a:lnTo>
                  <a:pt x="81" y="115"/>
                </a:lnTo>
                <a:lnTo>
                  <a:pt x="92" y="113"/>
                </a:lnTo>
                <a:lnTo>
                  <a:pt x="104" y="109"/>
                </a:lnTo>
                <a:lnTo>
                  <a:pt x="116" y="105"/>
                </a:lnTo>
                <a:lnTo>
                  <a:pt x="129" y="103"/>
                </a:lnTo>
                <a:lnTo>
                  <a:pt x="142" y="99"/>
                </a:lnTo>
                <a:lnTo>
                  <a:pt x="156" y="96"/>
                </a:lnTo>
                <a:lnTo>
                  <a:pt x="171" y="94"/>
                </a:lnTo>
                <a:lnTo>
                  <a:pt x="187" y="90"/>
                </a:lnTo>
                <a:lnTo>
                  <a:pt x="202" y="86"/>
                </a:lnTo>
                <a:lnTo>
                  <a:pt x="219" y="82"/>
                </a:lnTo>
                <a:lnTo>
                  <a:pt x="236" y="80"/>
                </a:lnTo>
                <a:lnTo>
                  <a:pt x="254" y="76"/>
                </a:lnTo>
                <a:lnTo>
                  <a:pt x="273" y="73"/>
                </a:lnTo>
                <a:lnTo>
                  <a:pt x="292" y="69"/>
                </a:lnTo>
                <a:lnTo>
                  <a:pt x="311" y="65"/>
                </a:lnTo>
                <a:lnTo>
                  <a:pt x="332" y="61"/>
                </a:lnTo>
                <a:lnTo>
                  <a:pt x="354" y="57"/>
                </a:lnTo>
                <a:lnTo>
                  <a:pt x="375" y="55"/>
                </a:lnTo>
                <a:lnTo>
                  <a:pt x="394" y="51"/>
                </a:lnTo>
                <a:lnTo>
                  <a:pt x="413" y="48"/>
                </a:lnTo>
                <a:lnTo>
                  <a:pt x="430" y="46"/>
                </a:lnTo>
                <a:lnTo>
                  <a:pt x="450" y="42"/>
                </a:lnTo>
                <a:lnTo>
                  <a:pt x="467" y="38"/>
                </a:lnTo>
                <a:lnTo>
                  <a:pt x="482" y="36"/>
                </a:lnTo>
                <a:lnTo>
                  <a:pt x="499" y="32"/>
                </a:lnTo>
                <a:lnTo>
                  <a:pt x="515" y="30"/>
                </a:lnTo>
                <a:lnTo>
                  <a:pt x="528" y="28"/>
                </a:lnTo>
                <a:lnTo>
                  <a:pt x="544" y="25"/>
                </a:lnTo>
                <a:lnTo>
                  <a:pt x="557" y="23"/>
                </a:lnTo>
                <a:lnTo>
                  <a:pt x="570" y="21"/>
                </a:lnTo>
                <a:lnTo>
                  <a:pt x="582" y="19"/>
                </a:lnTo>
                <a:lnTo>
                  <a:pt x="595" y="17"/>
                </a:lnTo>
                <a:lnTo>
                  <a:pt x="607" y="15"/>
                </a:lnTo>
                <a:lnTo>
                  <a:pt x="616" y="13"/>
                </a:lnTo>
                <a:lnTo>
                  <a:pt x="628" y="11"/>
                </a:lnTo>
                <a:lnTo>
                  <a:pt x="638" y="9"/>
                </a:lnTo>
                <a:lnTo>
                  <a:pt x="647" y="7"/>
                </a:lnTo>
                <a:lnTo>
                  <a:pt x="655" y="5"/>
                </a:lnTo>
                <a:lnTo>
                  <a:pt x="663" y="5"/>
                </a:lnTo>
                <a:lnTo>
                  <a:pt x="670" y="3"/>
                </a:lnTo>
                <a:lnTo>
                  <a:pt x="678" y="3"/>
                </a:lnTo>
                <a:lnTo>
                  <a:pt x="684" y="2"/>
                </a:lnTo>
                <a:lnTo>
                  <a:pt x="691" y="2"/>
                </a:lnTo>
                <a:lnTo>
                  <a:pt x="697" y="0"/>
                </a:lnTo>
                <a:lnTo>
                  <a:pt x="701" y="0"/>
                </a:lnTo>
                <a:lnTo>
                  <a:pt x="707" y="0"/>
                </a:lnTo>
                <a:lnTo>
                  <a:pt x="711" y="0"/>
                </a:lnTo>
                <a:lnTo>
                  <a:pt x="714" y="0"/>
                </a:lnTo>
                <a:lnTo>
                  <a:pt x="726" y="0"/>
                </a:lnTo>
                <a:lnTo>
                  <a:pt x="737" y="2"/>
                </a:lnTo>
                <a:lnTo>
                  <a:pt x="749" y="3"/>
                </a:lnTo>
                <a:lnTo>
                  <a:pt x="760" y="7"/>
                </a:lnTo>
                <a:lnTo>
                  <a:pt x="772" y="11"/>
                </a:lnTo>
                <a:lnTo>
                  <a:pt x="783" y="15"/>
                </a:lnTo>
                <a:lnTo>
                  <a:pt x="795" y="19"/>
                </a:lnTo>
                <a:lnTo>
                  <a:pt x="808" y="25"/>
                </a:lnTo>
                <a:lnTo>
                  <a:pt x="814" y="27"/>
                </a:lnTo>
                <a:lnTo>
                  <a:pt x="820" y="30"/>
                </a:lnTo>
                <a:lnTo>
                  <a:pt x="826" y="32"/>
                </a:lnTo>
                <a:lnTo>
                  <a:pt x="831" y="36"/>
                </a:lnTo>
                <a:lnTo>
                  <a:pt x="835" y="38"/>
                </a:lnTo>
                <a:lnTo>
                  <a:pt x="839" y="42"/>
                </a:lnTo>
                <a:lnTo>
                  <a:pt x="845" y="50"/>
                </a:lnTo>
                <a:lnTo>
                  <a:pt x="851" y="57"/>
                </a:lnTo>
                <a:lnTo>
                  <a:pt x="855" y="63"/>
                </a:lnTo>
                <a:lnTo>
                  <a:pt x="855" y="69"/>
                </a:lnTo>
                <a:lnTo>
                  <a:pt x="856" y="74"/>
                </a:lnTo>
                <a:lnTo>
                  <a:pt x="855" y="78"/>
                </a:lnTo>
                <a:lnTo>
                  <a:pt x="855" y="84"/>
                </a:lnTo>
                <a:lnTo>
                  <a:pt x="851" y="88"/>
                </a:lnTo>
                <a:lnTo>
                  <a:pt x="845" y="94"/>
                </a:lnTo>
                <a:lnTo>
                  <a:pt x="839" y="98"/>
                </a:lnTo>
                <a:lnTo>
                  <a:pt x="835" y="99"/>
                </a:lnTo>
                <a:lnTo>
                  <a:pt x="831" y="103"/>
                </a:lnTo>
                <a:lnTo>
                  <a:pt x="826" y="105"/>
                </a:lnTo>
                <a:lnTo>
                  <a:pt x="820" y="107"/>
                </a:lnTo>
                <a:lnTo>
                  <a:pt x="814" y="109"/>
                </a:lnTo>
                <a:lnTo>
                  <a:pt x="808" y="1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100"/>
          <p:cNvSpPr/>
          <p:nvPr/>
        </p:nvSpPr>
        <p:spPr>
          <a:xfrm>
            <a:off x="6148440" y="2997360"/>
            <a:ext cx="1084320" cy="871200"/>
          </a:xfrm>
          <a:custGeom>
            <a:avLst/>
            <a:gdLst/>
            <a:ahLst/>
            <a:rect l="l" t="t" r="r" b="b"/>
            <a:pathLst>
              <a:path w="1367" h="1098">
                <a:moveTo>
                  <a:pt x="1021" y="56"/>
                </a:moveTo>
                <a:lnTo>
                  <a:pt x="1035" y="46"/>
                </a:lnTo>
                <a:lnTo>
                  <a:pt x="1048" y="38"/>
                </a:lnTo>
                <a:lnTo>
                  <a:pt x="1062" y="31"/>
                </a:lnTo>
                <a:lnTo>
                  <a:pt x="1073" y="25"/>
                </a:lnTo>
                <a:lnTo>
                  <a:pt x="1087" y="19"/>
                </a:lnTo>
                <a:lnTo>
                  <a:pt x="1096" y="13"/>
                </a:lnTo>
                <a:lnTo>
                  <a:pt x="1108" y="9"/>
                </a:lnTo>
                <a:lnTo>
                  <a:pt x="1117" y="6"/>
                </a:lnTo>
                <a:lnTo>
                  <a:pt x="1119" y="2"/>
                </a:lnTo>
                <a:lnTo>
                  <a:pt x="1123" y="2"/>
                </a:lnTo>
                <a:lnTo>
                  <a:pt x="1127" y="0"/>
                </a:lnTo>
                <a:lnTo>
                  <a:pt x="1133" y="0"/>
                </a:lnTo>
                <a:lnTo>
                  <a:pt x="1139" y="0"/>
                </a:lnTo>
                <a:lnTo>
                  <a:pt x="1146" y="0"/>
                </a:lnTo>
                <a:lnTo>
                  <a:pt x="1154" y="2"/>
                </a:lnTo>
                <a:lnTo>
                  <a:pt x="1162" y="4"/>
                </a:lnTo>
                <a:lnTo>
                  <a:pt x="1171" y="6"/>
                </a:lnTo>
                <a:lnTo>
                  <a:pt x="1181" y="8"/>
                </a:lnTo>
                <a:lnTo>
                  <a:pt x="1192" y="9"/>
                </a:lnTo>
                <a:lnTo>
                  <a:pt x="1204" y="13"/>
                </a:lnTo>
                <a:lnTo>
                  <a:pt x="1217" y="17"/>
                </a:lnTo>
                <a:lnTo>
                  <a:pt x="1231" y="21"/>
                </a:lnTo>
                <a:lnTo>
                  <a:pt x="1244" y="25"/>
                </a:lnTo>
                <a:lnTo>
                  <a:pt x="1259" y="31"/>
                </a:lnTo>
                <a:lnTo>
                  <a:pt x="1273" y="36"/>
                </a:lnTo>
                <a:lnTo>
                  <a:pt x="1284" y="44"/>
                </a:lnTo>
                <a:lnTo>
                  <a:pt x="1296" y="50"/>
                </a:lnTo>
                <a:lnTo>
                  <a:pt x="1307" y="56"/>
                </a:lnTo>
                <a:lnTo>
                  <a:pt x="1317" y="61"/>
                </a:lnTo>
                <a:lnTo>
                  <a:pt x="1325" y="67"/>
                </a:lnTo>
                <a:lnTo>
                  <a:pt x="1332" y="73"/>
                </a:lnTo>
                <a:lnTo>
                  <a:pt x="1340" y="79"/>
                </a:lnTo>
                <a:lnTo>
                  <a:pt x="1346" y="84"/>
                </a:lnTo>
                <a:lnTo>
                  <a:pt x="1352" y="88"/>
                </a:lnTo>
                <a:lnTo>
                  <a:pt x="1357" y="94"/>
                </a:lnTo>
                <a:lnTo>
                  <a:pt x="1361" y="98"/>
                </a:lnTo>
                <a:lnTo>
                  <a:pt x="1363" y="104"/>
                </a:lnTo>
                <a:lnTo>
                  <a:pt x="1365" y="107"/>
                </a:lnTo>
                <a:lnTo>
                  <a:pt x="1367" y="113"/>
                </a:lnTo>
                <a:lnTo>
                  <a:pt x="1367" y="117"/>
                </a:lnTo>
                <a:lnTo>
                  <a:pt x="1367" y="123"/>
                </a:lnTo>
                <a:lnTo>
                  <a:pt x="1365" y="127"/>
                </a:lnTo>
                <a:lnTo>
                  <a:pt x="1365" y="130"/>
                </a:lnTo>
                <a:lnTo>
                  <a:pt x="1363" y="134"/>
                </a:lnTo>
                <a:lnTo>
                  <a:pt x="1361" y="138"/>
                </a:lnTo>
                <a:lnTo>
                  <a:pt x="1357" y="140"/>
                </a:lnTo>
                <a:lnTo>
                  <a:pt x="1350" y="148"/>
                </a:lnTo>
                <a:lnTo>
                  <a:pt x="1342" y="153"/>
                </a:lnTo>
                <a:lnTo>
                  <a:pt x="1332" y="157"/>
                </a:lnTo>
                <a:lnTo>
                  <a:pt x="1321" y="163"/>
                </a:lnTo>
                <a:lnTo>
                  <a:pt x="1307" y="167"/>
                </a:lnTo>
                <a:lnTo>
                  <a:pt x="1300" y="171"/>
                </a:lnTo>
                <a:lnTo>
                  <a:pt x="1292" y="175"/>
                </a:lnTo>
                <a:lnTo>
                  <a:pt x="1284" y="180"/>
                </a:lnTo>
                <a:lnTo>
                  <a:pt x="1277" y="186"/>
                </a:lnTo>
                <a:lnTo>
                  <a:pt x="1267" y="194"/>
                </a:lnTo>
                <a:lnTo>
                  <a:pt x="1258" y="201"/>
                </a:lnTo>
                <a:lnTo>
                  <a:pt x="1246" y="213"/>
                </a:lnTo>
                <a:lnTo>
                  <a:pt x="1236" y="223"/>
                </a:lnTo>
                <a:lnTo>
                  <a:pt x="1225" y="236"/>
                </a:lnTo>
                <a:lnTo>
                  <a:pt x="1211" y="249"/>
                </a:lnTo>
                <a:lnTo>
                  <a:pt x="1200" y="265"/>
                </a:lnTo>
                <a:lnTo>
                  <a:pt x="1187" y="280"/>
                </a:lnTo>
                <a:lnTo>
                  <a:pt x="1173" y="297"/>
                </a:lnTo>
                <a:lnTo>
                  <a:pt x="1160" y="315"/>
                </a:lnTo>
                <a:lnTo>
                  <a:pt x="1144" y="334"/>
                </a:lnTo>
                <a:lnTo>
                  <a:pt x="1129" y="355"/>
                </a:lnTo>
                <a:lnTo>
                  <a:pt x="1114" y="376"/>
                </a:lnTo>
                <a:lnTo>
                  <a:pt x="1098" y="397"/>
                </a:lnTo>
                <a:lnTo>
                  <a:pt x="1083" y="416"/>
                </a:lnTo>
                <a:lnTo>
                  <a:pt x="1068" y="436"/>
                </a:lnTo>
                <a:lnTo>
                  <a:pt x="1035" y="472"/>
                </a:lnTo>
                <a:lnTo>
                  <a:pt x="1004" y="509"/>
                </a:lnTo>
                <a:lnTo>
                  <a:pt x="973" y="543"/>
                </a:lnTo>
                <a:lnTo>
                  <a:pt x="941" y="576"/>
                </a:lnTo>
                <a:lnTo>
                  <a:pt x="879" y="643"/>
                </a:lnTo>
                <a:lnTo>
                  <a:pt x="843" y="676"/>
                </a:lnTo>
                <a:lnTo>
                  <a:pt x="806" y="706"/>
                </a:lnTo>
                <a:lnTo>
                  <a:pt x="766" y="737"/>
                </a:lnTo>
                <a:lnTo>
                  <a:pt x="726" y="766"/>
                </a:lnTo>
                <a:lnTo>
                  <a:pt x="684" y="795"/>
                </a:lnTo>
                <a:lnTo>
                  <a:pt x="639" y="823"/>
                </a:lnTo>
                <a:lnTo>
                  <a:pt x="593" y="852"/>
                </a:lnTo>
                <a:lnTo>
                  <a:pt x="570" y="866"/>
                </a:lnTo>
                <a:lnTo>
                  <a:pt x="547" y="881"/>
                </a:lnTo>
                <a:lnTo>
                  <a:pt x="497" y="908"/>
                </a:lnTo>
                <a:lnTo>
                  <a:pt x="449" y="935"/>
                </a:lnTo>
                <a:lnTo>
                  <a:pt x="401" y="960"/>
                </a:lnTo>
                <a:lnTo>
                  <a:pt x="353" y="983"/>
                </a:lnTo>
                <a:lnTo>
                  <a:pt x="307" y="1004"/>
                </a:lnTo>
                <a:lnTo>
                  <a:pt x="284" y="1013"/>
                </a:lnTo>
                <a:lnTo>
                  <a:pt x="263" y="1023"/>
                </a:lnTo>
                <a:lnTo>
                  <a:pt x="240" y="1031"/>
                </a:lnTo>
                <a:lnTo>
                  <a:pt x="219" y="1040"/>
                </a:lnTo>
                <a:lnTo>
                  <a:pt x="198" y="1048"/>
                </a:lnTo>
                <a:lnTo>
                  <a:pt x="179" y="1056"/>
                </a:lnTo>
                <a:lnTo>
                  <a:pt x="156" y="1061"/>
                </a:lnTo>
                <a:lnTo>
                  <a:pt x="137" y="1069"/>
                </a:lnTo>
                <a:lnTo>
                  <a:pt x="117" y="1075"/>
                </a:lnTo>
                <a:lnTo>
                  <a:pt x="100" y="1079"/>
                </a:lnTo>
                <a:lnTo>
                  <a:pt x="85" y="1084"/>
                </a:lnTo>
                <a:lnTo>
                  <a:pt x="69" y="1088"/>
                </a:lnTo>
                <a:lnTo>
                  <a:pt x="56" y="1090"/>
                </a:lnTo>
                <a:lnTo>
                  <a:pt x="44" y="1094"/>
                </a:lnTo>
                <a:lnTo>
                  <a:pt x="33" y="1096"/>
                </a:lnTo>
                <a:lnTo>
                  <a:pt x="25" y="1096"/>
                </a:lnTo>
                <a:lnTo>
                  <a:pt x="18" y="1098"/>
                </a:lnTo>
                <a:lnTo>
                  <a:pt x="10" y="1098"/>
                </a:lnTo>
                <a:lnTo>
                  <a:pt x="6" y="1098"/>
                </a:lnTo>
                <a:lnTo>
                  <a:pt x="2" y="1096"/>
                </a:lnTo>
                <a:lnTo>
                  <a:pt x="0" y="1096"/>
                </a:lnTo>
                <a:lnTo>
                  <a:pt x="0" y="1094"/>
                </a:lnTo>
                <a:lnTo>
                  <a:pt x="0" y="1090"/>
                </a:lnTo>
                <a:lnTo>
                  <a:pt x="2" y="1086"/>
                </a:lnTo>
                <a:lnTo>
                  <a:pt x="6" y="1082"/>
                </a:lnTo>
                <a:lnTo>
                  <a:pt x="12" y="1077"/>
                </a:lnTo>
                <a:lnTo>
                  <a:pt x="20" y="1071"/>
                </a:lnTo>
                <a:lnTo>
                  <a:pt x="29" y="1063"/>
                </a:lnTo>
                <a:lnTo>
                  <a:pt x="41" y="1056"/>
                </a:lnTo>
                <a:lnTo>
                  <a:pt x="52" y="1048"/>
                </a:lnTo>
                <a:lnTo>
                  <a:pt x="66" y="1038"/>
                </a:lnTo>
                <a:lnTo>
                  <a:pt x="81" y="1029"/>
                </a:lnTo>
                <a:lnTo>
                  <a:pt x="98" y="1019"/>
                </a:lnTo>
                <a:lnTo>
                  <a:pt x="115" y="1008"/>
                </a:lnTo>
                <a:lnTo>
                  <a:pt x="135" y="996"/>
                </a:lnTo>
                <a:lnTo>
                  <a:pt x="156" y="983"/>
                </a:lnTo>
                <a:lnTo>
                  <a:pt x="179" y="969"/>
                </a:lnTo>
                <a:lnTo>
                  <a:pt x="202" y="956"/>
                </a:lnTo>
                <a:lnTo>
                  <a:pt x="227" y="940"/>
                </a:lnTo>
                <a:lnTo>
                  <a:pt x="250" y="927"/>
                </a:lnTo>
                <a:lnTo>
                  <a:pt x="296" y="898"/>
                </a:lnTo>
                <a:lnTo>
                  <a:pt x="340" y="871"/>
                </a:lnTo>
                <a:lnTo>
                  <a:pt x="382" y="842"/>
                </a:lnTo>
                <a:lnTo>
                  <a:pt x="425" y="814"/>
                </a:lnTo>
                <a:lnTo>
                  <a:pt x="467" y="787"/>
                </a:lnTo>
                <a:lnTo>
                  <a:pt x="507" y="758"/>
                </a:lnTo>
                <a:lnTo>
                  <a:pt x="547" y="731"/>
                </a:lnTo>
                <a:lnTo>
                  <a:pt x="567" y="716"/>
                </a:lnTo>
                <a:lnTo>
                  <a:pt x="586" y="700"/>
                </a:lnTo>
                <a:lnTo>
                  <a:pt x="607" y="685"/>
                </a:lnTo>
                <a:lnTo>
                  <a:pt x="626" y="668"/>
                </a:lnTo>
                <a:lnTo>
                  <a:pt x="647" y="652"/>
                </a:lnTo>
                <a:lnTo>
                  <a:pt x="666" y="635"/>
                </a:lnTo>
                <a:lnTo>
                  <a:pt x="687" y="616"/>
                </a:lnTo>
                <a:lnTo>
                  <a:pt x="707" y="597"/>
                </a:lnTo>
                <a:lnTo>
                  <a:pt x="728" y="578"/>
                </a:lnTo>
                <a:lnTo>
                  <a:pt x="747" y="556"/>
                </a:lnTo>
                <a:lnTo>
                  <a:pt x="768" y="535"/>
                </a:lnTo>
                <a:lnTo>
                  <a:pt x="787" y="514"/>
                </a:lnTo>
                <a:lnTo>
                  <a:pt x="808" y="491"/>
                </a:lnTo>
                <a:lnTo>
                  <a:pt x="828" y="468"/>
                </a:lnTo>
                <a:lnTo>
                  <a:pt x="847" y="443"/>
                </a:lnTo>
                <a:lnTo>
                  <a:pt x="868" y="418"/>
                </a:lnTo>
                <a:lnTo>
                  <a:pt x="887" y="391"/>
                </a:lnTo>
                <a:lnTo>
                  <a:pt x="904" y="368"/>
                </a:lnTo>
                <a:lnTo>
                  <a:pt x="922" y="345"/>
                </a:lnTo>
                <a:lnTo>
                  <a:pt x="935" y="326"/>
                </a:lnTo>
                <a:lnTo>
                  <a:pt x="950" y="307"/>
                </a:lnTo>
                <a:lnTo>
                  <a:pt x="962" y="288"/>
                </a:lnTo>
                <a:lnTo>
                  <a:pt x="973" y="272"/>
                </a:lnTo>
                <a:lnTo>
                  <a:pt x="983" y="257"/>
                </a:lnTo>
                <a:lnTo>
                  <a:pt x="991" y="244"/>
                </a:lnTo>
                <a:lnTo>
                  <a:pt x="998" y="232"/>
                </a:lnTo>
                <a:lnTo>
                  <a:pt x="1004" y="223"/>
                </a:lnTo>
                <a:lnTo>
                  <a:pt x="1008" y="213"/>
                </a:lnTo>
                <a:lnTo>
                  <a:pt x="1010" y="205"/>
                </a:lnTo>
                <a:lnTo>
                  <a:pt x="1012" y="199"/>
                </a:lnTo>
                <a:lnTo>
                  <a:pt x="1012" y="196"/>
                </a:lnTo>
                <a:lnTo>
                  <a:pt x="1010" y="192"/>
                </a:lnTo>
                <a:lnTo>
                  <a:pt x="1008" y="190"/>
                </a:lnTo>
                <a:lnTo>
                  <a:pt x="1004" y="188"/>
                </a:lnTo>
                <a:lnTo>
                  <a:pt x="1000" y="186"/>
                </a:lnTo>
                <a:lnTo>
                  <a:pt x="995" y="186"/>
                </a:lnTo>
                <a:lnTo>
                  <a:pt x="989" y="184"/>
                </a:lnTo>
                <a:lnTo>
                  <a:pt x="983" y="184"/>
                </a:lnTo>
                <a:lnTo>
                  <a:pt x="975" y="182"/>
                </a:lnTo>
                <a:lnTo>
                  <a:pt x="970" y="182"/>
                </a:lnTo>
                <a:lnTo>
                  <a:pt x="960" y="182"/>
                </a:lnTo>
                <a:lnTo>
                  <a:pt x="952" y="184"/>
                </a:lnTo>
                <a:lnTo>
                  <a:pt x="943" y="184"/>
                </a:lnTo>
                <a:lnTo>
                  <a:pt x="933" y="186"/>
                </a:lnTo>
                <a:lnTo>
                  <a:pt x="914" y="188"/>
                </a:lnTo>
                <a:lnTo>
                  <a:pt x="891" y="192"/>
                </a:lnTo>
                <a:lnTo>
                  <a:pt x="879" y="196"/>
                </a:lnTo>
                <a:lnTo>
                  <a:pt x="868" y="198"/>
                </a:lnTo>
                <a:lnTo>
                  <a:pt x="854" y="199"/>
                </a:lnTo>
                <a:lnTo>
                  <a:pt x="841" y="201"/>
                </a:lnTo>
                <a:lnTo>
                  <a:pt x="826" y="203"/>
                </a:lnTo>
                <a:lnTo>
                  <a:pt x="810" y="205"/>
                </a:lnTo>
                <a:lnTo>
                  <a:pt x="793" y="207"/>
                </a:lnTo>
                <a:lnTo>
                  <a:pt x="776" y="209"/>
                </a:lnTo>
                <a:lnTo>
                  <a:pt x="757" y="211"/>
                </a:lnTo>
                <a:lnTo>
                  <a:pt x="737" y="213"/>
                </a:lnTo>
                <a:lnTo>
                  <a:pt x="718" y="215"/>
                </a:lnTo>
                <a:lnTo>
                  <a:pt x="697" y="215"/>
                </a:lnTo>
                <a:lnTo>
                  <a:pt x="676" y="217"/>
                </a:lnTo>
                <a:lnTo>
                  <a:pt x="653" y="217"/>
                </a:lnTo>
                <a:lnTo>
                  <a:pt x="630" y="217"/>
                </a:lnTo>
                <a:lnTo>
                  <a:pt x="607" y="217"/>
                </a:lnTo>
                <a:lnTo>
                  <a:pt x="607" y="167"/>
                </a:lnTo>
                <a:lnTo>
                  <a:pt x="607" y="117"/>
                </a:lnTo>
                <a:lnTo>
                  <a:pt x="668" y="117"/>
                </a:lnTo>
                <a:lnTo>
                  <a:pt x="699" y="117"/>
                </a:lnTo>
                <a:lnTo>
                  <a:pt x="732" y="115"/>
                </a:lnTo>
                <a:lnTo>
                  <a:pt x="762" y="115"/>
                </a:lnTo>
                <a:lnTo>
                  <a:pt x="793" y="113"/>
                </a:lnTo>
                <a:lnTo>
                  <a:pt x="824" y="109"/>
                </a:lnTo>
                <a:lnTo>
                  <a:pt x="856" y="105"/>
                </a:lnTo>
                <a:lnTo>
                  <a:pt x="870" y="104"/>
                </a:lnTo>
                <a:lnTo>
                  <a:pt x="885" y="100"/>
                </a:lnTo>
                <a:lnTo>
                  <a:pt x="899" y="98"/>
                </a:lnTo>
                <a:lnTo>
                  <a:pt x="912" y="96"/>
                </a:lnTo>
                <a:lnTo>
                  <a:pt x="924" y="92"/>
                </a:lnTo>
                <a:lnTo>
                  <a:pt x="935" y="90"/>
                </a:lnTo>
                <a:lnTo>
                  <a:pt x="947" y="88"/>
                </a:lnTo>
                <a:lnTo>
                  <a:pt x="956" y="84"/>
                </a:lnTo>
                <a:lnTo>
                  <a:pt x="966" y="82"/>
                </a:lnTo>
                <a:lnTo>
                  <a:pt x="975" y="79"/>
                </a:lnTo>
                <a:lnTo>
                  <a:pt x="985" y="75"/>
                </a:lnTo>
                <a:lnTo>
                  <a:pt x="993" y="71"/>
                </a:lnTo>
                <a:lnTo>
                  <a:pt x="1008" y="63"/>
                </a:lnTo>
                <a:lnTo>
                  <a:pt x="1021" y="5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101"/>
          <p:cNvSpPr/>
          <p:nvPr/>
        </p:nvSpPr>
        <p:spPr>
          <a:xfrm>
            <a:off x="6497640" y="3209760"/>
            <a:ext cx="1208160" cy="633600"/>
          </a:xfrm>
          <a:custGeom>
            <a:avLst/>
            <a:gdLst/>
            <a:ahLst/>
            <a:rect l="l" t="t" r="r" b="b"/>
            <a:pathLst>
              <a:path w="1522" h="798">
                <a:moveTo>
                  <a:pt x="796" y="451"/>
                </a:moveTo>
                <a:lnTo>
                  <a:pt x="858" y="474"/>
                </a:lnTo>
                <a:lnTo>
                  <a:pt x="921" y="495"/>
                </a:lnTo>
                <a:lnTo>
                  <a:pt x="983" y="516"/>
                </a:lnTo>
                <a:lnTo>
                  <a:pt x="1044" y="535"/>
                </a:lnTo>
                <a:lnTo>
                  <a:pt x="1105" y="552"/>
                </a:lnTo>
                <a:lnTo>
                  <a:pt x="1165" y="570"/>
                </a:lnTo>
                <a:lnTo>
                  <a:pt x="1224" y="585"/>
                </a:lnTo>
                <a:lnTo>
                  <a:pt x="1284" y="600"/>
                </a:lnTo>
                <a:lnTo>
                  <a:pt x="1311" y="608"/>
                </a:lnTo>
                <a:lnTo>
                  <a:pt x="1338" y="614"/>
                </a:lnTo>
                <a:lnTo>
                  <a:pt x="1363" y="622"/>
                </a:lnTo>
                <a:lnTo>
                  <a:pt x="1386" y="627"/>
                </a:lnTo>
                <a:lnTo>
                  <a:pt x="1407" y="633"/>
                </a:lnTo>
                <a:lnTo>
                  <a:pt x="1426" y="639"/>
                </a:lnTo>
                <a:lnTo>
                  <a:pt x="1445" y="643"/>
                </a:lnTo>
                <a:lnTo>
                  <a:pt x="1461" y="648"/>
                </a:lnTo>
                <a:lnTo>
                  <a:pt x="1474" y="652"/>
                </a:lnTo>
                <a:lnTo>
                  <a:pt x="1487" y="656"/>
                </a:lnTo>
                <a:lnTo>
                  <a:pt x="1497" y="660"/>
                </a:lnTo>
                <a:lnTo>
                  <a:pt x="1507" y="664"/>
                </a:lnTo>
                <a:lnTo>
                  <a:pt x="1512" y="668"/>
                </a:lnTo>
                <a:lnTo>
                  <a:pt x="1516" y="670"/>
                </a:lnTo>
                <a:lnTo>
                  <a:pt x="1518" y="671"/>
                </a:lnTo>
                <a:lnTo>
                  <a:pt x="1520" y="671"/>
                </a:lnTo>
                <a:lnTo>
                  <a:pt x="1520" y="673"/>
                </a:lnTo>
                <a:lnTo>
                  <a:pt x="1522" y="675"/>
                </a:lnTo>
                <a:lnTo>
                  <a:pt x="1522" y="679"/>
                </a:lnTo>
                <a:lnTo>
                  <a:pt x="1520" y="681"/>
                </a:lnTo>
                <a:lnTo>
                  <a:pt x="1518" y="685"/>
                </a:lnTo>
                <a:lnTo>
                  <a:pt x="1514" y="687"/>
                </a:lnTo>
                <a:lnTo>
                  <a:pt x="1510" y="691"/>
                </a:lnTo>
                <a:lnTo>
                  <a:pt x="1507" y="694"/>
                </a:lnTo>
                <a:lnTo>
                  <a:pt x="1501" y="698"/>
                </a:lnTo>
                <a:lnTo>
                  <a:pt x="1493" y="702"/>
                </a:lnTo>
                <a:lnTo>
                  <a:pt x="1485" y="706"/>
                </a:lnTo>
                <a:lnTo>
                  <a:pt x="1476" y="710"/>
                </a:lnTo>
                <a:lnTo>
                  <a:pt x="1466" y="716"/>
                </a:lnTo>
                <a:lnTo>
                  <a:pt x="1457" y="719"/>
                </a:lnTo>
                <a:lnTo>
                  <a:pt x="1445" y="723"/>
                </a:lnTo>
                <a:lnTo>
                  <a:pt x="1432" y="729"/>
                </a:lnTo>
                <a:lnTo>
                  <a:pt x="1418" y="733"/>
                </a:lnTo>
                <a:lnTo>
                  <a:pt x="1403" y="739"/>
                </a:lnTo>
                <a:lnTo>
                  <a:pt x="1372" y="746"/>
                </a:lnTo>
                <a:lnTo>
                  <a:pt x="1342" y="756"/>
                </a:lnTo>
                <a:lnTo>
                  <a:pt x="1315" y="762"/>
                </a:lnTo>
                <a:lnTo>
                  <a:pt x="1286" y="767"/>
                </a:lnTo>
                <a:lnTo>
                  <a:pt x="1261" y="773"/>
                </a:lnTo>
                <a:lnTo>
                  <a:pt x="1236" y="779"/>
                </a:lnTo>
                <a:lnTo>
                  <a:pt x="1211" y="783"/>
                </a:lnTo>
                <a:lnTo>
                  <a:pt x="1188" y="789"/>
                </a:lnTo>
                <a:lnTo>
                  <a:pt x="1167" y="792"/>
                </a:lnTo>
                <a:lnTo>
                  <a:pt x="1146" y="796"/>
                </a:lnTo>
                <a:lnTo>
                  <a:pt x="1127" y="798"/>
                </a:lnTo>
                <a:lnTo>
                  <a:pt x="1107" y="798"/>
                </a:lnTo>
                <a:lnTo>
                  <a:pt x="1090" y="798"/>
                </a:lnTo>
                <a:lnTo>
                  <a:pt x="1075" y="796"/>
                </a:lnTo>
                <a:lnTo>
                  <a:pt x="1059" y="792"/>
                </a:lnTo>
                <a:lnTo>
                  <a:pt x="1046" y="789"/>
                </a:lnTo>
                <a:lnTo>
                  <a:pt x="1042" y="789"/>
                </a:lnTo>
                <a:lnTo>
                  <a:pt x="1038" y="787"/>
                </a:lnTo>
                <a:lnTo>
                  <a:pt x="1033" y="787"/>
                </a:lnTo>
                <a:lnTo>
                  <a:pt x="1029" y="785"/>
                </a:lnTo>
                <a:lnTo>
                  <a:pt x="1023" y="783"/>
                </a:lnTo>
                <a:lnTo>
                  <a:pt x="1015" y="781"/>
                </a:lnTo>
                <a:lnTo>
                  <a:pt x="1009" y="777"/>
                </a:lnTo>
                <a:lnTo>
                  <a:pt x="1002" y="773"/>
                </a:lnTo>
                <a:lnTo>
                  <a:pt x="992" y="771"/>
                </a:lnTo>
                <a:lnTo>
                  <a:pt x="985" y="766"/>
                </a:lnTo>
                <a:lnTo>
                  <a:pt x="975" y="762"/>
                </a:lnTo>
                <a:lnTo>
                  <a:pt x="965" y="756"/>
                </a:lnTo>
                <a:lnTo>
                  <a:pt x="956" y="750"/>
                </a:lnTo>
                <a:lnTo>
                  <a:pt x="944" y="744"/>
                </a:lnTo>
                <a:lnTo>
                  <a:pt x="933" y="739"/>
                </a:lnTo>
                <a:lnTo>
                  <a:pt x="921" y="731"/>
                </a:lnTo>
                <a:lnTo>
                  <a:pt x="910" y="723"/>
                </a:lnTo>
                <a:lnTo>
                  <a:pt x="896" y="716"/>
                </a:lnTo>
                <a:lnTo>
                  <a:pt x="883" y="708"/>
                </a:lnTo>
                <a:lnTo>
                  <a:pt x="869" y="698"/>
                </a:lnTo>
                <a:lnTo>
                  <a:pt x="856" y="689"/>
                </a:lnTo>
                <a:lnTo>
                  <a:pt x="841" y="679"/>
                </a:lnTo>
                <a:lnTo>
                  <a:pt x="825" y="668"/>
                </a:lnTo>
                <a:lnTo>
                  <a:pt x="810" y="658"/>
                </a:lnTo>
                <a:lnTo>
                  <a:pt x="793" y="647"/>
                </a:lnTo>
                <a:lnTo>
                  <a:pt x="775" y="633"/>
                </a:lnTo>
                <a:lnTo>
                  <a:pt x="758" y="622"/>
                </a:lnTo>
                <a:lnTo>
                  <a:pt x="741" y="608"/>
                </a:lnTo>
                <a:lnTo>
                  <a:pt x="723" y="595"/>
                </a:lnTo>
                <a:lnTo>
                  <a:pt x="704" y="581"/>
                </a:lnTo>
                <a:lnTo>
                  <a:pt x="685" y="566"/>
                </a:lnTo>
                <a:lnTo>
                  <a:pt x="666" y="551"/>
                </a:lnTo>
                <a:lnTo>
                  <a:pt x="581" y="489"/>
                </a:lnTo>
                <a:lnTo>
                  <a:pt x="499" y="428"/>
                </a:lnTo>
                <a:lnTo>
                  <a:pt x="414" y="366"/>
                </a:lnTo>
                <a:lnTo>
                  <a:pt x="332" y="305"/>
                </a:lnTo>
                <a:lnTo>
                  <a:pt x="249" y="243"/>
                </a:lnTo>
                <a:lnTo>
                  <a:pt x="167" y="180"/>
                </a:lnTo>
                <a:lnTo>
                  <a:pt x="82" y="117"/>
                </a:lnTo>
                <a:lnTo>
                  <a:pt x="0" y="51"/>
                </a:lnTo>
                <a:lnTo>
                  <a:pt x="13" y="38"/>
                </a:lnTo>
                <a:lnTo>
                  <a:pt x="29" y="25"/>
                </a:lnTo>
                <a:lnTo>
                  <a:pt x="44" y="13"/>
                </a:lnTo>
                <a:lnTo>
                  <a:pt x="59" y="0"/>
                </a:lnTo>
                <a:lnTo>
                  <a:pt x="90" y="23"/>
                </a:lnTo>
                <a:lnTo>
                  <a:pt x="121" y="44"/>
                </a:lnTo>
                <a:lnTo>
                  <a:pt x="150" y="65"/>
                </a:lnTo>
                <a:lnTo>
                  <a:pt x="178" y="86"/>
                </a:lnTo>
                <a:lnTo>
                  <a:pt x="207" y="105"/>
                </a:lnTo>
                <a:lnTo>
                  <a:pt x="236" y="126"/>
                </a:lnTo>
                <a:lnTo>
                  <a:pt x="265" y="146"/>
                </a:lnTo>
                <a:lnTo>
                  <a:pt x="292" y="163"/>
                </a:lnTo>
                <a:lnTo>
                  <a:pt x="318" y="182"/>
                </a:lnTo>
                <a:lnTo>
                  <a:pt x="345" y="199"/>
                </a:lnTo>
                <a:lnTo>
                  <a:pt x="372" y="215"/>
                </a:lnTo>
                <a:lnTo>
                  <a:pt x="397" y="232"/>
                </a:lnTo>
                <a:lnTo>
                  <a:pt x="422" y="247"/>
                </a:lnTo>
                <a:lnTo>
                  <a:pt x="447" y="263"/>
                </a:lnTo>
                <a:lnTo>
                  <a:pt x="470" y="278"/>
                </a:lnTo>
                <a:lnTo>
                  <a:pt x="493" y="291"/>
                </a:lnTo>
                <a:lnTo>
                  <a:pt x="516" y="305"/>
                </a:lnTo>
                <a:lnTo>
                  <a:pt x="539" y="318"/>
                </a:lnTo>
                <a:lnTo>
                  <a:pt x="560" y="332"/>
                </a:lnTo>
                <a:lnTo>
                  <a:pt x="581" y="343"/>
                </a:lnTo>
                <a:lnTo>
                  <a:pt x="603" y="355"/>
                </a:lnTo>
                <a:lnTo>
                  <a:pt x="624" y="366"/>
                </a:lnTo>
                <a:lnTo>
                  <a:pt x="643" y="378"/>
                </a:lnTo>
                <a:lnTo>
                  <a:pt x="662" y="387"/>
                </a:lnTo>
                <a:lnTo>
                  <a:pt x="681" y="397"/>
                </a:lnTo>
                <a:lnTo>
                  <a:pt x="699" y="407"/>
                </a:lnTo>
                <a:lnTo>
                  <a:pt x="716" y="414"/>
                </a:lnTo>
                <a:lnTo>
                  <a:pt x="733" y="424"/>
                </a:lnTo>
                <a:lnTo>
                  <a:pt x="750" y="432"/>
                </a:lnTo>
                <a:lnTo>
                  <a:pt x="766" y="437"/>
                </a:lnTo>
                <a:lnTo>
                  <a:pt x="781" y="445"/>
                </a:lnTo>
                <a:lnTo>
                  <a:pt x="796" y="4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102"/>
          <p:cNvSpPr/>
          <p:nvPr/>
        </p:nvSpPr>
        <p:spPr>
          <a:xfrm>
            <a:off x="6316560" y="2754360"/>
            <a:ext cx="523800" cy="695160"/>
          </a:xfrm>
          <a:custGeom>
            <a:avLst/>
            <a:gdLst/>
            <a:ahLst/>
            <a:rect l="l" t="t" r="r" b="b"/>
            <a:pathLst>
              <a:path w="661" h="877">
                <a:moveTo>
                  <a:pt x="419" y="224"/>
                </a:moveTo>
                <a:lnTo>
                  <a:pt x="427" y="201"/>
                </a:lnTo>
                <a:lnTo>
                  <a:pt x="434" y="178"/>
                </a:lnTo>
                <a:lnTo>
                  <a:pt x="440" y="155"/>
                </a:lnTo>
                <a:lnTo>
                  <a:pt x="444" y="134"/>
                </a:lnTo>
                <a:lnTo>
                  <a:pt x="446" y="113"/>
                </a:lnTo>
                <a:lnTo>
                  <a:pt x="448" y="103"/>
                </a:lnTo>
                <a:lnTo>
                  <a:pt x="448" y="94"/>
                </a:lnTo>
                <a:lnTo>
                  <a:pt x="446" y="86"/>
                </a:lnTo>
                <a:lnTo>
                  <a:pt x="446" y="77"/>
                </a:lnTo>
                <a:lnTo>
                  <a:pt x="444" y="69"/>
                </a:lnTo>
                <a:lnTo>
                  <a:pt x="442" y="61"/>
                </a:lnTo>
                <a:lnTo>
                  <a:pt x="440" y="55"/>
                </a:lnTo>
                <a:lnTo>
                  <a:pt x="438" y="48"/>
                </a:lnTo>
                <a:lnTo>
                  <a:pt x="438" y="42"/>
                </a:lnTo>
                <a:lnTo>
                  <a:pt x="436" y="38"/>
                </a:lnTo>
                <a:lnTo>
                  <a:pt x="434" y="29"/>
                </a:lnTo>
                <a:lnTo>
                  <a:pt x="436" y="21"/>
                </a:lnTo>
                <a:lnTo>
                  <a:pt x="438" y="15"/>
                </a:lnTo>
                <a:lnTo>
                  <a:pt x="438" y="11"/>
                </a:lnTo>
                <a:lnTo>
                  <a:pt x="442" y="9"/>
                </a:lnTo>
                <a:lnTo>
                  <a:pt x="444" y="6"/>
                </a:lnTo>
                <a:lnTo>
                  <a:pt x="446" y="4"/>
                </a:lnTo>
                <a:lnTo>
                  <a:pt x="450" y="2"/>
                </a:lnTo>
                <a:lnTo>
                  <a:pt x="455" y="0"/>
                </a:lnTo>
                <a:lnTo>
                  <a:pt x="465" y="0"/>
                </a:lnTo>
                <a:lnTo>
                  <a:pt x="475" y="2"/>
                </a:lnTo>
                <a:lnTo>
                  <a:pt x="488" y="6"/>
                </a:lnTo>
                <a:lnTo>
                  <a:pt x="501" y="9"/>
                </a:lnTo>
                <a:lnTo>
                  <a:pt x="509" y="13"/>
                </a:lnTo>
                <a:lnTo>
                  <a:pt x="517" y="17"/>
                </a:lnTo>
                <a:lnTo>
                  <a:pt x="524" y="21"/>
                </a:lnTo>
                <a:lnTo>
                  <a:pt x="534" y="25"/>
                </a:lnTo>
                <a:lnTo>
                  <a:pt x="542" y="30"/>
                </a:lnTo>
                <a:lnTo>
                  <a:pt x="553" y="36"/>
                </a:lnTo>
                <a:lnTo>
                  <a:pt x="563" y="42"/>
                </a:lnTo>
                <a:lnTo>
                  <a:pt x="574" y="50"/>
                </a:lnTo>
                <a:lnTo>
                  <a:pt x="582" y="55"/>
                </a:lnTo>
                <a:lnTo>
                  <a:pt x="590" y="63"/>
                </a:lnTo>
                <a:lnTo>
                  <a:pt x="597" y="71"/>
                </a:lnTo>
                <a:lnTo>
                  <a:pt x="605" y="77"/>
                </a:lnTo>
                <a:lnTo>
                  <a:pt x="617" y="90"/>
                </a:lnTo>
                <a:lnTo>
                  <a:pt x="628" y="103"/>
                </a:lnTo>
                <a:lnTo>
                  <a:pt x="638" y="117"/>
                </a:lnTo>
                <a:lnTo>
                  <a:pt x="645" y="128"/>
                </a:lnTo>
                <a:lnTo>
                  <a:pt x="651" y="140"/>
                </a:lnTo>
                <a:lnTo>
                  <a:pt x="657" y="149"/>
                </a:lnTo>
                <a:lnTo>
                  <a:pt x="659" y="155"/>
                </a:lnTo>
                <a:lnTo>
                  <a:pt x="661" y="163"/>
                </a:lnTo>
                <a:lnTo>
                  <a:pt x="661" y="169"/>
                </a:lnTo>
                <a:lnTo>
                  <a:pt x="661" y="174"/>
                </a:lnTo>
                <a:lnTo>
                  <a:pt x="661" y="182"/>
                </a:lnTo>
                <a:lnTo>
                  <a:pt x="661" y="188"/>
                </a:lnTo>
                <a:lnTo>
                  <a:pt x="657" y="199"/>
                </a:lnTo>
                <a:lnTo>
                  <a:pt x="653" y="211"/>
                </a:lnTo>
                <a:lnTo>
                  <a:pt x="647" y="222"/>
                </a:lnTo>
                <a:lnTo>
                  <a:pt x="642" y="236"/>
                </a:lnTo>
                <a:lnTo>
                  <a:pt x="634" y="249"/>
                </a:lnTo>
                <a:lnTo>
                  <a:pt x="626" y="257"/>
                </a:lnTo>
                <a:lnTo>
                  <a:pt x="619" y="267"/>
                </a:lnTo>
                <a:lnTo>
                  <a:pt x="609" y="276"/>
                </a:lnTo>
                <a:lnTo>
                  <a:pt x="599" y="286"/>
                </a:lnTo>
                <a:lnTo>
                  <a:pt x="590" y="299"/>
                </a:lnTo>
                <a:lnTo>
                  <a:pt x="578" y="313"/>
                </a:lnTo>
                <a:lnTo>
                  <a:pt x="565" y="326"/>
                </a:lnTo>
                <a:lnTo>
                  <a:pt x="551" y="341"/>
                </a:lnTo>
                <a:lnTo>
                  <a:pt x="538" y="357"/>
                </a:lnTo>
                <a:lnTo>
                  <a:pt x="524" y="374"/>
                </a:lnTo>
                <a:lnTo>
                  <a:pt x="509" y="393"/>
                </a:lnTo>
                <a:lnTo>
                  <a:pt x="492" y="412"/>
                </a:lnTo>
                <a:lnTo>
                  <a:pt x="475" y="434"/>
                </a:lnTo>
                <a:lnTo>
                  <a:pt x="457" y="455"/>
                </a:lnTo>
                <a:lnTo>
                  <a:pt x="438" y="476"/>
                </a:lnTo>
                <a:lnTo>
                  <a:pt x="419" y="499"/>
                </a:lnTo>
                <a:lnTo>
                  <a:pt x="400" y="526"/>
                </a:lnTo>
                <a:lnTo>
                  <a:pt x="380" y="549"/>
                </a:lnTo>
                <a:lnTo>
                  <a:pt x="361" y="574"/>
                </a:lnTo>
                <a:lnTo>
                  <a:pt x="342" y="597"/>
                </a:lnTo>
                <a:lnTo>
                  <a:pt x="323" y="618"/>
                </a:lnTo>
                <a:lnTo>
                  <a:pt x="304" y="639"/>
                </a:lnTo>
                <a:lnTo>
                  <a:pt x="286" y="658"/>
                </a:lnTo>
                <a:lnTo>
                  <a:pt x="269" y="677"/>
                </a:lnTo>
                <a:lnTo>
                  <a:pt x="252" y="697"/>
                </a:lnTo>
                <a:lnTo>
                  <a:pt x="235" y="714"/>
                </a:lnTo>
                <a:lnTo>
                  <a:pt x="219" y="729"/>
                </a:lnTo>
                <a:lnTo>
                  <a:pt x="204" y="746"/>
                </a:lnTo>
                <a:lnTo>
                  <a:pt x="189" y="760"/>
                </a:lnTo>
                <a:lnTo>
                  <a:pt x="173" y="775"/>
                </a:lnTo>
                <a:lnTo>
                  <a:pt x="160" y="787"/>
                </a:lnTo>
                <a:lnTo>
                  <a:pt x="146" y="800"/>
                </a:lnTo>
                <a:lnTo>
                  <a:pt x="131" y="812"/>
                </a:lnTo>
                <a:lnTo>
                  <a:pt x="116" y="821"/>
                </a:lnTo>
                <a:lnTo>
                  <a:pt x="102" y="831"/>
                </a:lnTo>
                <a:lnTo>
                  <a:pt x="91" y="840"/>
                </a:lnTo>
                <a:lnTo>
                  <a:pt x="77" y="848"/>
                </a:lnTo>
                <a:lnTo>
                  <a:pt x="68" y="854"/>
                </a:lnTo>
                <a:lnTo>
                  <a:pt x="56" y="860"/>
                </a:lnTo>
                <a:lnTo>
                  <a:pt x="48" y="865"/>
                </a:lnTo>
                <a:lnTo>
                  <a:pt x="39" y="869"/>
                </a:lnTo>
                <a:lnTo>
                  <a:pt x="31" y="873"/>
                </a:lnTo>
                <a:lnTo>
                  <a:pt x="23" y="875"/>
                </a:lnTo>
                <a:lnTo>
                  <a:pt x="18" y="877"/>
                </a:lnTo>
                <a:lnTo>
                  <a:pt x="14" y="877"/>
                </a:lnTo>
                <a:lnTo>
                  <a:pt x="8" y="877"/>
                </a:lnTo>
                <a:lnTo>
                  <a:pt x="6" y="877"/>
                </a:lnTo>
                <a:lnTo>
                  <a:pt x="2" y="875"/>
                </a:lnTo>
                <a:lnTo>
                  <a:pt x="0" y="871"/>
                </a:lnTo>
                <a:lnTo>
                  <a:pt x="0" y="869"/>
                </a:lnTo>
                <a:lnTo>
                  <a:pt x="0" y="865"/>
                </a:lnTo>
                <a:lnTo>
                  <a:pt x="0" y="860"/>
                </a:lnTo>
                <a:lnTo>
                  <a:pt x="2" y="856"/>
                </a:lnTo>
                <a:lnTo>
                  <a:pt x="4" y="850"/>
                </a:lnTo>
                <a:lnTo>
                  <a:pt x="8" y="844"/>
                </a:lnTo>
                <a:lnTo>
                  <a:pt x="12" y="837"/>
                </a:lnTo>
                <a:lnTo>
                  <a:pt x="18" y="831"/>
                </a:lnTo>
                <a:lnTo>
                  <a:pt x="23" y="821"/>
                </a:lnTo>
                <a:lnTo>
                  <a:pt x="29" y="814"/>
                </a:lnTo>
                <a:lnTo>
                  <a:pt x="37" y="804"/>
                </a:lnTo>
                <a:lnTo>
                  <a:pt x="45" y="794"/>
                </a:lnTo>
                <a:lnTo>
                  <a:pt x="54" y="785"/>
                </a:lnTo>
                <a:lnTo>
                  <a:pt x="64" y="773"/>
                </a:lnTo>
                <a:lnTo>
                  <a:pt x="73" y="762"/>
                </a:lnTo>
                <a:lnTo>
                  <a:pt x="85" y="750"/>
                </a:lnTo>
                <a:lnTo>
                  <a:pt x="96" y="737"/>
                </a:lnTo>
                <a:lnTo>
                  <a:pt x="108" y="723"/>
                </a:lnTo>
                <a:lnTo>
                  <a:pt x="119" y="708"/>
                </a:lnTo>
                <a:lnTo>
                  <a:pt x="131" y="693"/>
                </a:lnTo>
                <a:lnTo>
                  <a:pt x="142" y="677"/>
                </a:lnTo>
                <a:lnTo>
                  <a:pt x="154" y="660"/>
                </a:lnTo>
                <a:lnTo>
                  <a:pt x="166" y="643"/>
                </a:lnTo>
                <a:lnTo>
                  <a:pt x="179" y="625"/>
                </a:lnTo>
                <a:lnTo>
                  <a:pt x="192" y="606"/>
                </a:lnTo>
                <a:lnTo>
                  <a:pt x="204" y="589"/>
                </a:lnTo>
                <a:lnTo>
                  <a:pt x="217" y="568"/>
                </a:lnTo>
                <a:lnTo>
                  <a:pt x="246" y="530"/>
                </a:lnTo>
                <a:lnTo>
                  <a:pt x="261" y="508"/>
                </a:lnTo>
                <a:lnTo>
                  <a:pt x="277" y="487"/>
                </a:lnTo>
                <a:lnTo>
                  <a:pt x="288" y="466"/>
                </a:lnTo>
                <a:lnTo>
                  <a:pt x="302" y="445"/>
                </a:lnTo>
                <a:lnTo>
                  <a:pt x="313" y="426"/>
                </a:lnTo>
                <a:lnTo>
                  <a:pt x="325" y="407"/>
                </a:lnTo>
                <a:lnTo>
                  <a:pt x="336" y="387"/>
                </a:lnTo>
                <a:lnTo>
                  <a:pt x="346" y="370"/>
                </a:lnTo>
                <a:lnTo>
                  <a:pt x="356" y="353"/>
                </a:lnTo>
                <a:lnTo>
                  <a:pt x="365" y="336"/>
                </a:lnTo>
                <a:lnTo>
                  <a:pt x="375" y="320"/>
                </a:lnTo>
                <a:lnTo>
                  <a:pt x="382" y="305"/>
                </a:lnTo>
                <a:lnTo>
                  <a:pt x="390" y="290"/>
                </a:lnTo>
                <a:lnTo>
                  <a:pt x="396" y="276"/>
                </a:lnTo>
                <a:lnTo>
                  <a:pt x="404" y="263"/>
                </a:lnTo>
                <a:lnTo>
                  <a:pt x="409" y="249"/>
                </a:lnTo>
                <a:lnTo>
                  <a:pt x="415" y="236"/>
                </a:lnTo>
                <a:lnTo>
                  <a:pt x="419" y="2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4"/>
          <p:cNvSpPr/>
          <p:nvPr/>
        </p:nvSpPr>
        <p:spPr>
          <a:xfrm>
            <a:off x="2224080" y="2333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絮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合 8"/>
          <p:cNvGrpSpPr/>
          <p:nvPr/>
        </p:nvGrpSpPr>
        <p:grpSpPr>
          <a:xfrm>
            <a:off x="1400040" y="3760920"/>
            <a:ext cx="2840040" cy="1615320"/>
            <a:chOff x="1400040" y="3760920"/>
            <a:chExt cx="2840040" cy="1615320"/>
          </a:xfrm>
        </p:grpSpPr>
        <p:pic>
          <p:nvPicPr>
            <p:cNvPr id="11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760920"/>
              <a:ext cx="284004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2"/>
            <p:cNvSpPr/>
            <p:nvPr/>
          </p:nvSpPr>
          <p:spPr>
            <a:xfrm>
              <a:off x="1444680" y="436788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宽下窄。“如”扁宽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矩形 3"/>
          <p:cNvSpPr/>
          <p:nvPr/>
        </p:nvSpPr>
        <p:spPr>
          <a:xfrm>
            <a:off x="2171880" y="1654200"/>
            <a:ext cx="134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x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114880" y="2168640"/>
          <a:ext cx="3041640" cy="303984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Freeform 120"/>
          <p:cNvSpPr/>
          <p:nvPr/>
        </p:nvSpPr>
        <p:spPr>
          <a:xfrm>
            <a:off x="7050240" y="4237200"/>
            <a:ext cx="452160" cy="368280"/>
          </a:xfrm>
          <a:custGeom>
            <a:avLst/>
            <a:gdLst/>
            <a:ahLst/>
            <a:rect l="l" t="t" r="r" b="b"/>
            <a:pathLst>
              <a:path w="570" h="465">
                <a:moveTo>
                  <a:pt x="0" y="23"/>
                </a:moveTo>
                <a:lnTo>
                  <a:pt x="0" y="21"/>
                </a:lnTo>
                <a:lnTo>
                  <a:pt x="2" y="20"/>
                </a:lnTo>
                <a:lnTo>
                  <a:pt x="2" y="18"/>
                </a:lnTo>
                <a:lnTo>
                  <a:pt x="6" y="16"/>
                </a:lnTo>
                <a:lnTo>
                  <a:pt x="8" y="14"/>
                </a:lnTo>
                <a:lnTo>
                  <a:pt x="12" y="12"/>
                </a:lnTo>
                <a:lnTo>
                  <a:pt x="16" y="10"/>
                </a:lnTo>
                <a:lnTo>
                  <a:pt x="21" y="8"/>
                </a:lnTo>
                <a:lnTo>
                  <a:pt x="27" y="6"/>
                </a:lnTo>
                <a:lnTo>
                  <a:pt x="33" y="4"/>
                </a:lnTo>
                <a:lnTo>
                  <a:pt x="40" y="4"/>
                </a:lnTo>
                <a:lnTo>
                  <a:pt x="48" y="2"/>
                </a:lnTo>
                <a:lnTo>
                  <a:pt x="58" y="2"/>
                </a:lnTo>
                <a:lnTo>
                  <a:pt x="67" y="2"/>
                </a:lnTo>
                <a:lnTo>
                  <a:pt x="79" y="0"/>
                </a:lnTo>
                <a:lnTo>
                  <a:pt x="90" y="0"/>
                </a:lnTo>
                <a:lnTo>
                  <a:pt x="100" y="0"/>
                </a:lnTo>
                <a:lnTo>
                  <a:pt x="111" y="2"/>
                </a:lnTo>
                <a:lnTo>
                  <a:pt x="123" y="4"/>
                </a:lnTo>
                <a:lnTo>
                  <a:pt x="136" y="6"/>
                </a:lnTo>
                <a:lnTo>
                  <a:pt x="150" y="10"/>
                </a:lnTo>
                <a:lnTo>
                  <a:pt x="163" y="14"/>
                </a:lnTo>
                <a:lnTo>
                  <a:pt x="179" y="20"/>
                </a:lnTo>
                <a:lnTo>
                  <a:pt x="196" y="25"/>
                </a:lnTo>
                <a:lnTo>
                  <a:pt x="213" y="31"/>
                </a:lnTo>
                <a:lnTo>
                  <a:pt x="232" y="39"/>
                </a:lnTo>
                <a:lnTo>
                  <a:pt x="250" y="46"/>
                </a:lnTo>
                <a:lnTo>
                  <a:pt x="271" y="54"/>
                </a:lnTo>
                <a:lnTo>
                  <a:pt x="292" y="64"/>
                </a:lnTo>
                <a:lnTo>
                  <a:pt x="313" y="73"/>
                </a:lnTo>
                <a:lnTo>
                  <a:pt x="336" y="83"/>
                </a:lnTo>
                <a:lnTo>
                  <a:pt x="359" y="94"/>
                </a:lnTo>
                <a:lnTo>
                  <a:pt x="382" y="106"/>
                </a:lnTo>
                <a:lnTo>
                  <a:pt x="405" y="117"/>
                </a:lnTo>
                <a:lnTo>
                  <a:pt x="424" y="129"/>
                </a:lnTo>
                <a:lnTo>
                  <a:pt x="444" y="140"/>
                </a:lnTo>
                <a:lnTo>
                  <a:pt x="461" y="152"/>
                </a:lnTo>
                <a:lnTo>
                  <a:pt x="478" y="163"/>
                </a:lnTo>
                <a:lnTo>
                  <a:pt x="492" y="177"/>
                </a:lnTo>
                <a:lnTo>
                  <a:pt x="505" y="188"/>
                </a:lnTo>
                <a:lnTo>
                  <a:pt x="518" y="202"/>
                </a:lnTo>
                <a:lnTo>
                  <a:pt x="528" y="213"/>
                </a:lnTo>
                <a:lnTo>
                  <a:pt x="538" y="227"/>
                </a:lnTo>
                <a:lnTo>
                  <a:pt x="545" y="240"/>
                </a:lnTo>
                <a:lnTo>
                  <a:pt x="553" y="254"/>
                </a:lnTo>
                <a:lnTo>
                  <a:pt x="559" y="265"/>
                </a:lnTo>
                <a:lnTo>
                  <a:pt x="563" y="279"/>
                </a:lnTo>
                <a:lnTo>
                  <a:pt x="564" y="292"/>
                </a:lnTo>
                <a:lnTo>
                  <a:pt x="566" y="307"/>
                </a:lnTo>
                <a:lnTo>
                  <a:pt x="568" y="321"/>
                </a:lnTo>
                <a:lnTo>
                  <a:pt x="570" y="334"/>
                </a:lnTo>
                <a:lnTo>
                  <a:pt x="570" y="348"/>
                </a:lnTo>
                <a:lnTo>
                  <a:pt x="570" y="359"/>
                </a:lnTo>
                <a:lnTo>
                  <a:pt x="570" y="371"/>
                </a:lnTo>
                <a:lnTo>
                  <a:pt x="568" y="380"/>
                </a:lnTo>
                <a:lnTo>
                  <a:pt x="568" y="392"/>
                </a:lnTo>
                <a:lnTo>
                  <a:pt x="566" y="401"/>
                </a:lnTo>
                <a:lnTo>
                  <a:pt x="564" y="409"/>
                </a:lnTo>
                <a:lnTo>
                  <a:pt x="563" y="419"/>
                </a:lnTo>
                <a:lnTo>
                  <a:pt x="561" y="426"/>
                </a:lnTo>
                <a:lnTo>
                  <a:pt x="557" y="442"/>
                </a:lnTo>
                <a:lnTo>
                  <a:pt x="553" y="455"/>
                </a:lnTo>
                <a:lnTo>
                  <a:pt x="549" y="457"/>
                </a:lnTo>
                <a:lnTo>
                  <a:pt x="547" y="461"/>
                </a:lnTo>
                <a:lnTo>
                  <a:pt x="543" y="463"/>
                </a:lnTo>
                <a:lnTo>
                  <a:pt x="540" y="463"/>
                </a:lnTo>
                <a:lnTo>
                  <a:pt x="534" y="465"/>
                </a:lnTo>
                <a:lnTo>
                  <a:pt x="530" y="465"/>
                </a:lnTo>
                <a:lnTo>
                  <a:pt x="524" y="463"/>
                </a:lnTo>
                <a:lnTo>
                  <a:pt x="518" y="463"/>
                </a:lnTo>
                <a:lnTo>
                  <a:pt x="513" y="461"/>
                </a:lnTo>
                <a:lnTo>
                  <a:pt x="505" y="459"/>
                </a:lnTo>
                <a:lnTo>
                  <a:pt x="499" y="455"/>
                </a:lnTo>
                <a:lnTo>
                  <a:pt x="492" y="451"/>
                </a:lnTo>
                <a:lnTo>
                  <a:pt x="484" y="448"/>
                </a:lnTo>
                <a:lnTo>
                  <a:pt x="474" y="444"/>
                </a:lnTo>
                <a:lnTo>
                  <a:pt x="467" y="438"/>
                </a:lnTo>
                <a:lnTo>
                  <a:pt x="457" y="432"/>
                </a:lnTo>
                <a:lnTo>
                  <a:pt x="447" y="426"/>
                </a:lnTo>
                <a:lnTo>
                  <a:pt x="438" y="419"/>
                </a:lnTo>
                <a:lnTo>
                  <a:pt x="426" y="411"/>
                </a:lnTo>
                <a:lnTo>
                  <a:pt x="417" y="403"/>
                </a:lnTo>
                <a:lnTo>
                  <a:pt x="405" y="396"/>
                </a:lnTo>
                <a:lnTo>
                  <a:pt x="394" y="386"/>
                </a:lnTo>
                <a:lnTo>
                  <a:pt x="382" y="377"/>
                </a:lnTo>
                <a:lnTo>
                  <a:pt x="369" y="367"/>
                </a:lnTo>
                <a:lnTo>
                  <a:pt x="357" y="357"/>
                </a:lnTo>
                <a:lnTo>
                  <a:pt x="344" y="346"/>
                </a:lnTo>
                <a:lnTo>
                  <a:pt x="330" y="334"/>
                </a:lnTo>
                <a:lnTo>
                  <a:pt x="317" y="323"/>
                </a:lnTo>
                <a:lnTo>
                  <a:pt x="301" y="309"/>
                </a:lnTo>
                <a:lnTo>
                  <a:pt x="288" y="296"/>
                </a:lnTo>
                <a:lnTo>
                  <a:pt x="273" y="282"/>
                </a:lnTo>
                <a:lnTo>
                  <a:pt x="257" y="269"/>
                </a:lnTo>
                <a:lnTo>
                  <a:pt x="227" y="240"/>
                </a:lnTo>
                <a:lnTo>
                  <a:pt x="198" y="215"/>
                </a:lnTo>
                <a:lnTo>
                  <a:pt x="171" y="190"/>
                </a:lnTo>
                <a:lnTo>
                  <a:pt x="146" y="167"/>
                </a:lnTo>
                <a:lnTo>
                  <a:pt x="125" y="146"/>
                </a:lnTo>
                <a:lnTo>
                  <a:pt x="104" y="127"/>
                </a:lnTo>
                <a:lnTo>
                  <a:pt x="85" y="110"/>
                </a:lnTo>
                <a:lnTo>
                  <a:pt x="75" y="100"/>
                </a:lnTo>
                <a:lnTo>
                  <a:pt x="67" y="92"/>
                </a:lnTo>
                <a:lnTo>
                  <a:pt x="58" y="87"/>
                </a:lnTo>
                <a:lnTo>
                  <a:pt x="52" y="79"/>
                </a:lnTo>
                <a:lnTo>
                  <a:pt x="44" y="71"/>
                </a:lnTo>
                <a:lnTo>
                  <a:pt x="39" y="66"/>
                </a:lnTo>
                <a:lnTo>
                  <a:pt x="33" y="60"/>
                </a:lnTo>
                <a:lnTo>
                  <a:pt x="27" y="54"/>
                </a:lnTo>
                <a:lnTo>
                  <a:pt x="21" y="50"/>
                </a:lnTo>
                <a:lnTo>
                  <a:pt x="17" y="46"/>
                </a:lnTo>
                <a:lnTo>
                  <a:pt x="14" y="41"/>
                </a:lnTo>
                <a:lnTo>
                  <a:pt x="10" y="37"/>
                </a:lnTo>
                <a:lnTo>
                  <a:pt x="6" y="35"/>
                </a:lnTo>
                <a:lnTo>
                  <a:pt x="4" y="31"/>
                </a:lnTo>
                <a:lnTo>
                  <a:pt x="2" y="29"/>
                </a:lnTo>
                <a:lnTo>
                  <a:pt x="2" y="27"/>
                </a:lnTo>
                <a:lnTo>
                  <a:pt x="0" y="25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121"/>
          <p:cNvSpPr/>
          <p:nvPr/>
        </p:nvSpPr>
        <p:spPr>
          <a:xfrm>
            <a:off x="5989680" y="4237200"/>
            <a:ext cx="258840" cy="415800"/>
          </a:xfrm>
          <a:custGeom>
            <a:avLst/>
            <a:gdLst/>
            <a:ahLst/>
            <a:rect l="l" t="t" r="r" b="b"/>
            <a:pathLst>
              <a:path w="327" h="524">
                <a:moveTo>
                  <a:pt x="296" y="246"/>
                </a:moveTo>
                <a:lnTo>
                  <a:pt x="290" y="261"/>
                </a:lnTo>
                <a:lnTo>
                  <a:pt x="286" y="275"/>
                </a:lnTo>
                <a:lnTo>
                  <a:pt x="280" y="288"/>
                </a:lnTo>
                <a:lnTo>
                  <a:pt x="275" y="304"/>
                </a:lnTo>
                <a:lnTo>
                  <a:pt x="261" y="329"/>
                </a:lnTo>
                <a:lnTo>
                  <a:pt x="248" y="354"/>
                </a:lnTo>
                <a:lnTo>
                  <a:pt x="232" y="377"/>
                </a:lnTo>
                <a:lnTo>
                  <a:pt x="217" y="400"/>
                </a:lnTo>
                <a:lnTo>
                  <a:pt x="198" y="421"/>
                </a:lnTo>
                <a:lnTo>
                  <a:pt x="181" y="444"/>
                </a:lnTo>
                <a:lnTo>
                  <a:pt x="169" y="453"/>
                </a:lnTo>
                <a:lnTo>
                  <a:pt x="158" y="463"/>
                </a:lnTo>
                <a:lnTo>
                  <a:pt x="148" y="473"/>
                </a:lnTo>
                <a:lnTo>
                  <a:pt x="137" y="480"/>
                </a:lnTo>
                <a:lnTo>
                  <a:pt x="129" y="488"/>
                </a:lnTo>
                <a:lnTo>
                  <a:pt x="119" y="496"/>
                </a:lnTo>
                <a:lnTo>
                  <a:pt x="112" y="501"/>
                </a:lnTo>
                <a:lnTo>
                  <a:pt x="104" y="507"/>
                </a:lnTo>
                <a:lnTo>
                  <a:pt x="96" y="511"/>
                </a:lnTo>
                <a:lnTo>
                  <a:pt x="90" y="515"/>
                </a:lnTo>
                <a:lnTo>
                  <a:pt x="85" y="519"/>
                </a:lnTo>
                <a:lnTo>
                  <a:pt x="79" y="521"/>
                </a:lnTo>
                <a:lnTo>
                  <a:pt x="75" y="522"/>
                </a:lnTo>
                <a:lnTo>
                  <a:pt x="71" y="524"/>
                </a:lnTo>
                <a:lnTo>
                  <a:pt x="67" y="524"/>
                </a:lnTo>
                <a:lnTo>
                  <a:pt x="65" y="524"/>
                </a:lnTo>
                <a:lnTo>
                  <a:pt x="62" y="524"/>
                </a:lnTo>
                <a:lnTo>
                  <a:pt x="60" y="524"/>
                </a:lnTo>
                <a:lnTo>
                  <a:pt x="58" y="522"/>
                </a:lnTo>
                <a:lnTo>
                  <a:pt x="56" y="521"/>
                </a:lnTo>
                <a:lnTo>
                  <a:pt x="52" y="519"/>
                </a:lnTo>
                <a:lnTo>
                  <a:pt x="50" y="515"/>
                </a:lnTo>
                <a:lnTo>
                  <a:pt x="48" y="511"/>
                </a:lnTo>
                <a:lnTo>
                  <a:pt x="46" y="505"/>
                </a:lnTo>
                <a:lnTo>
                  <a:pt x="42" y="501"/>
                </a:lnTo>
                <a:lnTo>
                  <a:pt x="41" y="496"/>
                </a:lnTo>
                <a:lnTo>
                  <a:pt x="39" y="488"/>
                </a:lnTo>
                <a:lnTo>
                  <a:pt x="35" y="480"/>
                </a:lnTo>
                <a:lnTo>
                  <a:pt x="33" y="473"/>
                </a:lnTo>
                <a:lnTo>
                  <a:pt x="31" y="463"/>
                </a:lnTo>
                <a:lnTo>
                  <a:pt x="29" y="453"/>
                </a:lnTo>
                <a:lnTo>
                  <a:pt x="27" y="444"/>
                </a:lnTo>
                <a:lnTo>
                  <a:pt x="23" y="432"/>
                </a:lnTo>
                <a:lnTo>
                  <a:pt x="21" y="423"/>
                </a:lnTo>
                <a:lnTo>
                  <a:pt x="19" y="413"/>
                </a:lnTo>
                <a:lnTo>
                  <a:pt x="18" y="403"/>
                </a:lnTo>
                <a:lnTo>
                  <a:pt x="16" y="396"/>
                </a:lnTo>
                <a:lnTo>
                  <a:pt x="12" y="388"/>
                </a:lnTo>
                <a:lnTo>
                  <a:pt x="10" y="380"/>
                </a:lnTo>
                <a:lnTo>
                  <a:pt x="8" y="373"/>
                </a:lnTo>
                <a:lnTo>
                  <a:pt x="8" y="367"/>
                </a:lnTo>
                <a:lnTo>
                  <a:pt x="6" y="361"/>
                </a:lnTo>
                <a:lnTo>
                  <a:pt x="4" y="355"/>
                </a:lnTo>
                <a:lnTo>
                  <a:pt x="2" y="352"/>
                </a:lnTo>
                <a:lnTo>
                  <a:pt x="2" y="348"/>
                </a:lnTo>
                <a:lnTo>
                  <a:pt x="2" y="344"/>
                </a:lnTo>
                <a:lnTo>
                  <a:pt x="0" y="342"/>
                </a:lnTo>
                <a:lnTo>
                  <a:pt x="0" y="338"/>
                </a:lnTo>
                <a:lnTo>
                  <a:pt x="0" y="336"/>
                </a:lnTo>
                <a:lnTo>
                  <a:pt x="2" y="332"/>
                </a:lnTo>
                <a:lnTo>
                  <a:pt x="4" y="330"/>
                </a:lnTo>
                <a:lnTo>
                  <a:pt x="6" y="327"/>
                </a:lnTo>
                <a:lnTo>
                  <a:pt x="8" y="321"/>
                </a:lnTo>
                <a:lnTo>
                  <a:pt x="12" y="317"/>
                </a:lnTo>
                <a:lnTo>
                  <a:pt x="14" y="311"/>
                </a:lnTo>
                <a:lnTo>
                  <a:pt x="18" y="307"/>
                </a:lnTo>
                <a:lnTo>
                  <a:pt x="27" y="296"/>
                </a:lnTo>
                <a:lnTo>
                  <a:pt x="39" y="282"/>
                </a:lnTo>
                <a:lnTo>
                  <a:pt x="50" y="271"/>
                </a:lnTo>
                <a:lnTo>
                  <a:pt x="65" y="258"/>
                </a:lnTo>
                <a:lnTo>
                  <a:pt x="79" y="244"/>
                </a:lnTo>
                <a:lnTo>
                  <a:pt x="96" y="229"/>
                </a:lnTo>
                <a:lnTo>
                  <a:pt x="112" y="211"/>
                </a:lnTo>
                <a:lnTo>
                  <a:pt x="129" y="194"/>
                </a:lnTo>
                <a:lnTo>
                  <a:pt x="146" y="175"/>
                </a:lnTo>
                <a:lnTo>
                  <a:pt x="154" y="165"/>
                </a:lnTo>
                <a:lnTo>
                  <a:pt x="163" y="154"/>
                </a:lnTo>
                <a:lnTo>
                  <a:pt x="171" y="142"/>
                </a:lnTo>
                <a:lnTo>
                  <a:pt x="179" y="131"/>
                </a:lnTo>
                <a:lnTo>
                  <a:pt x="186" y="117"/>
                </a:lnTo>
                <a:lnTo>
                  <a:pt x="194" y="106"/>
                </a:lnTo>
                <a:lnTo>
                  <a:pt x="200" y="92"/>
                </a:lnTo>
                <a:lnTo>
                  <a:pt x="208" y="81"/>
                </a:lnTo>
                <a:lnTo>
                  <a:pt x="213" y="69"/>
                </a:lnTo>
                <a:lnTo>
                  <a:pt x="219" y="60"/>
                </a:lnTo>
                <a:lnTo>
                  <a:pt x="225" y="50"/>
                </a:lnTo>
                <a:lnTo>
                  <a:pt x="231" y="41"/>
                </a:lnTo>
                <a:lnTo>
                  <a:pt x="236" y="33"/>
                </a:lnTo>
                <a:lnTo>
                  <a:pt x="242" y="27"/>
                </a:lnTo>
                <a:lnTo>
                  <a:pt x="246" y="21"/>
                </a:lnTo>
                <a:lnTo>
                  <a:pt x="250" y="16"/>
                </a:lnTo>
                <a:lnTo>
                  <a:pt x="254" y="12"/>
                </a:lnTo>
                <a:lnTo>
                  <a:pt x="257" y="8"/>
                </a:lnTo>
                <a:lnTo>
                  <a:pt x="261" y="4"/>
                </a:lnTo>
                <a:lnTo>
                  <a:pt x="265" y="2"/>
                </a:lnTo>
                <a:lnTo>
                  <a:pt x="267" y="0"/>
                </a:lnTo>
                <a:lnTo>
                  <a:pt x="271" y="0"/>
                </a:lnTo>
                <a:lnTo>
                  <a:pt x="277" y="6"/>
                </a:lnTo>
                <a:lnTo>
                  <a:pt x="282" y="10"/>
                </a:lnTo>
                <a:lnTo>
                  <a:pt x="288" y="16"/>
                </a:lnTo>
                <a:lnTo>
                  <a:pt x="296" y="21"/>
                </a:lnTo>
                <a:lnTo>
                  <a:pt x="304" y="29"/>
                </a:lnTo>
                <a:lnTo>
                  <a:pt x="309" y="37"/>
                </a:lnTo>
                <a:lnTo>
                  <a:pt x="313" y="41"/>
                </a:lnTo>
                <a:lnTo>
                  <a:pt x="317" y="46"/>
                </a:lnTo>
                <a:lnTo>
                  <a:pt x="319" y="52"/>
                </a:lnTo>
                <a:lnTo>
                  <a:pt x="323" y="60"/>
                </a:lnTo>
                <a:lnTo>
                  <a:pt x="325" y="66"/>
                </a:lnTo>
                <a:lnTo>
                  <a:pt x="325" y="73"/>
                </a:lnTo>
                <a:lnTo>
                  <a:pt x="327" y="83"/>
                </a:lnTo>
                <a:lnTo>
                  <a:pt x="327" y="91"/>
                </a:lnTo>
                <a:lnTo>
                  <a:pt x="327" y="102"/>
                </a:lnTo>
                <a:lnTo>
                  <a:pt x="327" y="112"/>
                </a:lnTo>
                <a:lnTo>
                  <a:pt x="325" y="123"/>
                </a:lnTo>
                <a:lnTo>
                  <a:pt x="323" y="135"/>
                </a:lnTo>
                <a:lnTo>
                  <a:pt x="321" y="146"/>
                </a:lnTo>
                <a:lnTo>
                  <a:pt x="319" y="160"/>
                </a:lnTo>
                <a:lnTo>
                  <a:pt x="315" y="173"/>
                </a:lnTo>
                <a:lnTo>
                  <a:pt x="313" y="187"/>
                </a:lnTo>
                <a:lnTo>
                  <a:pt x="305" y="215"/>
                </a:lnTo>
                <a:lnTo>
                  <a:pt x="296" y="2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122"/>
          <p:cNvSpPr/>
          <p:nvPr/>
        </p:nvSpPr>
        <p:spPr>
          <a:xfrm>
            <a:off x="6397560" y="4052880"/>
            <a:ext cx="425520" cy="795240"/>
          </a:xfrm>
          <a:custGeom>
            <a:avLst/>
            <a:gdLst/>
            <a:ahLst/>
            <a:rect l="l" t="t" r="r" b="b"/>
            <a:pathLst>
              <a:path w="535" h="1002">
                <a:moveTo>
                  <a:pt x="140" y="768"/>
                </a:moveTo>
                <a:lnTo>
                  <a:pt x="124" y="758"/>
                </a:lnTo>
                <a:lnTo>
                  <a:pt x="109" y="747"/>
                </a:lnTo>
                <a:lnTo>
                  <a:pt x="94" y="737"/>
                </a:lnTo>
                <a:lnTo>
                  <a:pt x="80" y="729"/>
                </a:lnTo>
                <a:lnTo>
                  <a:pt x="69" y="720"/>
                </a:lnTo>
                <a:lnTo>
                  <a:pt x="57" y="712"/>
                </a:lnTo>
                <a:lnTo>
                  <a:pt x="46" y="705"/>
                </a:lnTo>
                <a:lnTo>
                  <a:pt x="36" y="699"/>
                </a:lnTo>
                <a:lnTo>
                  <a:pt x="28" y="691"/>
                </a:lnTo>
                <a:lnTo>
                  <a:pt x="21" y="687"/>
                </a:lnTo>
                <a:lnTo>
                  <a:pt x="13" y="681"/>
                </a:lnTo>
                <a:lnTo>
                  <a:pt x="9" y="676"/>
                </a:lnTo>
                <a:lnTo>
                  <a:pt x="5" y="672"/>
                </a:lnTo>
                <a:lnTo>
                  <a:pt x="2" y="670"/>
                </a:lnTo>
                <a:lnTo>
                  <a:pt x="0" y="666"/>
                </a:lnTo>
                <a:lnTo>
                  <a:pt x="0" y="664"/>
                </a:lnTo>
                <a:lnTo>
                  <a:pt x="0" y="662"/>
                </a:lnTo>
                <a:lnTo>
                  <a:pt x="2" y="660"/>
                </a:lnTo>
                <a:lnTo>
                  <a:pt x="5" y="658"/>
                </a:lnTo>
                <a:lnTo>
                  <a:pt x="9" y="657"/>
                </a:lnTo>
                <a:lnTo>
                  <a:pt x="15" y="657"/>
                </a:lnTo>
                <a:lnTo>
                  <a:pt x="21" y="655"/>
                </a:lnTo>
                <a:lnTo>
                  <a:pt x="28" y="655"/>
                </a:lnTo>
                <a:lnTo>
                  <a:pt x="38" y="655"/>
                </a:lnTo>
                <a:lnTo>
                  <a:pt x="48" y="655"/>
                </a:lnTo>
                <a:lnTo>
                  <a:pt x="59" y="655"/>
                </a:lnTo>
                <a:lnTo>
                  <a:pt x="73" y="657"/>
                </a:lnTo>
                <a:lnTo>
                  <a:pt x="86" y="657"/>
                </a:lnTo>
                <a:lnTo>
                  <a:pt x="101" y="658"/>
                </a:lnTo>
                <a:lnTo>
                  <a:pt x="117" y="660"/>
                </a:lnTo>
                <a:lnTo>
                  <a:pt x="134" y="662"/>
                </a:lnTo>
                <a:lnTo>
                  <a:pt x="153" y="664"/>
                </a:lnTo>
                <a:lnTo>
                  <a:pt x="172" y="666"/>
                </a:lnTo>
                <a:lnTo>
                  <a:pt x="190" y="668"/>
                </a:lnTo>
                <a:lnTo>
                  <a:pt x="207" y="670"/>
                </a:lnTo>
                <a:lnTo>
                  <a:pt x="222" y="672"/>
                </a:lnTo>
                <a:lnTo>
                  <a:pt x="238" y="674"/>
                </a:lnTo>
                <a:lnTo>
                  <a:pt x="253" y="676"/>
                </a:lnTo>
                <a:lnTo>
                  <a:pt x="266" y="678"/>
                </a:lnTo>
                <a:lnTo>
                  <a:pt x="278" y="678"/>
                </a:lnTo>
                <a:lnTo>
                  <a:pt x="289" y="680"/>
                </a:lnTo>
                <a:lnTo>
                  <a:pt x="301" y="680"/>
                </a:lnTo>
                <a:lnTo>
                  <a:pt x="311" y="680"/>
                </a:lnTo>
                <a:lnTo>
                  <a:pt x="320" y="680"/>
                </a:lnTo>
                <a:lnTo>
                  <a:pt x="328" y="680"/>
                </a:lnTo>
                <a:lnTo>
                  <a:pt x="336" y="680"/>
                </a:lnTo>
                <a:lnTo>
                  <a:pt x="341" y="678"/>
                </a:lnTo>
                <a:lnTo>
                  <a:pt x="347" y="676"/>
                </a:lnTo>
                <a:lnTo>
                  <a:pt x="349" y="672"/>
                </a:lnTo>
                <a:lnTo>
                  <a:pt x="351" y="668"/>
                </a:lnTo>
                <a:lnTo>
                  <a:pt x="353" y="662"/>
                </a:lnTo>
                <a:lnTo>
                  <a:pt x="355" y="655"/>
                </a:lnTo>
                <a:lnTo>
                  <a:pt x="357" y="645"/>
                </a:lnTo>
                <a:lnTo>
                  <a:pt x="360" y="633"/>
                </a:lnTo>
                <a:lnTo>
                  <a:pt x="362" y="622"/>
                </a:lnTo>
                <a:lnTo>
                  <a:pt x="364" y="609"/>
                </a:lnTo>
                <a:lnTo>
                  <a:pt x="364" y="593"/>
                </a:lnTo>
                <a:lnTo>
                  <a:pt x="366" y="578"/>
                </a:lnTo>
                <a:lnTo>
                  <a:pt x="368" y="561"/>
                </a:lnTo>
                <a:lnTo>
                  <a:pt x="370" y="541"/>
                </a:lnTo>
                <a:lnTo>
                  <a:pt x="370" y="520"/>
                </a:lnTo>
                <a:lnTo>
                  <a:pt x="370" y="499"/>
                </a:lnTo>
                <a:lnTo>
                  <a:pt x="372" y="478"/>
                </a:lnTo>
                <a:lnTo>
                  <a:pt x="372" y="455"/>
                </a:lnTo>
                <a:lnTo>
                  <a:pt x="372" y="430"/>
                </a:lnTo>
                <a:lnTo>
                  <a:pt x="370" y="405"/>
                </a:lnTo>
                <a:lnTo>
                  <a:pt x="368" y="380"/>
                </a:lnTo>
                <a:lnTo>
                  <a:pt x="366" y="355"/>
                </a:lnTo>
                <a:lnTo>
                  <a:pt x="364" y="330"/>
                </a:lnTo>
                <a:lnTo>
                  <a:pt x="360" y="305"/>
                </a:lnTo>
                <a:lnTo>
                  <a:pt x="359" y="278"/>
                </a:lnTo>
                <a:lnTo>
                  <a:pt x="353" y="253"/>
                </a:lnTo>
                <a:lnTo>
                  <a:pt x="345" y="200"/>
                </a:lnTo>
                <a:lnTo>
                  <a:pt x="334" y="146"/>
                </a:lnTo>
                <a:lnTo>
                  <a:pt x="320" y="90"/>
                </a:lnTo>
                <a:lnTo>
                  <a:pt x="307" y="35"/>
                </a:lnTo>
                <a:lnTo>
                  <a:pt x="391" y="17"/>
                </a:lnTo>
                <a:lnTo>
                  <a:pt x="474" y="0"/>
                </a:lnTo>
                <a:lnTo>
                  <a:pt x="478" y="12"/>
                </a:lnTo>
                <a:lnTo>
                  <a:pt x="479" y="25"/>
                </a:lnTo>
                <a:lnTo>
                  <a:pt x="483" y="40"/>
                </a:lnTo>
                <a:lnTo>
                  <a:pt x="485" y="56"/>
                </a:lnTo>
                <a:lnTo>
                  <a:pt x="489" y="75"/>
                </a:lnTo>
                <a:lnTo>
                  <a:pt x="493" y="94"/>
                </a:lnTo>
                <a:lnTo>
                  <a:pt x="497" y="117"/>
                </a:lnTo>
                <a:lnTo>
                  <a:pt x="501" y="140"/>
                </a:lnTo>
                <a:lnTo>
                  <a:pt x="504" y="165"/>
                </a:lnTo>
                <a:lnTo>
                  <a:pt x="506" y="190"/>
                </a:lnTo>
                <a:lnTo>
                  <a:pt x="510" y="219"/>
                </a:lnTo>
                <a:lnTo>
                  <a:pt x="514" y="250"/>
                </a:lnTo>
                <a:lnTo>
                  <a:pt x="518" y="280"/>
                </a:lnTo>
                <a:lnTo>
                  <a:pt x="520" y="313"/>
                </a:lnTo>
                <a:lnTo>
                  <a:pt x="524" y="347"/>
                </a:lnTo>
                <a:lnTo>
                  <a:pt x="526" y="384"/>
                </a:lnTo>
                <a:lnTo>
                  <a:pt x="527" y="420"/>
                </a:lnTo>
                <a:lnTo>
                  <a:pt x="529" y="455"/>
                </a:lnTo>
                <a:lnTo>
                  <a:pt x="531" y="488"/>
                </a:lnTo>
                <a:lnTo>
                  <a:pt x="533" y="520"/>
                </a:lnTo>
                <a:lnTo>
                  <a:pt x="533" y="549"/>
                </a:lnTo>
                <a:lnTo>
                  <a:pt x="535" y="578"/>
                </a:lnTo>
                <a:lnTo>
                  <a:pt x="535" y="607"/>
                </a:lnTo>
                <a:lnTo>
                  <a:pt x="535" y="632"/>
                </a:lnTo>
                <a:lnTo>
                  <a:pt x="535" y="657"/>
                </a:lnTo>
                <a:lnTo>
                  <a:pt x="535" y="680"/>
                </a:lnTo>
                <a:lnTo>
                  <a:pt x="533" y="701"/>
                </a:lnTo>
                <a:lnTo>
                  <a:pt x="533" y="722"/>
                </a:lnTo>
                <a:lnTo>
                  <a:pt x="531" y="741"/>
                </a:lnTo>
                <a:lnTo>
                  <a:pt x="529" y="758"/>
                </a:lnTo>
                <a:lnTo>
                  <a:pt x="527" y="776"/>
                </a:lnTo>
                <a:lnTo>
                  <a:pt x="526" y="793"/>
                </a:lnTo>
                <a:lnTo>
                  <a:pt x="520" y="818"/>
                </a:lnTo>
                <a:lnTo>
                  <a:pt x="514" y="843"/>
                </a:lnTo>
                <a:lnTo>
                  <a:pt x="506" y="866"/>
                </a:lnTo>
                <a:lnTo>
                  <a:pt x="499" y="887"/>
                </a:lnTo>
                <a:lnTo>
                  <a:pt x="489" y="906"/>
                </a:lnTo>
                <a:lnTo>
                  <a:pt x="479" y="925"/>
                </a:lnTo>
                <a:lnTo>
                  <a:pt x="476" y="933"/>
                </a:lnTo>
                <a:lnTo>
                  <a:pt x="470" y="941"/>
                </a:lnTo>
                <a:lnTo>
                  <a:pt x="466" y="948"/>
                </a:lnTo>
                <a:lnTo>
                  <a:pt x="462" y="956"/>
                </a:lnTo>
                <a:lnTo>
                  <a:pt x="455" y="962"/>
                </a:lnTo>
                <a:lnTo>
                  <a:pt x="447" y="967"/>
                </a:lnTo>
                <a:lnTo>
                  <a:pt x="441" y="973"/>
                </a:lnTo>
                <a:lnTo>
                  <a:pt x="435" y="977"/>
                </a:lnTo>
                <a:lnTo>
                  <a:pt x="430" y="981"/>
                </a:lnTo>
                <a:lnTo>
                  <a:pt x="424" y="985"/>
                </a:lnTo>
                <a:lnTo>
                  <a:pt x="412" y="992"/>
                </a:lnTo>
                <a:lnTo>
                  <a:pt x="401" y="996"/>
                </a:lnTo>
                <a:lnTo>
                  <a:pt x="391" y="1000"/>
                </a:lnTo>
                <a:lnTo>
                  <a:pt x="382" y="1000"/>
                </a:lnTo>
                <a:lnTo>
                  <a:pt x="372" y="1002"/>
                </a:lnTo>
                <a:lnTo>
                  <a:pt x="366" y="1002"/>
                </a:lnTo>
                <a:lnTo>
                  <a:pt x="362" y="1000"/>
                </a:lnTo>
                <a:lnTo>
                  <a:pt x="357" y="998"/>
                </a:lnTo>
                <a:lnTo>
                  <a:pt x="353" y="996"/>
                </a:lnTo>
                <a:lnTo>
                  <a:pt x="347" y="994"/>
                </a:lnTo>
                <a:lnTo>
                  <a:pt x="343" y="991"/>
                </a:lnTo>
                <a:lnTo>
                  <a:pt x="339" y="987"/>
                </a:lnTo>
                <a:lnTo>
                  <a:pt x="336" y="983"/>
                </a:lnTo>
                <a:lnTo>
                  <a:pt x="330" y="977"/>
                </a:lnTo>
                <a:lnTo>
                  <a:pt x="326" y="971"/>
                </a:lnTo>
                <a:lnTo>
                  <a:pt x="322" y="966"/>
                </a:lnTo>
                <a:lnTo>
                  <a:pt x="318" y="958"/>
                </a:lnTo>
                <a:lnTo>
                  <a:pt x="316" y="950"/>
                </a:lnTo>
                <a:lnTo>
                  <a:pt x="313" y="941"/>
                </a:lnTo>
                <a:lnTo>
                  <a:pt x="311" y="931"/>
                </a:lnTo>
                <a:lnTo>
                  <a:pt x="307" y="920"/>
                </a:lnTo>
                <a:lnTo>
                  <a:pt x="305" y="910"/>
                </a:lnTo>
                <a:lnTo>
                  <a:pt x="301" y="898"/>
                </a:lnTo>
                <a:lnTo>
                  <a:pt x="295" y="889"/>
                </a:lnTo>
                <a:lnTo>
                  <a:pt x="289" y="879"/>
                </a:lnTo>
                <a:lnTo>
                  <a:pt x="282" y="870"/>
                </a:lnTo>
                <a:lnTo>
                  <a:pt x="272" y="860"/>
                </a:lnTo>
                <a:lnTo>
                  <a:pt x="263" y="850"/>
                </a:lnTo>
                <a:lnTo>
                  <a:pt x="253" y="841"/>
                </a:lnTo>
                <a:lnTo>
                  <a:pt x="241" y="831"/>
                </a:lnTo>
                <a:lnTo>
                  <a:pt x="230" y="822"/>
                </a:lnTo>
                <a:lnTo>
                  <a:pt x="217" y="812"/>
                </a:lnTo>
                <a:lnTo>
                  <a:pt x="203" y="804"/>
                </a:lnTo>
                <a:lnTo>
                  <a:pt x="188" y="795"/>
                </a:lnTo>
                <a:lnTo>
                  <a:pt x="172" y="787"/>
                </a:lnTo>
                <a:lnTo>
                  <a:pt x="157" y="777"/>
                </a:lnTo>
                <a:lnTo>
                  <a:pt x="140" y="76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123"/>
          <p:cNvSpPr/>
          <p:nvPr/>
        </p:nvSpPr>
        <p:spPr>
          <a:xfrm>
            <a:off x="6993000" y="3792600"/>
            <a:ext cx="301680" cy="333360"/>
          </a:xfrm>
          <a:custGeom>
            <a:avLst/>
            <a:gdLst/>
            <a:ahLst/>
            <a:rect l="l" t="t" r="r" b="b"/>
            <a:pathLst>
              <a:path w="380" h="418">
                <a:moveTo>
                  <a:pt x="342" y="220"/>
                </a:moveTo>
                <a:lnTo>
                  <a:pt x="348" y="232"/>
                </a:lnTo>
                <a:lnTo>
                  <a:pt x="353" y="242"/>
                </a:lnTo>
                <a:lnTo>
                  <a:pt x="359" y="253"/>
                </a:lnTo>
                <a:lnTo>
                  <a:pt x="365" y="263"/>
                </a:lnTo>
                <a:lnTo>
                  <a:pt x="369" y="272"/>
                </a:lnTo>
                <a:lnTo>
                  <a:pt x="372" y="282"/>
                </a:lnTo>
                <a:lnTo>
                  <a:pt x="374" y="292"/>
                </a:lnTo>
                <a:lnTo>
                  <a:pt x="378" y="299"/>
                </a:lnTo>
                <a:lnTo>
                  <a:pt x="378" y="309"/>
                </a:lnTo>
                <a:lnTo>
                  <a:pt x="380" y="316"/>
                </a:lnTo>
                <a:lnTo>
                  <a:pt x="380" y="324"/>
                </a:lnTo>
                <a:lnTo>
                  <a:pt x="378" y="332"/>
                </a:lnTo>
                <a:lnTo>
                  <a:pt x="376" y="339"/>
                </a:lnTo>
                <a:lnTo>
                  <a:pt x="374" y="347"/>
                </a:lnTo>
                <a:lnTo>
                  <a:pt x="371" y="355"/>
                </a:lnTo>
                <a:lnTo>
                  <a:pt x="367" y="361"/>
                </a:lnTo>
                <a:lnTo>
                  <a:pt x="357" y="374"/>
                </a:lnTo>
                <a:lnTo>
                  <a:pt x="348" y="384"/>
                </a:lnTo>
                <a:lnTo>
                  <a:pt x="338" y="395"/>
                </a:lnTo>
                <a:lnTo>
                  <a:pt x="330" y="403"/>
                </a:lnTo>
                <a:lnTo>
                  <a:pt x="321" y="411"/>
                </a:lnTo>
                <a:lnTo>
                  <a:pt x="313" y="414"/>
                </a:lnTo>
                <a:lnTo>
                  <a:pt x="311" y="416"/>
                </a:lnTo>
                <a:lnTo>
                  <a:pt x="307" y="418"/>
                </a:lnTo>
                <a:lnTo>
                  <a:pt x="305" y="418"/>
                </a:lnTo>
                <a:lnTo>
                  <a:pt x="301" y="418"/>
                </a:lnTo>
                <a:lnTo>
                  <a:pt x="300" y="418"/>
                </a:lnTo>
                <a:lnTo>
                  <a:pt x="296" y="416"/>
                </a:lnTo>
                <a:lnTo>
                  <a:pt x="290" y="411"/>
                </a:lnTo>
                <a:lnTo>
                  <a:pt x="282" y="407"/>
                </a:lnTo>
                <a:lnTo>
                  <a:pt x="275" y="399"/>
                </a:lnTo>
                <a:lnTo>
                  <a:pt x="267" y="389"/>
                </a:lnTo>
                <a:lnTo>
                  <a:pt x="257" y="380"/>
                </a:lnTo>
                <a:lnTo>
                  <a:pt x="246" y="366"/>
                </a:lnTo>
                <a:lnTo>
                  <a:pt x="234" y="353"/>
                </a:lnTo>
                <a:lnTo>
                  <a:pt x="221" y="338"/>
                </a:lnTo>
                <a:lnTo>
                  <a:pt x="207" y="320"/>
                </a:lnTo>
                <a:lnTo>
                  <a:pt x="192" y="301"/>
                </a:lnTo>
                <a:lnTo>
                  <a:pt x="175" y="280"/>
                </a:lnTo>
                <a:lnTo>
                  <a:pt x="159" y="259"/>
                </a:lnTo>
                <a:lnTo>
                  <a:pt x="140" y="234"/>
                </a:lnTo>
                <a:lnTo>
                  <a:pt x="123" y="209"/>
                </a:lnTo>
                <a:lnTo>
                  <a:pt x="104" y="184"/>
                </a:lnTo>
                <a:lnTo>
                  <a:pt x="87" y="159"/>
                </a:lnTo>
                <a:lnTo>
                  <a:pt x="71" y="138"/>
                </a:lnTo>
                <a:lnTo>
                  <a:pt x="58" y="117"/>
                </a:lnTo>
                <a:lnTo>
                  <a:pt x="46" y="98"/>
                </a:lnTo>
                <a:lnTo>
                  <a:pt x="35" y="80"/>
                </a:lnTo>
                <a:lnTo>
                  <a:pt x="25" y="65"/>
                </a:lnTo>
                <a:lnTo>
                  <a:pt x="17" y="52"/>
                </a:lnTo>
                <a:lnTo>
                  <a:pt x="10" y="40"/>
                </a:lnTo>
                <a:lnTo>
                  <a:pt x="6" y="29"/>
                </a:lnTo>
                <a:lnTo>
                  <a:pt x="2" y="19"/>
                </a:lnTo>
                <a:lnTo>
                  <a:pt x="0" y="13"/>
                </a:lnTo>
                <a:lnTo>
                  <a:pt x="0" y="7"/>
                </a:lnTo>
                <a:lnTo>
                  <a:pt x="0" y="2"/>
                </a:lnTo>
                <a:lnTo>
                  <a:pt x="2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7" y="2"/>
                </a:lnTo>
                <a:lnTo>
                  <a:pt x="23" y="4"/>
                </a:lnTo>
                <a:lnTo>
                  <a:pt x="31" y="5"/>
                </a:lnTo>
                <a:lnTo>
                  <a:pt x="39" y="9"/>
                </a:lnTo>
                <a:lnTo>
                  <a:pt x="46" y="11"/>
                </a:lnTo>
                <a:lnTo>
                  <a:pt x="56" y="15"/>
                </a:lnTo>
                <a:lnTo>
                  <a:pt x="65" y="19"/>
                </a:lnTo>
                <a:lnTo>
                  <a:pt x="77" y="23"/>
                </a:lnTo>
                <a:lnTo>
                  <a:pt x="88" y="29"/>
                </a:lnTo>
                <a:lnTo>
                  <a:pt x="100" y="34"/>
                </a:lnTo>
                <a:lnTo>
                  <a:pt x="115" y="40"/>
                </a:lnTo>
                <a:lnTo>
                  <a:pt x="129" y="46"/>
                </a:lnTo>
                <a:lnTo>
                  <a:pt x="144" y="52"/>
                </a:lnTo>
                <a:lnTo>
                  <a:pt x="161" y="57"/>
                </a:lnTo>
                <a:lnTo>
                  <a:pt x="175" y="65"/>
                </a:lnTo>
                <a:lnTo>
                  <a:pt x="188" y="73"/>
                </a:lnTo>
                <a:lnTo>
                  <a:pt x="204" y="80"/>
                </a:lnTo>
                <a:lnTo>
                  <a:pt x="215" y="88"/>
                </a:lnTo>
                <a:lnTo>
                  <a:pt x="242" y="107"/>
                </a:lnTo>
                <a:lnTo>
                  <a:pt x="265" y="126"/>
                </a:lnTo>
                <a:lnTo>
                  <a:pt x="277" y="136"/>
                </a:lnTo>
                <a:lnTo>
                  <a:pt x="288" y="148"/>
                </a:lnTo>
                <a:lnTo>
                  <a:pt x="298" y="159"/>
                </a:lnTo>
                <a:lnTo>
                  <a:pt x="307" y="171"/>
                </a:lnTo>
                <a:lnTo>
                  <a:pt x="317" y="182"/>
                </a:lnTo>
                <a:lnTo>
                  <a:pt x="325" y="196"/>
                </a:lnTo>
                <a:lnTo>
                  <a:pt x="334" y="207"/>
                </a:lnTo>
                <a:lnTo>
                  <a:pt x="342" y="2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124"/>
          <p:cNvSpPr/>
          <p:nvPr/>
        </p:nvSpPr>
        <p:spPr>
          <a:xfrm>
            <a:off x="6203880" y="3462480"/>
            <a:ext cx="959040" cy="720720"/>
          </a:xfrm>
          <a:custGeom>
            <a:avLst/>
            <a:gdLst/>
            <a:ahLst/>
            <a:rect l="l" t="t" r="r" b="b"/>
            <a:pathLst>
              <a:path w="1207" h="908">
                <a:moveTo>
                  <a:pt x="90" y="720"/>
                </a:moveTo>
                <a:lnTo>
                  <a:pt x="102" y="716"/>
                </a:lnTo>
                <a:lnTo>
                  <a:pt x="117" y="712"/>
                </a:lnTo>
                <a:lnTo>
                  <a:pt x="134" y="707"/>
                </a:lnTo>
                <a:lnTo>
                  <a:pt x="152" y="699"/>
                </a:lnTo>
                <a:lnTo>
                  <a:pt x="171" y="691"/>
                </a:lnTo>
                <a:lnTo>
                  <a:pt x="194" y="682"/>
                </a:lnTo>
                <a:lnTo>
                  <a:pt x="217" y="670"/>
                </a:lnTo>
                <a:lnTo>
                  <a:pt x="240" y="657"/>
                </a:lnTo>
                <a:lnTo>
                  <a:pt x="267" y="643"/>
                </a:lnTo>
                <a:lnTo>
                  <a:pt x="294" y="628"/>
                </a:lnTo>
                <a:lnTo>
                  <a:pt x="322" y="609"/>
                </a:lnTo>
                <a:lnTo>
                  <a:pt x="353" y="591"/>
                </a:lnTo>
                <a:lnTo>
                  <a:pt x="386" y="570"/>
                </a:lnTo>
                <a:lnTo>
                  <a:pt x="418" y="547"/>
                </a:lnTo>
                <a:lnTo>
                  <a:pt x="451" y="524"/>
                </a:lnTo>
                <a:lnTo>
                  <a:pt x="487" y="497"/>
                </a:lnTo>
                <a:lnTo>
                  <a:pt x="522" y="474"/>
                </a:lnTo>
                <a:lnTo>
                  <a:pt x="557" y="451"/>
                </a:lnTo>
                <a:lnTo>
                  <a:pt x="589" y="428"/>
                </a:lnTo>
                <a:lnTo>
                  <a:pt x="622" y="405"/>
                </a:lnTo>
                <a:lnTo>
                  <a:pt x="652" y="384"/>
                </a:lnTo>
                <a:lnTo>
                  <a:pt x="681" y="363"/>
                </a:lnTo>
                <a:lnTo>
                  <a:pt x="710" y="342"/>
                </a:lnTo>
                <a:lnTo>
                  <a:pt x="737" y="323"/>
                </a:lnTo>
                <a:lnTo>
                  <a:pt x="764" y="303"/>
                </a:lnTo>
                <a:lnTo>
                  <a:pt x="789" y="284"/>
                </a:lnTo>
                <a:lnTo>
                  <a:pt x="812" y="267"/>
                </a:lnTo>
                <a:lnTo>
                  <a:pt x="835" y="250"/>
                </a:lnTo>
                <a:lnTo>
                  <a:pt x="856" y="232"/>
                </a:lnTo>
                <a:lnTo>
                  <a:pt x="875" y="215"/>
                </a:lnTo>
                <a:lnTo>
                  <a:pt x="894" y="200"/>
                </a:lnTo>
                <a:lnTo>
                  <a:pt x="912" y="184"/>
                </a:lnTo>
                <a:lnTo>
                  <a:pt x="927" y="169"/>
                </a:lnTo>
                <a:lnTo>
                  <a:pt x="942" y="154"/>
                </a:lnTo>
                <a:lnTo>
                  <a:pt x="956" y="140"/>
                </a:lnTo>
                <a:lnTo>
                  <a:pt x="969" y="129"/>
                </a:lnTo>
                <a:lnTo>
                  <a:pt x="981" y="115"/>
                </a:lnTo>
                <a:lnTo>
                  <a:pt x="992" y="106"/>
                </a:lnTo>
                <a:lnTo>
                  <a:pt x="1002" y="94"/>
                </a:lnTo>
                <a:lnTo>
                  <a:pt x="1009" y="85"/>
                </a:lnTo>
                <a:lnTo>
                  <a:pt x="1019" y="75"/>
                </a:lnTo>
                <a:lnTo>
                  <a:pt x="1025" y="65"/>
                </a:lnTo>
                <a:lnTo>
                  <a:pt x="1033" y="58"/>
                </a:lnTo>
                <a:lnTo>
                  <a:pt x="1038" y="48"/>
                </a:lnTo>
                <a:lnTo>
                  <a:pt x="1042" y="41"/>
                </a:lnTo>
                <a:lnTo>
                  <a:pt x="1046" y="35"/>
                </a:lnTo>
                <a:lnTo>
                  <a:pt x="1050" y="27"/>
                </a:lnTo>
                <a:lnTo>
                  <a:pt x="1052" y="21"/>
                </a:lnTo>
                <a:lnTo>
                  <a:pt x="1054" y="16"/>
                </a:lnTo>
                <a:lnTo>
                  <a:pt x="1057" y="12"/>
                </a:lnTo>
                <a:lnTo>
                  <a:pt x="1059" y="10"/>
                </a:lnTo>
                <a:lnTo>
                  <a:pt x="1061" y="8"/>
                </a:lnTo>
                <a:lnTo>
                  <a:pt x="1065" y="4"/>
                </a:lnTo>
                <a:lnTo>
                  <a:pt x="1067" y="4"/>
                </a:lnTo>
                <a:lnTo>
                  <a:pt x="1073" y="2"/>
                </a:lnTo>
                <a:lnTo>
                  <a:pt x="1079" y="0"/>
                </a:lnTo>
                <a:lnTo>
                  <a:pt x="1086" y="2"/>
                </a:lnTo>
                <a:lnTo>
                  <a:pt x="1094" y="4"/>
                </a:lnTo>
                <a:lnTo>
                  <a:pt x="1104" y="10"/>
                </a:lnTo>
                <a:lnTo>
                  <a:pt x="1109" y="17"/>
                </a:lnTo>
                <a:lnTo>
                  <a:pt x="1115" y="27"/>
                </a:lnTo>
                <a:lnTo>
                  <a:pt x="1123" y="35"/>
                </a:lnTo>
                <a:lnTo>
                  <a:pt x="1130" y="44"/>
                </a:lnTo>
                <a:lnTo>
                  <a:pt x="1140" y="52"/>
                </a:lnTo>
                <a:lnTo>
                  <a:pt x="1150" y="62"/>
                </a:lnTo>
                <a:lnTo>
                  <a:pt x="1169" y="79"/>
                </a:lnTo>
                <a:lnTo>
                  <a:pt x="1176" y="90"/>
                </a:lnTo>
                <a:lnTo>
                  <a:pt x="1184" y="102"/>
                </a:lnTo>
                <a:lnTo>
                  <a:pt x="1192" y="113"/>
                </a:lnTo>
                <a:lnTo>
                  <a:pt x="1196" y="123"/>
                </a:lnTo>
                <a:lnTo>
                  <a:pt x="1201" y="131"/>
                </a:lnTo>
                <a:lnTo>
                  <a:pt x="1203" y="138"/>
                </a:lnTo>
                <a:lnTo>
                  <a:pt x="1205" y="144"/>
                </a:lnTo>
                <a:lnTo>
                  <a:pt x="1207" y="148"/>
                </a:lnTo>
                <a:lnTo>
                  <a:pt x="1205" y="152"/>
                </a:lnTo>
                <a:lnTo>
                  <a:pt x="1205" y="154"/>
                </a:lnTo>
                <a:lnTo>
                  <a:pt x="1201" y="158"/>
                </a:lnTo>
                <a:lnTo>
                  <a:pt x="1200" y="161"/>
                </a:lnTo>
                <a:lnTo>
                  <a:pt x="1196" y="165"/>
                </a:lnTo>
                <a:lnTo>
                  <a:pt x="1190" y="169"/>
                </a:lnTo>
                <a:lnTo>
                  <a:pt x="1184" y="175"/>
                </a:lnTo>
                <a:lnTo>
                  <a:pt x="1178" y="181"/>
                </a:lnTo>
                <a:lnTo>
                  <a:pt x="1173" y="186"/>
                </a:lnTo>
                <a:lnTo>
                  <a:pt x="1165" y="192"/>
                </a:lnTo>
                <a:lnTo>
                  <a:pt x="1155" y="198"/>
                </a:lnTo>
                <a:lnTo>
                  <a:pt x="1146" y="204"/>
                </a:lnTo>
                <a:lnTo>
                  <a:pt x="1136" y="209"/>
                </a:lnTo>
                <a:lnTo>
                  <a:pt x="1127" y="217"/>
                </a:lnTo>
                <a:lnTo>
                  <a:pt x="1115" y="223"/>
                </a:lnTo>
                <a:lnTo>
                  <a:pt x="1104" y="231"/>
                </a:lnTo>
                <a:lnTo>
                  <a:pt x="1088" y="240"/>
                </a:lnTo>
                <a:lnTo>
                  <a:pt x="1071" y="250"/>
                </a:lnTo>
                <a:lnTo>
                  <a:pt x="1054" y="259"/>
                </a:lnTo>
                <a:lnTo>
                  <a:pt x="1034" y="271"/>
                </a:lnTo>
                <a:lnTo>
                  <a:pt x="1013" y="284"/>
                </a:lnTo>
                <a:lnTo>
                  <a:pt x="990" y="298"/>
                </a:lnTo>
                <a:lnTo>
                  <a:pt x="965" y="311"/>
                </a:lnTo>
                <a:lnTo>
                  <a:pt x="940" y="327"/>
                </a:lnTo>
                <a:lnTo>
                  <a:pt x="912" y="344"/>
                </a:lnTo>
                <a:lnTo>
                  <a:pt x="883" y="361"/>
                </a:lnTo>
                <a:lnTo>
                  <a:pt x="854" y="378"/>
                </a:lnTo>
                <a:lnTo>
                  <a:pt x="821" y="398"/>
                </a:lnTo>
                <a:lnTo>
                  <a:pt x="789" y="419"/>
                </a:lnTo>
                <a:lnTo>
                  <a:pt x="754" y="440"/>
                </a:lnTo>
                <a:lnTo>
                  <a:pt x="718" y="463"/>
                </a:lnTo>
                <a:lnTo>
                  <a:pt x="679" y="486"/>
                </a:lnTo>
                <a:lnTo>
                  <a:pt x="660" y="499"/>
                </a:lnTo>
                <a:lnTo>
                  <a:pt x="641" y="511"/>
                </a:lnTo>
                <a:lnTo>
                  <a:pt x="622" y="520"/>
                </a:lnTo>
                <a:lnTo>
                  <a:pt x="604" y="532"/>
                </a:lnTo>
                <a:lnTo>
                  <a:pt x="587" y="543"/>
                </a:lnTo>
                <a:lnTo>
                  <a:pt x="570" y="553"/>
                </a:lnTo>
                <a:lnTo>
                  <a:pt x="555" y="563"/>
                </a:lnTo>
                <a:lnTo>
                  <a:pt x="541" y="572"/>
                </a:lnTo>
                <a:lnTo>
                  <a:pt x="526" y="582"/>
                </a:lnTo>
                <a:lnTo>
                  <a:pt x="512" y="589"/>
                </a:lnTo>
                <a:lnTo>
                  <a:pt x="499" y="599"/>
                </a:lnTo>
                <a:lnTo>
                  <a:pt x="487" y="607"/>
                </a:lnTo>
                <a:lnTo>
                  <a:pt x="476" y="614"/>
                </a:lnTo>
                <a:lnTo>
                  <a:pt x="466" y="622"/>
                </a:lnTo>
                <a:lnTo>
                  <a:pt x="455" y="628"/>
                </a:lnTo>
                <a:lnTo>
                  <a:pt x="445" y="636"/>
                </a:lnTo>
                <a:lnTo>
                  <a:pt x="437" y="641"/>
                </a:lnTo>
                <a:lnTo>
                  <a:pt x="430" y="647"/>
                </a:lnTo>
                <a:lnTo>
                  <a:pt x="422" y="653"/>
                </a:lnTo>
                <a:lnTo>
                  <a:pt x="414" y="659"/>
                </a:lnTo>
                <a:lnTo>
                  <a:pt x="409" y="664"/>
                </a:lnTo>
                <a:lnTo>
                  <a:pt x="403" y="668"/>
                </a:lnTo>
                <a:lnTo>
                  <a:pt x="399" y="672"/>
                </a:lnTo>
                <a:lnTo>
                  <a:pt x="395" y="676"/>
                </a:lnTo>
                <a:lnTo>
                  <a:pt x="391" y="680"/>
                </a:lnTo>
                <a:lnTo>
                  <a:pt x="388" y="684"/>
                </a:lnTo>
                <a:lnTo>
                  <a:pt x="386" y="685"/>
                </a:lnTo>
                <a:lnTo>
                  <a:pt x="384" y="689"/>
                </a:lnTo>
                <a:lnTo>
                  <a:pt x="384" y="691"/>
                </a:lnTo>
                <a:lnTo>
                  <a:pt x="384" y="693"/>
                </a:lnTo>
                <a:lnTo>
                  <a:pt x="384" y="695"/>
                </a:lnTo>
                <a:lnTo>
                  <a:pt x="384" y="697"/>
                </a:lnTo>
                <a:lnTo>
                  <a:pt x="390" y="701"/>
                </a:lnTo>
                <a:lnTo>
                  <a:pt x="397" y="705"/>
                </a:lnTo>
                <a:lnTo>
                  <a:pt x="405" y="709"/>
                </a:lnTo>
                <a:lnTo>
                  <a:pt x="413" y="710"/>
                </a:lnTo>
                <a:lnTo>
                  <a:pt x="424" y="712"/>
                </a:lnTo>
                <a:lnTo>
                  <a:pt x="436" y="712"/>
                </a:lnTo>
                <a:lnTo>
                  <a:pt x="441" y="712"/>
                </a:lnTo>
                <a:lnTo>
                  <a:pt x="447" y="710"/>
                </a:lnTo>
                <a:lnTo>
                  <a:pt x="455" y="710"/>
                </a:lnTo>
                <a:lnTo>
                  <a:pt x="462" y="709"/>
                </a:lnTo>
                <a:lnTo>
                  <a:pt x="470" y="707"/>
                </a:lnTo>
                <a:lnTo>
                  <a:pt x="480" y="707"/>
                </a:lnTo>
                <a:lnTo>
                  <a:pt x="489" y="705"/>
                </a:lnTo>
                <a:lnTo>
                  <a:pt x="503" y="703"/>
                </a:lnTo>
                <a:lnTo>
                  <a:pt x="518" y="701"/>
                </a:lnTo>
                <a:lnTo>
                  <a:pt x="533" y="699"/>
                </a:lnTo>
                <a:lnTo>
                  <a:pt x="551" y="695"/>
                </a:lnTo>
                <a:lnTo>
                  <a:pt x="570" y="691"/>
                </a:lnTo>
                <a:lnTo>
                  <a:pt x="593" y="687"/>
                </a:lnTo>
                <a:lnTo>
                  <a:pt x="616" y="684"/>
                </a:lnTo>
                <a:lnTo>
                  <a:pt x="641" y="678"/>
                </a:lnTo>
                <a:lnTo>
                  <a:pt x="654" y="676"/>
                </a:lnTo>
                <a:lnTo>
                  <a:pt x="668" y="674"/>
                </a:lnTo>
                <a:lnTo>
                  <a:pt x="681" y="670"/>
                </a:lnTo>
                <a:lnTo>
                  <a:pt x="697" y="668"/>
                </a:lnTo>
                <a:lnTo>
                  <a:pt x="712" y="664"/>
                </a:lnTo>
                <a:lnTo>
                  <a:pt x="727" y="662"/>
                </a:lnTo>
                <a:lnTo>
                  <a:pt x="745" y="659"/>
                </a:lnTo>
                <a:lnTo>
                  <a:pt x="760" y="657"/>
                </a:lnTo>
                <a:lnTo>
                  <a:pt x="777" y="653"/>
                </a:lnTo>
                <a:lnTo>
                  <a:pt x="796" y="649"/>
                </a:lnTo>
                <a:lnTo>
                  <a:pt x="829" y="643"/>
                </a:lnTo>
                <a:lnTo>
                  <a:pt x="860" y="637"/>
                </a:lnTo>
                <a:lnTo>
                  <a:pt x="890" y="632"/>
                </a:lnTo>
                <a:lnTo>
                  <a:pt x="921" y="628"/>
                </a:lnTo>
                <a:lnTo>
                  <a:pt x="950" y="622"/>
                </a:lnTo>
                <a:lnTo>
                  <a:pt x="977" y="618"/>
                </a:lnTo>
                <a:lnTo>
                  <a:pt x="1004" y="616"/>
                </a:lnTo>
                <a:lnTo>
                  <a:pt x="1029" y="613"/>
                </a:lnTo>
                <a:lnTo>
                  <a:pt x="1052" y="611"/>
                </a:lnTo>
                <a:lnTo>
                  <a:pt x="1075" y="609"/>
                </a:lnTo>
                <a:lnTo>
                  <a:pt x="1098" y="607"/>
                </a:lnTo>
                <a:lnTo>
                  <a:pt x="1119" y="605"/>
                </a:lnTo>
                <a:lnTo>
                  <a:pt x="1138" y="605"/>
                </a:lnTo>
                <a:lnTo>
                  <a:pt x="1157" y="603"/>
                </a:lnTo>
                <a:lnTo>
                  <a:pt x="1176" y="603"/>
                </a:lnTo>
                <a:lnTo>
                  <a:pt x="1194" y="603"/>
                </a:lnTo>
                <a:lnTo>
                  <a:pt x="1194" y="649"/>
                </a:lnTo>
                <a:lnTo>
                  <a:pt x="1194" y="697"/>
                </a:lnTo>
                <a:lnTo>
                  <a:pt x="1186" y="697"/>
                </a:lnTo>
                <a:lnTo>
                  <a:pt x="1178" y="697"/>
                </a:lnTo>
                <a:lnTo>
                  <a:pt x="1169" y="697"/>
                </a:lnTo>
                <a:lnTo>
                  <a:pt x="1159" y="697"/>
                </a:lnTo>
                <a:lnTo>
                  <a:pt x="1140" y="697"/>
                </a:lnTo>
                <a:lnTo>
                  <a:pt x="1119" y="697"/>
                </a:lnTo>
                <a:lnTo>
                  <a:pt x="1098" y="699"/>
                </a:lnTo>
                <a:lnTo>
                  <a:pt x="1075" y="701"/>
                </a:lnTo>
                <a:lnTo>
                  <a:pt x="1050" y="705"/>
                </a:lnTo>
                <a:lnTo>
                  <a:pt x="1027" y="709"/>
                </a:lnTo>
                <a:lnTo>
                  <a:pt x="1021" y="709"/>
                </a:lnTo>
                <a:lnTo>
                  <a:pt x="1013" y="710"/>
                </a:lnTo>
                <a:lnTo>
                  <a:pt x="1006" y="712"/>
                </a:lnTo>
                <a:lnTo>
                  <a:pt x="998" y="712"/>
                </a:lnTo>
                <a:lnTo>
                  <a:pt x="990" y="714"/>
                </a:lnTo>
                <a:lnTo>
                  <a:pt x="981" y="716"/>
                </a:lnTo>
                <a:lnTo>
                  <a:pt x="971" y="718"/>
                </a:lnTo>
                <a:lnTo>
                  <a:pt x="961" y="720"/>
                </a:lnTo>
                <a:lnTo>
                  <a:pt x="952" y="722"/>
                </a:lnTo>
                <a:lnTo>
                  <a:pt x="940" y="724"/>
                </a:lnTo>
                <a:lnTo>
                  <a:pt x="929" y="728"/>
                </a:lnTo>
                <a:lnTo>
                  <a:pt x="917" y="730"/>
                </a:lnTo>
                <a:lnTo>
                  <a:pt x="904" y="732"/>
                </a:lnTo>
                <a:lnTo>
                  <a:pt x="892" y="733"/>
                </a:lnTo>
                <a:lnTo>
                  <a:pt x="879" y="737"/>
                </a:lnTo>
                <a:lnTo>
                  <a:pt x="864" y="739"/>
                </a:lnTo>
                <a:lnTo>
                  <a:pt x="850" y="743"/>
                </a:lnTo>
                <a:lnTo>
                  <a:pt x="835" y="745"/>
                </a:lnTo>
                <a:lnTo>
                  <a:pt x="819" y="749"/>
                </a:lnTo>
                <a:lnTo>
                  <a:pt x="804" y="751"/>
                </a:lnTo>
                <a:lnTo>
                  <a:pt x="771" y="756"/>
                </a:lnTo>
                <a:lnTo>
                  <a:pt x="735" y="762"/>
                </a:lnTo>
                <a:lnTo>
                  <a:pt x="699" y="770"/>
                </a:lnTo>
                <a:lnTo>
                  <a:pt x="660" y="776"/>
                </a:lnTo>
                <a:lnTo>
                  <a:pt x="620" y="783"/>
                </a:lnTo>
                <a:lnTo>
                  <a:pt x="578" y="789"/>
                </a:lnTo>
                <a:lnTo>
                  <a:pt x="557" y="793"/>
                </a:lnTo>
                <a:lnTo>
                  <a:pt x="535" y="799"/>
                </a:lnTo>
                <a:lnTo>
                  <a:pt x="514" y="803"/>
                </a:lnTo>
                <a:lnTo>
                  <a:pt x="495" y="806"/>
                </a:lnTo>
                <a:lnTo>
                  <a:pt x="476" y="810"/>
                </a:lnTo>
                <a:lnTo>
                  <a:pt x="459" y="814"/>
                </a:lnTo>
                <a:lnTo>
                  <a:pt x="439" y="818"/>
                </a:lnTo>
                <a:lnTo>
                  <a:pt x="422" y="822"/>
                </a:lnTo>
                <a:lnTo>
                  <a:pt x="407" y="826"/>
                </a:lnTo>
                <a:lnTo>
                  <a:pt x="390" y="829"/>
                </a:lnTo>
                <a:lnTo>
                  <a:pt x="374" y="833"/>
                </a:lnTo>
                <a:lnTo>
                  <a:pt x="359" y="837"/>
                </a:lnTo>
                <a:lnTo>
                  <a:pt x="345" y="839"/>
                </a:lnTo>
                <a:lnTo>
                  <a:pt x="332" y="843"/>
                </a:lnTo>
                <a:lnTo>
                  <a:pt x="318" y="847"/>
                </a:lnTo>
                <a:lnTo>
                  <a:pt x="305" y="849"/>
                </a:lnTo>
                <a:lnTo>
                  <a:pt x="294" y="852"/>
                </a:lnTo>
                <a:lnTo>
                  <a:pt x="282" y="854"/>
                </a:lnTo>
                <a:lnTo>
                  <a:pt x="271" y="858"/>
                </a:lnTo>
                <a:lnTo>
                  <a:pt x="261" y="860"/>
                </a:lnTo>
                <a:lnTo>
                  <a:pt x="251" y="862"/>
                </a:lnTo>
                <a:lnTo>
                  <a:pt x="242" y="866"/>
                </a:lnTo>
                <a:lnTo>
                  <a:pt x="232" y="868"/>
                </a:lnTo>
                <a:lnTo>
                  <a:pt x="224" y="870"/>
                </a:lnTo>
                <a:lnTo>
                  <a:pt x="217" y="872"/>
                </a:lnTo>
                <a:lnTo>
                  <a:pt x="211" y="874"/>
                </a:lnTo>
                <a:lnTo>
                  <a:pt x="203" y="876"/>
                </a:lnTo>
                <a:lnTo>
                  <a:pt x="198" y="877"/>
                </a:lnTo>
                <a:lnTo>
                  <a:pt x="192" y="879"/>
                </a:lnTo>
                <a:lnTo>
                  <a:pt x="188" y="879"/>
                </a:lnTo>
                <a:lnTo>
                  <a:pt x="182" y="881"/>
                </a:lnTo>
                <a:lnTo>
                  <a:pt x="178" y="883"/>
                </a:lnTo>
                <a:lnTo>
                  <a:pt x="165" y="887"/>
                </a:lnTo>
                <a:lnTo>
                  <a:pt x="152" y="891"/>
                </a:lnTo>
                <a:lnTo>
                  <a:pt x="140" y="895"/>
                </a:lnTo>
                <a:lnTo>
                  <a:pt x="128" y="899"/>
                </a:lnTo>
                <a:lnTo>
                  <a:pt x="119" y="902"/>
                </a:lnTo>
                <a:lnTo>
                  <a:pt x="109" y="904"/>
                </a:lnTo>
                <a:lnTo>
                  <a:pt x="100" y="906"/>
                </a:lnTo>
                <a:lnTo>
                  <a:pt x="90" y="906"/>
                </a:lnTo>
                <a:lnTo>
                  <a:pt x="84" y="908"/>
                </a:lnTo>
                <a:lnTo>
                  <a:pt x="80" y="908"/>
                </a:lnTo>
                <a:lnTo>
                  <a:pt x="75" y="908"/>
                </a:lnTo>
                <a:lnTo>
                  <a:pt x="71" y="908"/>
                </a:lnTo>
                <a:lnTo>
                  <a:pt x="65" y="908"/>
                </a:lnTo>
                <a:lnTo>
                  <a:pt x="61" y="906"/>
                </a:lnTo>
                <a:lnTo>
                  <a:pt x="56" y="902"/>
                </a:lnTo>
                <a:lnTo>
                  <a:pt x="52" y="900"/>
                </a:lnTo>
                <a:lnTo>
                  <a:pt x="48" y="897"/>
                </a:lnTo>
                <a:lnTo>
                  <a:pt x="44" y="893"/>
                </a:lnTo>
                <a:lnTo>
                  <a:pt x="40" y="887"/>
                </a:lnTo>
                <a:lnTo>
                  <a:pt x="36" y="883"/>
                </a:lnTo>
                <a:lnTo>
                  <a:pt x="31" y="872"/>
                </a:lnTo>
                <a:lnTo>
                  <a:pt x="25" y="860"/>
                </a:lnTo>
                <a:lnTo>
                  <a:pt x="15" y="833"/>
                </a:lnTo>
                <a:lnTo>
                  <a:pt x="11" y="820"/>
                </a:lnTo>
                <a:lnTo>
                  <a:pt x="8" y="808"/>
                </a:lnTo>
                <a:lnTo>
                  <a:pt x="4" y="797"/>
                </a:lnTo>
                <a:lnTo>
                  <a:pt x="2" y="785"/>
                </a:lnTo>
                <a:lnTo>
                  <a:pt x="0" y="776"/>
                </a:lnTo>
                <a:lnTo>
                  <a:pt x="0" y="766"/>
                </a:lnTo>
                <a:lnTo>
                  <a:pt x="0" y="762"/>
                </a:lnTo>
                <a:lnTo>
                  <a:pt x="0" y="758"/>
                </a:lnTo>
                <a:lnTo>
                  <a:pt x="2" y="755"/>
                </a:lnTo>
                <a:lnTo>
                  <a:pt x="4" y="751"/>
                </a:lnTo>
                <a:lnTo>
                  <a:pt x="8" y="747"/>
                </a:lnTo>
                <a:lnTo>
                  <a:pt x="11" y="745"/>
                </a:lnTo>
                <a:lnTo>
                  <a:pt x="15" y="741"/>
                </a:lnTo>
                <a:lnTo>
                  <a:pt x="21" y="739"/>
                </a:lnTo>
                <a:lnTo>
                  <a:pt x="27" y="735"/>
                </a:lnTo>
                <a:lnTo>
                  <a:pt x="33" y="733"/>
                </a:lnTo>
                <a:lnTo>
                  <a:pt x="40" y="732"/>
                </a:lnTo>
                <a:lnTo>
                  <a:pt x="48" y="728"/>
                </a:lnTo>
                <a:lnTo>
                  <a:pt x="57" y="726"/>
                </a:lnTo>
                <a:lnTo>
                  <a:pt x="67" y="724"/>
                </a:lnTo>
                <a:lnTo>
                  <a:pt x="77" y="722"/>
                </a:lnTo>
                <a:lnTo>
                  <a:pt x="90" y="7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125"/>
          <p:cNvSpPr/>
          <p:nvPr/>
        </p:nvSpPr>
        <p:spPr>
          <a:xfrm>
            <a:off x="6259680" y="3376440"/>
            <a:ext cx="626760" cy="449280"/>
          </a:xfrm>
          <a:custGeom>
            <a:avLst/>
            <a:gdLst/>
            <a:ahLst/>
            <a:rect l="l" t="t" r="r" b="b"/>
            <a:pathLst>
              <a:path w="789" h="564">
                <a:moveTo>
                  <a:pt x="507" y="46"/>
                </a:moveTo>
                <a:lnTo>
                  <a:pt x="509" y="40"/>
                </a:lnTo>
                <a:lnTo>
                  <a:pt x="510" y="34"/>
                </a:lnTo>
                <a:lnTo>
                  <a:pt x="512" y="28"/>
                </a:lnTo>
                <a:lnTo>
                  <a:pt x="516" y="25"/>
                </a:lnTo>
                <a:lnTo>
                  <a:pt x="518" y="19"/>
                </a:lnTo>
                <a:lnTo>
                  <a:pt x="520" y="15"/>
                </a:lnTo>
                <a:lnTo>
                  <a:pt x="526" y="9"/>
                </a:lnTo>
                <a:lnTo>
                  <a:pt x="530" y="5"/>
                </a:lnTo>
                <a:lnTo>
                  <a:pt x="535" y="2"/>
                </a:lnTo>
                <a:lnTo>
                  <a:pt x="539" y="0"/>
                </a:lnTo>
                <a:lnTo>
                  <a:pt x="545" y="0"/>
                </a:lnTo>
                <a:lnTo>
                  <a:pt x="549" y="0"/>
                </a:lnTo>
                <a:lnTo>
                  <a:pt x="555" y="2"/>
                </a:lnTo>
                <a:lnTo>
                  <a:pt x="560" y="5"/>
                </a:lnTo>
                <a:lnTo>
                  <a:pt x="568" y="9"/>
                </a:lnTo>
                <a:lnTo>
                  <a:pt x="576" y="15"/>
                </a:lnTo>
                <a:lnTo>
                  <a:pt x="580" y="19"/>
                </a:lnTo>
                <a:lnTo>
                  <a:pt x="585" y="23"/>
                </a:lnTo>
                <a:lnTo>
                  <a:pt x="589" y="28"/>
                </a:lnTo>
                <a:lnTo>
                  <a:pt x="595" y="34"/>
                </a:lnTo>
                <a:lnTo>
                  <a:pt x="603" y="40"/>
                </a:lnTo>
                <a:lnTo>
                  <a:pt x="608" y="46"/>
                </a:lnTo>
                <a:lnTo>
                  <a:pt x="616" y="52"/>
                </a:lnTo>
                <a:lnTo>
                  <a:pt x="622" y="59"/>
                </a:lnTo>
                <a:lnTo>
                  <a:pt x="628" y="65"/>
                </a:lnTo>
                <a:lnTo>
                  <a:pt x="633" y="71"/>
                </a:lnTo>
                <a:lnTo>
                  <a:pt x="637" y="75"/>
                </a:lnTo>
                <a:lnTo>
                  <a:pt x="641" y="80"/>
                </a:lnTo>
                <a:lnTo>
                  <a:pt x="649" y="90"/>
                </a:lnTo>
                <a:lnTo>
                  <a:pt x="654" y="98"/>
                </a:lnTo>
                <a:lnTo>
                  <a:pt x="658" y="105"/>
                </a:lnTo>
                <a:lnTo>
                  <a:pt x="660" y="111"/>
                </a:lnTo>
                <a:lnTo>
                  <a:pt x="660" y="117"/>
                </a:lnTo>
                <a:lnTo>
                  <a:pt x="660" y="121"/>
                </a:lnTo>
                <a:lnTo>
                  <a:pt x="656" y="126"/>
                </a:lnTo>
                <a:lnTo>
                  <a:pt x="652" y="132"/>
                </a:lnTo>
                <a:lnTo>
                  <a:pt x="649" y="138"/>
                </a:lnTo>
                <a:lnTo>
                  <a:pt x="641" y="144"/>
                </a:lnTo>
                <a:lnTo>
                  <a:pt x="633" y="151"/>
                </a:lnTo>
                <a:lnTo>
                  <a:pt x="624" y="161"/>
                </a:lnTo>
                <a:lnTo>
                  <a:pt x="612" y="169"/>
                </a:lnTo>
                <a:lnTo>
                  <a:pt x="599" y="178"/>
                </a:lnTo>
                <a:lnTo>
                  <a:pt x="585" y="190"/>
                </a:lnTo>
                <a:lnTo>
                  <a:pt x="568" y="199"/>
                </a:lnTo>
                <a:lnTo>
                  <a:pt x="551" y="213"/>
                </a:lnTo>
                <a:lnTo>
                  <a:pt x="533" y="224"/>
                </a:lnTo>
                <a:lnTo>
                  <a:pt x="512" y="238"/>
                </a:lnTo>
                <a:lnTo>
                  <a:pt x="491" y="251"/>
                </a:lnTo>
                <a:lnTo>
                  <a:pt x="468" y="267"/>
                </a:lnTo>
                <a:lnTo>
                  <a:pt x="445" y="282"/>
                </a:lnTo>
                <a:lnTo>
                  <a:pt x="424" y="297"/>
                </a:lnTo>
                <a:lnTo>
                  <a:pt x="403" y="311"/>
                </a:lnTo>
                <a:lnTo>
                  <a:pt x="386" y="322"/>
                </a:lnTo>
                <a:lnTo>
                  <a:pt x="370" y="334"/>
                </a:lnTo>
                <a:lnTo>
                  <a:pt x="355" y="345"/>
                </a:lnTo>
                <a:lnTo>
                  <a:pt x="342" y="355"/>
                </a:lnTo>
                <a:lnTo>
                  <a:pt x="332" y="364"/>
                </a:lnTo>
                <a:lnTo>
                  <a:pt x="322" y="372"/>
                </a:lnTo>
                <a:lnTo>
                  <a:pt x="315" y="380"/>
                </a:lnTo>
                <a:lnTo>
                  <a:pt x="309" y="386"/>
                </a:lnTo>
                <a:lnTo>
                  <a:pt x="303" y="391"/>
                </a:lnTo>
                <a:lnTo>
                  <a:pt x="301" y="397"/>
                </a:lnTo>
                <a:lnTo>
                  <a:pt x="299" y="401"/>
                </a:lnTo>
                <a:lnTo>
                  <a:pt x="299" y="405"/>
                </a:lnTo>
                <a:lnTo>
                  <a:pt x="301" y="407"/>
                </a:lnTo>
                <a:lnTo>
                  <a:pt x="303" y="409"/>
                </a:lnTo>
                <a:lnTo>
                  <a:pt x="305" y="409"/>
                </a:lnTo>
                <a:lnTo>
                  <a:pt x="309" y="410"/>
                </a:lnTo>
                <a:lnTo>
                  <a:pt x="313" y="412"/>
                </a:lnTo>
                <a:lnTo>
                  <a:pt x="317" y="412"/>
                </a:lnTo>
                <a:lnTo>
                  <a:pt x="322" y="414"/>
                </a:lnTo>
                <a:lnTo>
                  <a:pt x="330" y="414"/>
                </a:lnTo>
                <a:lnTo>
                  <a:pt x="338" y="416"/>
                </a:lnTo>
                <a:lnTo>
                  <a:pt x="345" y="416"/>
                </a:lnTo>
                <a:lnTo>
                  <a:pt x="355" y="418"/>
                </a:lnTo>
                <a:lnTo>
                  <a:pt x="365" y="418"/>
                </a:lnTo>
                <a:lnTo>
                  <a:pt x="376" y="420"/>
                </a:lnTo>
                <a:lnTo>
                  <a:pt x="388" y="420"/>
                </a:lnTo>
                <a:lnTo>
                  <a:pt x="401" y="422"/>
                </a:lnTo>
                <a:lnTo>
                  <a:pt x="414" y="422"/>
                </a:lnTo>
                <a:lnTo>
                  <a:pt x="430" y="424"/>
                </a:lnTo>
                <a:lnTo>
                  <a:pt x="445" y="424"/>
                </a:lnTo>
                <a:lnTo>
                  <a:pt x="461" y="424"/>
                </a:lnTo>
                <a:lnTo>
                  <a:pt x="478" y="426"/>
                </a:lnTo>
                <a:lnTo>
                  <a:pt x="497" y="426"/>
                </a:lnTo>
                <a:lnTo>
                  <a:pt x="516" y="426"/>
                </a:lnTo>
                <a:lnTo>
                  <a:pt x="535" y="428"/>
                </a:lnTo>
                <a:lnTo>
                  <a:pt x="557" y="428"/>
                </a:lnTo>
                <a:lnTo>
                  <a:pt x="580" y="428"/>
                </a:lnTo>
                <a:lnTo>
                  <a:pt x="603" y="428"/>
                </a:lnTo>
                <a:lnTo>
                  <a:pt x="626" y="430"/>
                </a:lnTo>
                <a:lnTo>
                  <a:pt x="651" y="430"/>
                </a:lnTo>
                <a:lnTo>
                  <a:pt x="676" y="430"/>
                </a:lnTo>
                <a:lnTo>
                  <a:pt x="702" y="430"/>
                </a:lnTo>
                <a:lnTo>
                  <a:pt x="731" y="430"/>
                </a:lnTo>
                <a:lnTo>
                  <a:pt x="760" y="430"/>
                </a:lnTo>
                <a:lnTo>
                  <a:pt x="789" y="430"/>
                </a:lnTo>
                <a:lnTo>
                  <a:pt x="771" y="439"/>
                </a:lnTo>
                <a:lnTo>
                  <a:pt x="756" y="447"/>
                </a:lnTo>
                <a:lnTo>
                  <a:pt x="739" y="455"/>
                </a:lnTo>
                <a:lnTo>
                  <a:pt x="724" y="460"/>
                </a:lnTo>
                <a:lnTo>
                  <a:pt x="708" y="468"/>
                </a:lnTo>
                <a:lnTo>
                  <a:pt x="693" y="474"/>
                </a:lnTo>
                <a:lnTo>
                  <a:pt x="677" y="478"/>
                </a:lnTo>
                <a:lnTo>
                  <a:pt x="664" y="483"/>
                </a:lnTo>
                <a:lnTo>
                  <a:pt x="649" y="487"/>
                </a:lnTo>
                <a:lnTo>
                  <a:pt x="635" y="491"/>
                </a:lnTo>
                <a:lnTo>
                  <a:pt x="622" y="493"/>
                </a:lnTo>
                <a:lnTo>
                  <a:pt x="608" y="497"/>
                </a:lnTo>
                <a:lnTo>
                  <a:pt x="595" y="499"/>
                </a:lnTo>
                <a:lnTo>
                  <a:pt x="581" y="499"/>
                </a:lnTo>
                <a:lnTo>
                  <a:pt x="570" y="501"/>
                </a:lnTo>
                <a:lnTo>
                  <a:pt x="558" y="501"/>
                </a:lnTo>
                <a:lnTo>
                  <a:pt x="545" y="501"/>
                </a:lnTo>
                <a:lnTo>
                  <a:pt x="532" y="501"/>
                </a:lnTo>
                <a:lnTo>
                  <a:pt x="518" y="501"/>
                </a:lnTo>
                <a:lnTo>
                  <a:pt x="505" y="503"/>
                </a:lnTo>
                <a:lnTo>
                  <a:pt x="489" y="503"/>
                </a:lnTo>
                <a:lnTo>
                  <a:pt x="474" y="505"/>
                </a:lnTo>
                <a:lnTo>
                  <a:pt x="459" y="506"/>
                </a:lnTo>
                <a:lnTo>
                  <a:pt x="441" y="508"/>
                </a:lnTo>
                <a:lnTo>
                  <a:pt x="424" y="510"/>
                </a:lnTo>
                <a:lnTo>
                  <a:pt x="407" y="514"/>
                </a:lnTo>
                <a:lnTo>
                  <a:pt x="388" y="516"/>
                </a:lnTo>
                <a:lnTo>
                  <a:pt x="370" y="520"/>
                </a:lnTo>
                <a:lnTo>
                  <a:pt x="349" y="524"/>
                </a:lnTo>
                <a:lnTo>
                  <a:pt x="330" y="528"/>
                </a:lnTo>
                <a:lnTo>
                  <a:pt x="309" y="531"/>
                </a:lnTo>
                <a:lnTo>
                  <a:pt x="288" y="535"/>
                </a:lnTo>
                <a:lnTo>
                  <a:pt x="267" y="539"/>
                </a:lnTo>
                <a:lnTo>
                  <a:pt x="247" y="543"/>
                </a:lnTo>
                <a:lnTo>
                  <a:pt x="228" y="547"/>
                </a:lnTo>
                <a:lnTo>
                  <a:pt x="211" y="551"/>
                </a:lnTo>
                <a:lnTo>
                  <a:pt x="194" y="553"/>
                </a:lnTo>
                <a:lnTo>
                  <a:pt x="178" y="556"/>
                </a:lnTo>
                <a:lnTo>
                  <a:pt x="165" y="558"/>
                </a:lnTo>
                <a:lnTo>
                  <a:pt x="152" y="560"/>
                </a:lnTo>
                <a:lnTo>
                  <a:pt x="140" y="562"/>
                </a:lnTo>
                <a:lnTo>
                  <a:pt x="128" y="562"/>
                </a:lnTo>
                <a:lnTo>
                  <a:pt x="119" y="562"/>
                </a:lnTo>
                <a:lnTo>
                  <a:pt x="109" y="564"/>
                </a:lnTo>
                <a:lnTo>
                  <a:pt x="102" y="562"/>
                </a:lnTo>
                <a:lnTo>
                  <a:pt x="94" y="562"/>
                </a:lnTo>
                <a:lnTo>
                  <a:pt x="88" y="560"/>
                </a:lnTo>
                <a:lnTo>
                  <a:pt x="82" y="558"/>
                </a:lnTo>
                <a:lnTo>
                  <a:pt x="73" y="558"/>
                </a:lnTo>
                <a:lnTo>
                  <a:pt x="63" y="556"/>
                </a:lnTo>
                <a:lnTo>
                  <a:pt x="54" y="553"/>
                </a:lnTo>
                <a:lnTo>
                  <a:pt x="46" y="549"/>
                </a:lnTo>
                <a:lnTo>
                  <a:pt x="36" y="541"/>
                </a:lnTo>
                <a:lnTo>
                  <a:pt x="33" y="537"/>
                </a:lnTo>
                <a:lnTo>
                  <a:pt x="31" y="533"/>
                </a:lnTo>
                <a:lnTo>
                  <a:pt x="27" y="529"/>
                </a:lnTo>
                <a:lnTo>
                  <a:pt x="23" y="524"/>
                </a:lnTo>
                <a:lnTo>
                  <a:pt x="21" y="518"/>
                </a:lnTo>
                <a:lnTo>
                  <a:pt x="19" y="512"/>
                </a:lnTo>
                <a:lnTo>
                  <a:pt x="13" y="499"/>
                </a:lnTo>
                <a:lnTo>
                  <a:pt x="9" y="487"/>
                </a:lnTo>
                <a:lnTo>
                  <a:pt x="6" y="478"/>
                </a:lnTo>
                <a:lnTo>
                  <a:pt x="2" y="466"/>
                </a:lnTo>
                <a:lnTo>
                  <a:pt x="0" y="457"/>
                </a:lnTo>
                <a:lnTo>
                  <a:pt x="0" y="449"/>
                </a:lnTo>
                <a:lnTo>
                  <a:pt x="0" y="443"/>
                </a:lnTo>
                <a:lnTo>
                  <a:pt x="2" y="439"/>
                </a:lnTo>
                <a:lnTo>
                  <a:pt x="4" y="435"/>
                </a:lnTo>
                <a:lnTo>
                  <a:pt x="6" y="430"/>
                </a:lnTo>
                <a:lnTo>
                  <a:pt x="6" y="426"/>
                </a:lnTo>
                <a:lnTo>
                  <a:pt x="6" y="422"/>
                </a:lnTo>
                <a:lnTo>
                  <a:pt x="8" y="418"/>
                </a:lnTo>
                <a:lnTo>
                  <a:pt x="9" y="414"/>
                </a:lnTo>
                <a:lnTo>
                  <a:pt x="13" y="412"/>
                </a:lnTo>
                <a:lnTo>
                  <a:pt x="15" y="409"/>
                </a:lnTo>
                <a:lnTo>
                  <a:pt x="21" y="407"/>
                </a:lnTo>
                <a:lnTo>
                  <a:pt x="25" y="405"/>
                </a:lnTo>
                <a:lnTo>
                  <a:pt x="31" y="403"/>
                </a:lnTo>
                <a:lnTo>
                  <a:pt x="36" y="401"/>
                </a:lnTo>
                <a:lnTo>
                  <a:pt x="42" y="399"/>
                </a:lnTo>
                <a:lnTo>
                  <a:pt x="48" y="397"/>
                </a:lnTo>
                <a:lnTo>
                  <a:pt x="56" y="397"/>
                </a:lnTo>
                <a:lnTo>
                  <a:pt x="65" y="395"/>
                </a:lnTo>
                <a:lnTo>
                  <a:pt x="73" y="395"/>
                </a:lnTo>
                <a:lnTo>
                  <a:pt x="82" y="395"/>
                </a:lnTo>
                <a:lnTo>
                  <a:pt x="90" y="395"/>
                </a:lnTo>
                <a:lnTo>
                  <a:pt x="98" y="393"/>
                </a:lnTo>
                <a:lnTo>
                  <a:pt x="107" y="393"/>
                </a:lnTo>
                <a:lnTo>
                  <a:pt x="115" y="391"/>
                </a:lnTo>
                <a:lnTo>
                  <a:pt x="125" y="387"/>
                </a:lnTo>
                <a:lnTo>
                  <a:pt x="136" y="386"/>
                </a:lnTo>
                <a:lnTo>
                  <a:pt x="146" y="382"/>
                </a:lnTo>
                <a:lnTo>
                  <a:pt x="157" y="376"/>
                </a:lnTo>
                <a:lnTo>
                  <a:pt x="167" y="372"/>
                </a:lnTo>
                <a:lnTo>
                  <a:pt x="178" y="364"/>
                </a:lnTo>
                <a:lnTo>
                  <a:pt x="190" y="359"/>
                </a:lnTo>
                <a:lnTo>
                  <a:pt x="201" y="351"/>
                </a:lnTo>
                <a:lnTo>
                  <a:pt x="213" y="343"/>
                </a:lnTo>
                <a:lnTo>
                  <a:pt x="226" y="334"/>
                </a:lnTo>
                <a:lnTo>
                  <a:pt x="238" y="324"/>
                </a:lnTo>
                <a:lnTo>
                  <a:pt x="249" y="315"/>
                </a:lnTo>
                <a:lnTo>
                  <a:pt x="272" y="291"/>
                </a:lnTo>
                <a:lnTo>
                  <a:pt x="295" y="272"/>
                </a:lnTo>
                <a:lnTo>
                  <a:pt x="317" y="251"/>
                </a:lnTo>
                <a:lnTo>
                  <a:pt x="338" y="232"/>
                </a:lnTo>
                <a:lnTo>
                  <a:pt x="357" y="213"/>
                </a:lnTo>
                <a:lnTo>
                  <a:pt x="378" y="192"/>
                </a:lnTo>
                <a:lnTo>
                  <a:pt x="397" y="172"/>
                </a:lnTo>
                <a:lnTo>
                  <a:pt x="416" y="151"/>
                </a:lnTo>
                <a:lnTo>
                  <a:pt x="426" y="142"/>
                </a:lnTo>
                <a:lnTo>
                  <a:pt x="434" y="134"/>
                </a:lnTo>
                <a:lnTo>
                  <a:pt x="441" y="124"/>
                </a:lnTo>
                <a:lnTo>
                  <a:pt x="449" y="117"/>
                </a:lnTo>
                <a:lnTo>
                  <a:pt x="457" y="109"/>
                </a:lnTo>
                <a:lnTo>
                  <a:pt x="464" y="103"/>
                </a:lnTo>
                <a:lnTo>
                  <a:pt x="476" y="90"/>
                </a:lnTo>
                <a:lnTo>
                  <a:pt x="486" y="76"/>
                </a:lnTo>
                <a:lnTo>
                  <a:pt x="493" y="65"/>
                </a:lnTo>
                <a:lnTo>
                  <a:pt x="501" y="55"/>
                </a:lnTo>
                <a:lnTo>
                  <a:pt x="507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126"/>
          <p:cNvSpPr/>
          <p:nvPr/>
        </p:nvSpPr>
        <p:spPr>
          <a:xfrm>
            <a:off x="6886440" y="2813040"/>
            <a:ext cx="846360" cy="444600"/>
          </a:xfrm>
          <a:custGeom>
            <a:avLst/>
            <a:gdLst/>
            <a:ahLst/>
            <a:rect l="l" t="t" r="r" b="b"/>
            <a:pathLst>
              <a:path w="1065" h="559">
                <a:moveTo>
                  <a:pt x="988" y="221"/>
                </a:moveTo>
                <a:lnTo>
                  <a:pt x="984" y="223"/>
                </a:lnTo>
                <a:lnTo>
                  <a:pt x="981" y="225"/>
                </a:lnTo>
                <a:lnTo>
                  <a:pt x="975" y="227"/>
                </a:lnTo>
                <a:lnTo>
                  <a:pt x="971" y="231"/>
                </a:lnTo>
                <a:lnTo>
                  <a:pt x="965" y="235"/>
                </a:lnTo>
                <a:lnTo>
                  <a:pt x="959" y="239"/>
                </a:lnTo>
                <a:lnTo>
                  <a:pt x="954" y="244"/>
                </a:lnTo>
                <a:lnTo>
                  <a:pt x="948" y="248"/>
                </a:lnTo>
                <a:lnTo>
                  <a:pt x="940" y="256"/>
                </a:lnTo>
                <a:lnTo>
                  <a:pt x="933" y="262"/>
                </a:lnTo>
                <a:lnTo>
                  <a:pt x="925" y="269"/>
                </a:lnTo>
                <a:lnTo>
                  <a:pt x="917" y="277"/>
                </a:lnTo>
                <a:lnTo>
                  <a:pt x="910" y="286"/>
                </a:lnTo>
                <a:lnTo>
                  <a:pt x="900" y="294"/>
                </a:lnTo>
                <a:lnTo>
                  <a:pt x="890" y="304"/>
                </a:lnTo>
                <a:lnTo>
                  <a:pt x="881" y="315"/>
                </a:lnTo>
                <a:lnTo>
                  <a:pt x="871" y="327"/>
                </a:lnTo>
                <a:lnTo>
                  <a:pt x="862" y="338"/>
                </a:lnTo>
                <a:lnTo>
                  <a:pt x="850" y="350"/>
                </a:lnTo>
                <a:lnTo>
                  <a:pt x="840" y="361"/>
                </a:lnTo>
                <a:lnTo>
                  <a:pt x="829" y="375"/>
                </a:lnTo>
                <a:lnTo>
                  <a:pt x="817" y="388"/>
                </a:lnTo>
                <a:lnTo>
                  <a:pt x="804" y="404"/>
                </a:lnTo>
                <a:lnTo>
                  <a:pt x="792" y="419"/>
                </a:lnTo>
                <a:lnTo>
                  <a:pt x="779" y="434"/>
                </a:lnTo>
                <a:lnTo>
                  <a:pt x="766" y="450"/>
                </a:lnTo>
                <a:lnTo>
                  <a:pt x="752" y="467"/>
                </a:lnTo>
                <a:lnTo>
                  <a:pt x="739" y="484"/>
                </a:lnTo>
                <a:lnTo>
                  <a:pt x="725" y="501"/>
                </a:lnTo>
                <a:lnTo>
                  <a:pt x="710" y="521"/>
                </a:lnTo>
                <a:lnTo>
                  <a:pt x="695" y="540"/>
                </a:lnTo>
                <a:lnTo>
                  <a:pt x="681" y="559"/>
                </a:lnTo>
                <a:lnTo>
                  <a:pt x="629" y="559"/>
                </a:lnTo>
                <a:lnTo>
                  <a:pt x="578" y="559"/>
                </a:lnTo>
                <a:lnTo>
                  <a:pt x="587" y="538"/>
                </a:lnTo>
                <a:lnTo>
                  <a:pt x="599" y="517"/>
                </a:lnTo>
                <a:lnTo>
                  <a:pt x="608" y="496"/>
                </a:lnTo>
                <a:lnTo>
                  <a:pt x="618" y="477"/>
                </a:lnTo>
                <a:lnTo>
                  <a:pt x="626" y="457"/>
                </a:lnTo>
                <a:lnTo>
                  <a:pt x="635" y="438"/>
                </a:lnTo>
                <a:lnTo>
                  <a:pt x="643" y="421"/>
                </a:lnTo>
                <a:lnTo>
                  <a:pt x="650" y="404"/>
                </a:lnTo>
                <a:lnTo>
                  <a:pt x="658" y="386"/>
                </a:lnTo>
                <a:lnTo>
                  <a:pt x="666" y="371"/>
                </a:lnTo>
                <a:lnTo>
                  <a:pt x="673" y="356"/>
                </a:lnTo>
                <a:lnTo>
                  <a:pt x="679" y="340"/>
                </a:lnTo>
                <a:lnTo>
                  <a:pt x="685" y="327"/>
                </a:lnTo>
                <a:lnTo>
                  <a:pt x="691" y="313"/>
                </a:lnTo>
                <a:lnTo>
                  <a:pt x="695" y="302"/>
                </a:lnTo>
                <a:lnTo>
                  <a:pt x="700" y="288"/>
                </a:lnTo>
                <a:lnTo>
                  <a:pt x="704" y="277"/>
                </a:lnTo>
                <a:lnTo>
                  <a:pt x="708" y="267"/>
                </a:lnTo>
                <a:lnTo>
                  <a:pt x="712" y="258"/>
                </a:lnTo>
                <a:lnTo>
                  <a:pt x="716" y="248"/>
                </a:lnTo>
                <a:lnTo>
                  <a:pt x="718" y="239"/>
                </a:lnTo>
                <a:lnTo>
                  <a:pt x="720" y="231"/>
                </a:lnTo>
                <a:lnTo>
                  <a:pt x="721" y="223"/>
                </a:lnTo>
                <a:lnTo>
                  <a:pt x="723" y="215"/>
                </a:lnTo>
                <a:lnTo>
                  <a:pt x="723" y="210"/>
                </a:lnTo>
                <a:lnTo>
                  <a:pt x="725" y="204"/>
                </a:lnTo>
                <a:lnTo>
                  <a:pt x="725" y="200"/>
                </a:lnTo>
                <a:lnTo>
                  <a:pt x="725" y="196"/>
                </a:lnTo>
                <a:lnTo>
                  <a:pt x="723" y="192"/>
                </a:lnTo>
                <a:lnTo>
                  <a:pt x="723" y="189"/>
                </a:lnTo>
                <a:lnTo>
                  <a:pt x="721" y="187"/>
                </a:lnTo>
                <a:lnTo>
                  <a:pt x="720" y="187"/>
                </a:lnTo>
                <a:lnTo>
                  <a:pt x="714" y="183"/>
                </a:lnTo>
                <a:lnTo>
                  <a:pt x="708" y="181"/>
                </a:lnTo>
                <a:lnTo>
                  <a:pt x="702" y="179"/>
                </a:lnTo>
                <a:lnTo>
                  <a:pt x="695" y="177"/>
                </a:lnTo>
                <a:lnTo>
                  <a:pt x="687" y="175"/>
                </a:lnTo>
                <a:lnTo>
                  <a:pt x="679" y="173"/>
                </a:lnTo>
                <a:lnTo>
                  <a:pt x="672" y="173"/>
                </a:lnTo>
                <a:lnTo>
                  <a:pt x="662" y="171"/>
                </a:lnTo>
                <a:lnTo>
                  <a:pt x="643" y="169"/>
                </a:lnTo>
                <a:lnTo>
                  <a:pt x="624" y="169"/>
                </a:lnTo>
                <a:lnTo>
                  <a:pt x="612" y="169"/>
                </a:lnTo>
                <a:lnTo>
                  <a:pt x="601" y="171"/>
                </a:lnTo>
                <a:lnTo>
                  <a:pt x="589" y="171"/>
                </a:lnTo>
                <a:lnTo>
                  <a:pt x="578" y="175"/>
                </a:lnTo>
                <a:lnTo>
                  <a:pt x="566" y="177"/>
                </a:lnTo>
                <a:lnTo>
                  <a:pt x="553" y="179"/>
                </a:lnTo>
                <a:lnTo>
                  <a:pt x="539" y="181"/>
                </a:lnTo>
                <a:lnTo>
                  <a:pt x="524" y="183"/>
                </a:lnTo>
                <a:lnTo>
                  <a:pt x="510" y="185"/>
                </a:lnTo>
                <a:lnTo>
                  <a:pt x="495" y="187"/>
                </a:lnTo>
                <a:lnTo>
                  <a:pt x="478" y="191"/>
                </a:lnTo>
                <a:lnTo>
                  <a:pt x="462" y="192"/>
                </a:lnTo>
                <a:lnTo>
                  <a:pt x="445" y="194"/>
                </a:lnTo>
                <a:lnTo>
                  <a:pt x="428" y="196"/>
                </a:lnTo>
                <a:lnTo>
                  <a:pt x="409" y="198"/>
                </a:lnTo>
                <a:lnTo>
                  <a:pt x="389" y="200"/>
                </a:lnTo>
                <a:lnTo>
                  <a:pt x="370" y="202"/>
                </a:lnTo>
                <a:lnTo>
                  <a:pt x="349" y="204"/>
                </a:lnTo>
                <a:lnTo>
                  <a:pt x="330" y="208"/>
                </a:lnTo>
                <a:lnTo>
                  <a:pt x="309" y="210"/>
                </a:lnTo>
                <a:lnTo>
                  <a:pt x="265" y="217"/>
                </a:lnTo>
                <a:lnTo>
                  <a:pt x="224" y="225"/>
                </a:lnTo>
                <a:lnTo>
                  <a:pt x="184" y="231"/>
                </a:lnTo>
                <a:lnTo>
                  <a:pt x="144" y="235"/>
                </a:lnTo>
                <a:lnTo>
                  <a:pt x="105" y="239"/>
                </a:lnTo>
                <a:lnTo>
                  <a:pt x="69" y="242"/>
                </a:lnTo>
                <a:lnTo>
                  <a:pt x="34" y="244"/>
                </a:lnTo>
                <a:lnTo>
                  <a:pt x="0" y="244"/>
                </a:lnTo>
                <a:lnTo>
                  <a:pt x="0" y="198"/>
                </a:lnTo>
                <a:lnTo>
                  <a:pt x="0" y="152"/>
                </a:lnTo>
                <a:lnTo>
                  <a:pt x="54" y="150"/>
                </a:lnTo>
                <a:lnTo>
                  <a:pt x="105" y="148"/>
                </a:lnTo>
                <a:lnTo>
                  <a:pt x="159" y="146"/>
                </a:lnTo>
                <a:lnTo>
                  <a:pt x="215" y="141"/>
                </a:lnTo>
                <a:lnTo>
                  <a:pt x="270" y="135"/>
                </a:lnTo>
                <a:lnTo>
                  <a:pt x="299" y="131"/>
                </a:lnTo>
                <a:lnTo>
                  <a:pt x="328" y="127"/>
                </a:lnTo>
                <a:lnTo>
                  <a:pt x="357" y="121"/>
                </a:lnTo>
                <a:lnTo>
                  <a:pt x="387" y="116"/>
                </a:lnTo>
                <a:lnTo>
                  <a:pt x="418" y="110"/>
                </a:lnTo>
                <a:lnTo>
                  <a:pt x="449" y="104"/>
                </a:lnTo>
                <a:lnTo>
                  <a:pt x="480" y="98"/>
                </a:lnTo>
                <a:lnTo>
                  <a:pt x="508" y="91"/>
                </a:lnTo>
                <a:lnTo>
                  <a:pt x="535" y="85"/>
                </a:lnTo>
                <a:lnTo>
                  <a:pt x="560" y="79"/>
                </a:lnTo>
                <a:lnTo>
                  <a:pt x="583" y="73"/>
                </a:lnTo>
                <a:lnTo>
                  <a:pt x="604" y="70"/>
                </a:lnTo>
                <a:lnTo>
                  <a:pt x="624" y="64"/>
                </a:lnTo>
                <a:lnTo>
                  <a:pt x="641" y="58"/>
                </a:lnTo>
                <a:lnTo>
                  <a:pt x="658" y="54"/>
                </a:lnTo>
                <a:lnTo>
                  <a:pt x="672" y="48"/>
                </a:lnTo>
                <a:lnTo>
                  <a:pt x="685" y="45"/>
                </a:lnTo>
                <a:lnTo>
                  <a:pt x="695" y="41"/>
                </a:lnTo>
                <a:lnTo>
                  <a:pt x="704" y="35"/>
                </a:lnTo>
                <a:lnTo>
                  <a:pt x="710" y="31"/>
                </a:lnTo>
                <a:lnTo>
                  <a:pt x="716" y="27"/>
                </a:lnTo>
                <a:lnTo>
                  <a:pt x="720" y="24"/>
                </a:lnTo>
                <a:lnTo>
                  <a:pt x="723" y="18"/>
                </a:lnTo>
                <a:lnTo>
                  <a:pt x="729" y="14"/>
                </a:lnTo>
                <a:lnTo>
                  <a:pt x="735" y="10"/>
                </a:lnTo>
                <a:lnTo>
                  <a:pt x="741" y="6"/>
                </a:lnTo>
                <a:lnTo>
                  <a:pt x="748" y="4"/>
                </a:lnTo>
                <a:lnTo>
                  <a:pt x="758" y="2"/>
                </a:lnTo>
                <a:lnTo>
                  <a:pt x="764" y="0"/>
                </a:lnTo>
                <a:lnTo>
                  <a:pt x="769" y="0"/>
                </a:lnTo>
                <a:lnTo>
                  <a:pt x="775" y="0"/>
                </a:lnTo>
                <a:lnTo>
                  <a:pt x="783" y="0"/>
                </a:lnTo>
                <a:lnTo>
                  <a:pt x="789" y="2"/>
                </a:lnTo>
                <a:lnTo>
                  <a:pt x="794" y="4"/>
                </a:lnTo>
                <a:lnTo>
                  <a:pt x="800" y="8"/>
                </a:lnTo>
                <a:lnTo>
                  <a:pt x="808" y="10"/>
                </a:lnTo>
                <a:lnTo>
                  <a:pt x="816" y="14"/>
                </a:lnTo>
                <a:lnTo>
                  <a:pt x="823" y="18"/>
                </a:lnTo>
                <a:lnTo>
                  <a:pt x="833" y="22"/>
                </a:lnTo>
                <a:lnTo>
                  <a:pt x="842" y="25"/>
                </a:lnTo>
                <a:lnTo>
                  <a:pt x="852" y="29"/>
                </a:lnTo>
                <a:lnTo>
                  <a:pt x="864" y="35"/>
                </a:lnTo>
                <a:lnTo>
                  <a:pt x="877" y="41"/>
                </a:lnTo>
                <a:lnTo>
                  <a:pt x="890" y="45"/>
                </a:lnTo>
                <a:lnTo>
                  <a:pt x="904" y="50"/>
                </a:lnTo>
                <a:lnTo>
                  <a:pt x="917" y="56"/>
                </a:lnTo>
                <a:lnTo>
                  <a:pt x="933" y="64"/>
                </a:lnTo>
                <a:lnTo>
                  <a:pt x="950" y="70"/>
                </a:lnTo>
                <a:lnTo>
                  <a:pt x="963" y="75"/>
                </a:lnTo>
                <a:lnTo>
                  <a:pt x="977" y="83"/>
                </a:lnTo>
                <a:lnTo>
                  <a:pt x="988" y="89"/>
                </a:lnTo>
                <a:lnTo>
                  <a:pt x="1000" y="96"/>
                </a:lnTo>
                <a:lnTo>
                  <a:pt x="1011" y="102"/>
                </a:lnTo>
                <a:lnTo>
                  <a:pt x="1021" y="108"/>
                </a:lnTo>
                <a:lnTo>
                  <a:pt x="1029" y="114"/>
                </a:lnTo>
                <a:lnTo>
                  <a:pt x="1036" y="121"/>
                </a:lnTo>
                <a:lnTo>
                  <a:pt x="1044" y="127"/>
                </a:lnTo>
                <a:lnTo>
                  <a:pt x="1050" y="133"/>
                </a:lnTo>
                <a:lnTo>
                  <a:pt x="1054" y="139"/>
                </a:lnTo>
                <a:lnTo>
                  <a:pt x="1057" y="143"/>
                </a:lnTo>
                <a:lnTo>
                  <a:pt x="1061" y="148"/>
                </a:lnTo>
                <a:lnTo>
                  <a:pt x="1063" y="154"/>
                </a:lnTo>
                <a:lnTo>
                  <a:pt x="1065" y="158"/>
                </a:lnTo>
                <a:lnTo>
                  <a:pt x="1065" y="164"/>
                </a:lnTo>
                <a:lnTo>
                  <a:pt x="1065" y="167"/>
                </a:lnTo>
                <a:lnTo>
                  <a:pt x="1063" y="171"/>
                </a:lnTo>
                <a:lnTo>
                  <a:pt x="1063" y="175"/>
                </a:lnTo>
                <a:lnTo>
                  <a:pt x="1061" y="179"/>
                </a:lnTo>
                <a:lnTo>
                  <a:pt x="1057" y="185"/>
                </a:lnTo>
                <a:lnTo>
                  <a:pt x="1054" y="189"/>
                </a:lnTo>
                <a:lnTo>
                  <a:pt x="1050" y="192"/>
                </a:lnTo>
                <a:lnTo>
                  <a:pt x="1046" y="196"/>
                </a:lnTo>
                <a:lnTo>
                  <a:pt x="1040" y="200"/>
                </a:lnTo>
                <a:lnTo>
                  <a:pt x="1034" y="204"/>
                </a:lnTo>
                <a:lnTo>
                  <a:pt x="1029" y="206"/>
                </a:lnTo>
                <a:lnTo>
                  <a:pt x="1023" y="210"/>
                </a:lnTo>
                <a:lnTo>
                  <a:pt x="1015" y="214"/>
                </a:lnTo>
                <a:lnTo>
                  <a:pt x="1006" y="215"/>
                </a:lnTo>
                <a:lnTo>
                  <a:pt x="998" y="219"/>
                </a:lnTo>
                <a:lnTo>
                  <a:pt x="988" y="2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127"/>
          <p:cNvSpPr/>
          <p:nvPr/>
        </p:nvSpPr>
        <p:spPr>
          <a:xfrm>
            <a:off x="6988320" y="3182760"/>
            <a:ext cx="581040" cy="147960"/>
          </a:xfrm>
          <a:custGeom>
            <a:avLst/>
            <a:gdLst/>
            <a:ahLst/>
            <a:rect l="l" t="t" r="r" b="b"/>
            <a:pathLst>
              <a:path w="732" h="186">
                <a:moveTo>
                  <a:pt x="0" y="94"/>
                </a:moveTo>
                <a:lnTo>
                  <a:pt x="39" y="88"/>
                </a:lnTo>
                <a:lnTo>
                  <a:pt x="79" y="84"/>
                </a:lnTo>
                <a:lnTo>
                  <a:pt x="121" y="79"/>
                </a:lnTo>
                <a:lnTo>
                  <a:pt x="165" y="73"/>
                </a:lnTo>
                <a:lnTo>
                  <a:pt x="188" y="69"/>
                </a:lnTo>
                <a:lnTo>
                  <a:pt x="212" y="67"/>
                </a:lnTo>
                <a:lnTo>
                  <a:pt x="235" y="61"/>
                </a:lnTo>
                <a:lnTo>
                  <a:pt x="258" y="58"/>
                </a:lnTo>
                <a:lnTo>
                  <a:pt x="283" y="54"/>
                </a:lnTo>
                <a:lnTo>
                  <a:pt x="307" y="48"/>
                </a:lnTo>
                <a:lnTo>
                  <a:pt x="332" y="42"/>
                </a:lnTo>
                <a:lnTo>
                  <a:pt x="359" y="36"/>
                </a:lnTo>
                <a:lnTo>
                  <a:pt x="384" y="31"/>
                </a:lnTo>
                <a:lnTo>
                  <a:pt x="409" y="27"/>
                </a:lnTo>
                <a:lnTo>
                  <a:pt x="434" y="23"/>
                </a:lnTo>
                <a:lnTo>
                  <a:pt x="455" y="19"/>
                </a:lnTo>
                <a:lnTo>
                  <a:pt x="478" y="17"/>
                </a:lnTo>
                <a:lnTo>
                  <a:pt x="498" y="13"/>
                </a:lnTo>
                <a:lnTo>
                  <a:pt x="517" y="12"/>
                </a:lnTo>
                <a:lnTo>
                  <a:pt x="536" y="10"/>
                </a:lnTo>
                <a:lnTo>
                  <a:pt x="553" y="8"/>
                </a:lnTo>
                <a:lnTo>
                  <a:pt x="570" y="6"/>
                </a:lnTo>
                <a:lnTo>
                  <a:pt x="586" y="4"/>
                </a:lnTo>
                <a:lnTo>
                  <a:pt x="601" y="2"/>
                </a:lnTo>
                <a:lnTo>
                  <a:pt x="617" y="2"/>
                </a:lnTo>
                <a:lnTo>
                  <a:pt x="630" y="2"/>
                </a:lnTo>
                <a:lnTo>
                  <a:pt x="643" y="0"/>
                </a:lnTo>
                <a:lnTo>
                  <a:pt x="655" y="0"/>
                </a:lnTo>
                <a:lnTo>
                  <a:pt x="664" y="0"/>
                </a:lnTo>
                <a:lnTo>
                  <a:pt x="672" y="2"/>
                </a:lnTo>
                <a:lnTo>
                  <a:pt x="682" y="2"/>
                </a:lnTo>
                <a:lnTo>
                  <a:pt x="689" y="2"/>
                </a:lnTo>
                <a:lnTo>
                  <a:pt x="695" y="4"/>
                </a:lnTo>
                <a:lnTo>
                  <a:pt x="701" y="6"/>
                </a:lnTo>
                <a:lnTo>
                  <a:pt x="707" y="8"/>
                </a:lnTo>
                <a:lnTo>
                  <a:pt x="712" y="12"/>
                </a:lnTo>
                <a:lnTo>
                  <a:pt x="716" y="13"/>
                </a:lnTo>
                <a:lnTo>
                  <a:pt x="720" y="17"/>
                </a:lnTo>
                <a:lnTo>
                  <a:pt x="724" y="21"/>
                </a:lnTo>
                <a:lnTo>
                  <a:pt x="728" y="25"/>
                </a:lnTo>
                <a:lnTo>
                  <a:pt x="730" y="31"/>
                </a:lnTo>
                <a:lnTo>
                  <a:pt x="730" y="35"/>
                </a:lnTo>
                <a:lnTo>
                  <a:pt x="732" y="40"/>
                </a:lnTo>
                <a:lnTo>
                  <a:pt x="732" y="48"/>
                </a:lnTo>
                <a:lnTo>
                  <a:pt x="732" y="54"/>
                </a:lnTo>
                <a:lnTo>
                  <a:pt x="730" y="60"/>
                </a:lnTo>
                <a:lnTo>
                  <a:pt x="730" y="65"/>
                </a:lnTo>
                <a:lnTo>
                  <a:pt x="728" y="69"/>
                </a:lnTo>
                <a:lnTo>
                  <a:pt x="724" y="73"/>
                </a:lnTo>
                <a:lnTo>
                  <a:pt x="720" y="79"/>
                </a:lnTo>
                <a:lnTo>
                  <a:pt x="716" y="81"/>
                </a:lnTo>
                <a:lnTo>
                  <a:pt x="712" y="84"/>
                </a:lnTo>
                <a:lnTo>
                  <a:pt x="707" y="88"/>
                </a:lnTo>
                <a:lnTo>
                  <a:pt x="701" y="90"/>
                </a:lnTo>
                <a:lnTo>
                  <a:pt x="695" y="94"/>
                </a:lnTo>
                <a:lnTo>
                  <a:pt x="689" y="96"/>
                </a:lnTo>
                <a:lnTo>
                  <a:pt x="682" y="98"/>
                </a:lnTo>
                <a:lnTo>
                  <a:pt x="672" y="102"/>
                </a:lnTo>
                <a:lnTo>
                  <a:pt x="664" y="104"/>
                </a:lnTo>
                <a:lnTo>
                  <a:pt x="655" y="106"/>
                </a:lnTo>
                <a:lnTo>
                  <a:pt x="643" y="107"/>
                </a:lnTo>
                <a:lnTo>
                  <a:pt x="632" y="109"/>
                </a:lnTo>
                <a:lnTo>
                  <a:pt x="622" y="111"/>
                </a:lnTo>
                <a:lnTo>
                  <a:pt x="613" y="113"/>
                </a:lnTo>
                <a:lnTo>
                  <a:pt x="605" y="115"/>
                </a:lnTo>
                <a:lnTo>
                  <a:pt x="597" y="117"/>
                </a:lnTo>
                <a:lnTo>
                  <a:pt x="590" y="119"/>
                </a:lnTo>
                <a:lnTo>
                  <a:pt x="584" y="121"/>
                </a:lnTo>
                <a:lnTo>
                  <a:pt x="578" y="123"/>
                </a:lnTo>
                <a:lnTo>
                  <a:pt x="572" y="125"/>
                </a:lnTo>
                <a:lnTo>
                  <a:pt x="569" y="125"/>
                </a:lnTo>
                <a:lnTo>
                  <a:pt x="565" y="127"/>
                </a:lnTo>
                <a:lnTo>
                  <a:pt x="557" y="129"/>
                </a:lnTo>
                <a:lnTo>
                  <a:pt x="553" y="129"/>
                </a:lnTo>
                <a:lnTo>
                  <a:pt x="551" y="129"/>
                </a:lnTo>
                <a:lnTo>
                  <a:pt x="547" y="129"/>
                </a:lnTo>
                <a:lnTo>
                  <a:pt x="544" y="129"/>
                </a:lnTo>
                <a:lnTo>
                  <a:pt x="540" y="131"/>
                </a:lnTo>
                <a:lnTo>
                  <a:pt x="534" y="131"/>
                </a:lnTo>
                <a:lnTo>
                  <a:pt x="528" y="131"/>
                </a:lnTo>
                <a:lnTo>
                  <a:pt x="521" y="132"/>
                </a:lnTo>
                <a:lnTo>
                  <a:pt x="511" y="132"/>
                </a:lnTo>
                <a:lnTo>
                  <a:pt x="501" y="134"/>
                </a:lnTo>
                <a:lnTo>
                  <a:pt x="492" y="134"/>
                </a:lnTo>
                <a:lnTo>
                  <a:pt x="480" y="136"/>
                </a:lnTo>
                <a:lnTo>
                  <a:pt x="467" y="138"/>
                </a:lnTo>
                <a:lnTo>
                  <a:pt x="453" y="140"/>
                </a:lnTo>
                <a:lnTo>
                  <a:pt x="440" y="140"/>
                </a:lnTo>
                <a:lnTo>
                  <a:pt x="425" y="142"/>
                </a:lnTo>
                <a:lnTo>
                  <a:pt x="407" y="144"/>
                </a:lnTo>
                <a:lnTo>
                  <a:pt x="390" y="146"/>
                </a:lnTo>
                <a:lnTo>
                  <a:pt x="373" y="148"/>
                </a:lnTo>
                <a:lnTo>
                  <a:pt x="354" y="150"/>
                </a:lnTo>
                <a:lnTo>
                  <a:pt x="332" y="154"/>
                </a:lnTo>
                <a:lnTo>
                  <a:pt x="311" y="155"/>
                </a:lnTo>
                <a:lnTo>
                  <a:pt x="288" y="157"/>
                </a:lnTo>
                <a:lnTo>
                  <a:pt x="265" y="159"/>
                </a:lnTo>
                <a:lnTo>
                  <a:pt x="242" y="163"/>
                </a:lnTo>
                <a:lnTo>
                  <a:pt x="217" y="165"/>
                </a:lnTo>
                <a:lnTo>
                  <a:pt x="190" y="169"/>
                </a:lnTo>
                <a:lnTo>
                  <a:pt x="164" y="171"/>
                </a:lnTo>
                <a:lnTo>
                  <a:pt x="135" y="175"/>
                </a:lnTo>
                <a:lnTo>
                  <a:pt x="106" y="177"/>
                </a:lnTo>
                <a:lnTo>
                  <a:pt x="75" y="180"/>
                </a:lnTo>
                <a:lnTo>
                  <a:pt x="45" y="184"/>
                </a:lnTo>
                <a:lnTo>
                  <a:pt x="14" y="186"/>
                </a:lnTo>
                <a:lnTo>
                  <a:pt x="6" y="140"/>
                </a:lnTo>
                <a:lnTo>
                  <a:pt x="0" y="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128"/>
          <p:cNvSpPr/>
          <p:nvPr/>
        </p:nvSpPr>
        <p:spPr>
          <a:xfrm>
            <a:off x="6789600" y="2908440"/>
            <a:ext cx="231840" cy="450720"/>
          </a:xfrm>
          <a:custGeom>
            <a:avLst/>
            <a:gdLst/>
            <a:ahLst/>
            <a:rect l="l" t="t" r="r" b="b"/>
            <a:pathLst>
              <a:path w="292" h="569">
                <a:moveTo>
                  <a:pt x="211" y="33"/>
                </a:moveTo>
                <a:lnTo>
                  <a:pt x="217" y="64"/>
                </a:lnTo>
                <a:lnTo>
                  <a:pt x="224" y="96"/>
                </a:lnTo>
                <a:lnTo>
                  <a:pt x="230" y="125"/>
                </a:lnTo>
                <a:lnTo>
                  <a:pt x="236" y="156"/>
                </a:lnTo>
                <a:lnTo>
                  <a:pt x="242" y="183"/>
                </a:lnTo>
                <a:lnTo>
                  <a:pt x="247" y="210"/>
                </a:lnTo>
                <a:lnTo>
                  <a:pt x="253" y="237"/>
                </a:lnTo>
                <a:lnTo>
                  <a:pt x="257" y="262"/>
                </a:lnTo>
                <a:lnTo>
                  <a:pt x="263" y="287"/>
                </a:lnTo>
                <a:lnTo>
                  <a:pt x="267" y="310"/>
                </a:lnTo>
                <a:lnTo>
                  <a:pt x="270" y="331"/>
                </a:lnTo>
                <a:lnTo>
                  <a:pt x="274" y="352"/>
                </a:lnTo>
                <a:lnTo>
                  <a:pt x="278" y="373"/>
                </a:lnTo>
                <a:lnTo>
                  <a:pt x="280" y="392"/>
                </a:lnTo>
                <a:lnTo>
                  <a:pt x="284" y="409"/>
                </a:lnTo>
                <a:lnTo>
                  <a:pt x="286" y="427"/>
                </a:lnTo>
                <a:lnTo>
                  <a:pt x="288" y="444"/>
                </a:lnTo>
                <a:lnTo>
                  <a:pt x="290" y="457"/>
                </a:lnTo>
                <a:lnTo>
                  <a:pt x="290" y="473"/>
                </a:lnTo>
                <a:lnTo>
                  <a:pt x="292" y="486"/>
                </a:lnTo>
                <a:lnTo>
                  <a:pt x="292" y="498"/>
                </a:lnTo>
                <a:lnTo>
                  <a:pt x="292" y="509"/>
                </a:lnTo>
                <a:lnTo>
                  <a:pt x="292" y="519"/>
                </a:lnTo>
                <a:lnTo>
                  <a:pt x="292" y="528"/>
                </a:lnTo>
                <a:lnTo>
                  <a:pt x="292" y="536"/>
                </a:lnTo>
                <a:lnTo>
                  <a:pt x="290" y="544"/>
                </a:lnTo>
                <a:lnTo>
                  <a:pt x="288" y="549"/>
                </a:lnTo>
                <a:lnTo>
                  <a:pt x="286" y="555"/>
                </a:lnTo>
                <a:lnTo>
                  <a:pt x="284" y="561"/>
                </a:lnTo>
                <a:lnTo>
                  <a:pt x="282" y="563"/>
                </a:lnTo>
                <a:lnTo>
                  <a:pt x="278" y="567"/>
                </a:lnTo>
                <a:lnTo>
                  <a:pt x="274" y="569"/>
                </a:lnTo>
                <a:lnTo>
                  <a:pt x="267" y="569"/>
                </a:lnTo>
                <a:lnTo>
                  <a:pt x="261" y="569"/>
                </a:lnTo>
                <a:lnTo>
                  <a:pt x="253" y="567"/>
                </a:lnTo>
                <a:lnTo>
                  <a:pt x="246" y="563"/>
                </a:lnTo>
                <a:lnTo>
                  <a:pt x="238" y="557"/>
                </a:lnTo>
                <a:lnTo>
                  <a:pt x="232" y="551"/>
                </a:lnTo>
                <a:lnTo>
                  <a:pt x="224" y="542"/>
                </a:lnTo>
                <a:lnTo>
                  <a:pt x="217" y="530"/>
                </a:lnTo>
                <a:lnTo>
                  <a:pt x="213" y="525"/>
                </a:lnTo>
                <a:lnTo>
                  <a:pt x="209" y="517"/>
                </a:lnTo>
                <a:lnTo>
                  <a:pt x="205" y="509"/>
                </a:lnTo>
                <a:lnTo>
                  <a:pt x="201" y="501"/>
                </a:lnTo>
                <a:lnTo>
                  <a:pt x="199" y="494"/>
                </a:lnTo>
                <a:lnTo>
                  <a:pt x="196" y="486"/>
                </a:lnTo>
                <a:lnTo>
                  <a:pt x="192" y="477"/>
                </a:lnTo>
                <a:lnTo>
                  <a:pt x="188" y="467"/>
                </a:lnTo>
                <a:lnTo>
                  <a:pt x="184" y="455"/>
                </a:lnTo>
                <a:lnTo>
                  <a:pt x="180" y="446"/>
                </a:lnTo>
                <a:lnTo>
                  <a:pt x="176" y="434"/>
                </a:lnTo>
                <a:lnTo>
                  <a:pt x="173" y="423"/>
                </a:lnTo>
                <a:lnTo>
                  <a:pt x="171" y="409"/>
                </a:lnTo>
                <a:lnTo>
                  <a:pt x="167" y="398"/>
                </a:lnTo>
                <a:lnTo>
                  <a:pt x="163" y="384"/>
                </a:lnTo>
                <a:lnTo>
                  <a:pt x="159" y="371"/>
                </a:lnTo>
                <a:lnTo>
                  <a:pt x="151" y="344"/>
                </a:lnTo>
                <a:lnTo>
                  <a:pt x="146" y="319"/>
                </a:lnTo>
                <a:lnTo>
                  <a:pt x="138" y="296"/>
                </a:lnTo>
                <a:lnTo>
                  <a:pt x="130" y="273"/>
                </a:lnTo>
                <a:lnTo>
                  <a:pt x="123" y="252"/>
                </a:lnTo>
                <a:lnTo>
                  <a:pt x="115" y="233"/>
                </a:lnTo>
                <a:lnTo>
                  <a:pt x="109" y="214"/>
                </a:lnTo>
                <a:lnTo>
                  <a:pt x="102" y="194"/>
                </a:lnTo>
                <a:lnTo>
                  <a:pt x="94" y="179"/>
                </a:lnTo>
                <a:lnTo>
                  <a:pt x="86" y="162"/>
                </a:lnTo>
                <a:lnTo>
                  <a:pt x="80" y="148"/>
                </a:lnTo>
                <a:lnTo>
                  <a:pt x="73" y="135"/>
                </a:lnTo>
                <a:lnTo>
                  <a:pt x="65" y="121"/>
                </a:lnTo>
                <a:lnTo>
                  <a:pt x="57" y="110"/>
                </a:lnTo>
                <a:lnTo>
                  <a:pt x="50" y="100"/>
                </a:lnTo>
                <a:lnTo>
                  <a:pt x="44" y="91"/>
                </a:lnTo>
                <a:lnTo>
                  <a:pt x="36" y="83"/>
                </a:lnTo>
                <a:lnTo>
                  <a:pt x="31" y="77"/>
                </a:lnTo>
                <a:lnTo>
                  <a:pt x="25" y="70"/>
                </a:lnTo>
                <a:lnTo>
                  <a:pt x="19" y="64"/>
                </a:lnTo>
                <a:lnTo>
                  <a:pt x="15" y="58"/>
                </a:lnTo>
                <a:lnTo>
                  <a:pt x="11" y="52"/>
                </a:lnTo>
                <a:lnTo>
                  <a:pt x="8" y="47"/>
                </a:lnTo>
                <a:lnTo>
                  <a:pt x="6" y="41"/>
                </a:lnTo>
                <a:lnTo>
                  <a:pt x="4" y="35"/>
                </a:lnTo>
                <a:lnTo>
                  <a:pt x="2" y="29"/>
                </a:lnTo>
                <a:lnTo>
                  <a:pt x="0" y="25"/>
                </a:lnTo>
                <a:lnTo>
                  <a:pt x="0" y="22"/>
                </a:lnTo>
                <a:lnTo>
                  <a:pt x="0" y="18"/>
                </a:lnTo>
                <a:lnTo>
                  <a:pt x="2" y="14"/>
                </a:lnTo>
                <a:lnTo>
                  <a:pt x="4" y="12"/>
                </a:lnTo>
                <a:lnTo>
                  <a:pt x="6" y="8"/>
                </a:lnTo>
                <a:lnTo>
                  <a:pt x="8" y="6"/>
                </a:lnTo>
                <a:lnTo>
                  <a:pt x="13" y="4"/>
                </a:lnTo>
                <a:lnTo>
                  <a:pt x="19" y="2"/>
                </a:lnTo>
                <a:lnTo>
                  <a:pt x="27" y="2"/>
                </a:lnTo>
                <a:lnTo>
                  <a:pt x="34" y="2"/>
                </a:lnTo>
                <a:lnTo>
                  <a:pt x="46" y="0"/>
                </a:lnTo>
                <a:lnTo>
                  <a:pt x="57" y="2"/>
                </a:lnTo>
                <a:lnTo>
                  <a:pt x="69" y="2"/>
                </a:lnTo>
                <a:lnTo>
                  <a:pt x="82" y="4"/>
                </a:lnTo>
                <a:lnTo>
                  <a:pt x="98" y="6"/>
                </a:lnTo>
                <a:lnTo>
                  <a:pt x="115" y="8"/>
                </a:lnTo>
                <a:lnTo>
                  <a:pt x="132" y="12"/>
                </a:lnTo>
                <a:lnTo>
                  <a:pt x="150" y="16"/>
                </a:lnTo>
                <a:lnTo>
                  <a:pt x="169" y="20"/>
                </a:lnTo>
                <a:lnTo>
                  <a:pt x="190" y="25"/>
                </a:lnTo>
                <a:lnTo>
                  <a:pt x="211" y="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129"/>
          <p:cNvSpPr/>
          <p:nvPr/>
        </p:nvSpPr>
        <p:spPr>
          <a:xfrm>
            <a:off x="5702400" y="2836800"/>
            <a:ext cx="971280" cy="824040"/>
          </a:xfrm>
          <a:custGeom>
            <a:avLst/>
            <a:gdLst/>
            <a:ahLst/>
            <a:rect l="l" t="t" r="r" b="b"/>
            <a:pathLst>
              <a:path w="1223" h="1039">
                <a:moveTo>
                  <a:pt x="144" y="1020"/>
                </a:moveTo>
                <a:lnTo>
                  <a:pt x="127" y="1023"/>
                </a:lnTo>
                <a:lnTo>
                  <a:pt x="112" y="1027"/>
                </a:lnTo>
                <a:lnTo>
                  <a:pt x="96" y="1029"/>
                </a:lnTo>
                <a:lnTo>
                  <a:pt x="83" y="1033"/>
                </a:lnTo>
                <a:lnTo>
                  <a:pt x="71" y="1035"/>
                </a:lnTo>
                <a:lnTo>
                  <a:pt x="60" y="1037"/>
                </a:lnTo>
                <a:lnTo>
                  <a:pt x="48" y="1037"/>
                </a:lnTo>
                <a:lnTo>
                  <a:pt x="39" y="1039"/>
                </a:lnTo>
                <a:lnTo>
                  <a:pt x="31" y="1039"/>
                </a:lnTo>
                <a:lnTo>
                  <a:pt x="23" y="1039"/>
                </a:lnTo>
                <a:lnTo>
                  <a:pt x="16" y="1039"/>
                </a:lnTo>
                <a:lnTo>
                  <a:pt x="12" y="1037"/>
                </a:lnTo>
                <a:lnTo>
                  <a:pt x="8" y="1035"/>
                </a:lnTo>
                <a:lnTo>
                  <a:pt x="4" y="1035"/>
                </a:lnTo>
                <a:lnTo>
                  <a:pt x="2" y="1033"/>
                </a:lnTo>
                <a:lnTo>
                  <a:pt x="2" y="1031"/>
                </a:lnTo>
                <a:lnTo>
                  <a:pt x="0" y="1029"/>
                </a:lnTo>
                <a:lnTo>
                  <a:pt x="0" y="1025"/>
                </a:lnTo>
                <a:lnTo>
                  <a:pt x="0" y="1023"/>
                </a:lnTo>
                <a:lnTo>
                  <a:pt x="2" y="1020"/>
                </a:lnTo>
                <a:lnTo>
                  <a:pt x="4" y="1016"/>
                </a:lnTo>
                <a:lnTo>
                  <a:pt x="8" y="1014"/>
                </a:lnTo>
                <a:lnTo>
                  <a:pt x="14" y="1008"/>
                </a:lnTo>
                <a:lnTo>
                  <a:pt x="20" y="1004"/>
                </a:lnTo>
                <a:lnTo>
                  <a:pt x="27" y="1000"/>
                </a:lnTo>
                <a:lnTo>
                  <a:pt x="35" y="995"/>
                </a:lnTo>
                <a:lnTo>
                  <a:pt x="45" y="991"/>
                </a:lnTo>
                <a:lnTo>
                  <a:pt x="54" y="985"/>
                </a:lnTo>
                <a:lnTo>
                  <a:pt x="66" y="979"/>
                </a:lnTo>
                <a:lnTo>
                  <a:pt x="77" y="973"/>
                </a:lnTo>
                <a:lnTo>
                  <a:pt x="91" y="968"/>
                </a:lnTo>
                <a:lnTo>
                  <a:pt x="104" y="960"/>
                </a:lnTo>
                <a:lnTo>
                  <a:pt x="117" y="956"/>
                </a:lnTo>
                <a:lnTo>
                  <a:pt x="131" y="950"/>
                </a:lnTo>
                <a:lnTo>
                  <a:pt x="144" y="945"/>
                </a:lnTo>
                <a:lnTo>
                  <a:pt x="160" y="939"/>
                </a:lnTo>
                <a:lnTo>
                  <a:pt x="175" y="931"/>
                </a:lnTo>
                <a:lnTo>
                  <a:pt x="192" y="925"/>
                </a:lnTo>
                <a:lnTo>
                  <a:pt x="210" y="918"/>
                </a:lnTo>
                <a:lnTo>
                  <a:pt x="229" y="908"/>
                </a:lnTo>
                <a:lnTo>
                  <a:pt x="248" y="901"/>
                </a:lnTo>
                <a:lnTo>
                  <a:pt x="267" y="891"/>
                </a:lnTo>
                <a:lnTo>
                  <a:pt x="288" y="879"/>
                </a:lnTo>
                <a:lnTo>
                  <a:pt x="309" y="870"/>
                </a:lnTo>
                <a:lnTo>
                  <a:pt x="331" y="858"/>
                </a:lnTo>
                <a:lnTo>
                  <a:pt x="354" y="847"/>
                </a:lnTo>
                <a:lnTo>
                  <a:pt x="377" y="833"/>
                </a:lnTo>
                <a:lnTo>
                  <a:pt x="400" y="822"/>
                </a:lnTo>
                <a:lnTo>
                  <a:pt x="425" y="810"/>
                </a:lnTo>
                <a:lnTo>
                  <a:pt x="448" y="797"/>
                </a:lnTo>
                <a:lnTo>
                  <a:pt x="494" y="772"/>
                </a:lnTo>
                <a:lnTo>
                  <a:pt x="540" y="747"/>
                </a:lnTo>
                <a:lnTo>
                  <a:pt x="584" y="718"/>
                </a:lnTo>
                <a:lnTo>
                  <a:pt x="626" y="687"/>
                </a:lnTo>
                <a:lnTo>
                  <a:pt x="668" y="657"/>
                </a:lnTo>
                <a:lnTo>
                  <a:pt x="709" y="622"/>
                </a:lnTo>
                <a:lnTo>
                  <a:pt x="747" y="588"/>
                </a:lnTo>
                <a:lnTo>
                  <a:pt x="780" y="553"/>
                </a:lnTo>
                <a:lnTo>
                  <a:pt x="810" y="517"/>
                </a:lnTo>
                <a:lnTo>
                  <a:pt x="841" y="478"/>
                </a:lnTo>
                <a:lnTo>
                  <a:pt x="870" y="440"/>
                </a:lnTo>
                <a:lnTo>
                  <a:pt x="883" y="419"/>
                </a:lnTo>
                <a:lnTo>
                  <a:pt x="897" y="400"/>
                </a:lnTo>
                <a:lnTo>
                  <a:pt x="910" y="378"/>
                </a:lnTo>
                <a:lnTo>
                  <a:pt x="922" y="359"/>
                </a:lnTo>
                <a:lnTo>
                  <a:pt x="933" y="338"/>
                </a:lnTo>
                <a:lnTo>
                  <a:pt x="945" y="317"/>
                </a:lnTo>
                <a:lnTo>
                  <a:pt x="954" y="296"/>
                </a:lnTo>
                <a:lnTo>
                  <a:pt x="966" y="273"/>
                </a:lnTo>
                <a:lnTo>
                  <a:pt x="974" y="254"/>
                </a:lnTo>
                <a:lnTo>
                  <a:pt x="983" y="236"/>
                </a:lnTo>
                <a:lnTo>
                  <a:pt x="989" y="217"/>
                </a:lnTo>
                <a:lnTo>
                  <a:pt x="997" y="202"/>
                </a:lnTo>
                <a:lnTo>
                  <a:pt x="1002" y="185"/>
                </a:lnTo>
                <a:lnTo>
                  <a:pt x="1006" y="169"/>
                </a:lnTo>
                <a:lnTo>
                  <a:pt x="1012" y="156"/>
                </a:lnTo>
                <a:lnTo>
                  <a:pt x="1014" y="142"/>
                </a:lnTo>
                <a:lnTo>
                  <a:pt x="1018" y="129"/>
                </a:lnTo>
                <a:lnTo>
                  <a:pt x="1020" y="117"/>
                </a:lnTo>
                <a:lnTo>
                  <a:pt x="1020" y="106"/>
                </a:lnTo>
                <a:lnTo>
                  <a:pt x="1022" y="96"/>
                </a:lnTo>
                <a:lnTo>
                  <a:pt x="1022" y="87"/>
                </a:lnTo>
                <a:lnTo>
                  <a:pt x="1020" y="79"/>
                </a:lnTo>
                <a:lnTo>
                  <a:pt x="1018" y="71"/>
                </a:lnTo>
                <a:lnTo>
                  <a:pt x="1016" y="64"/>
                </a:lnTo>
                <a:lnTo>
                  <a:pt x="1012" y="54"/>
                </a:lnTo>
                <a:lnTo>
                  <a:pt x="1010" y="46"/>
                </a:lnTo>
                <a:lnTo>
                  <a:pt x="1008" y="39"/>
                </a:lnTo>
                <a:lnTo>
                  <a:pt x="1008" y="31"/>
                </a:lnTo>
                <a:lnTo>
                  <a:pt x="1010" y="27"/>
                </a:lnTo>
                <a:lnTo>
                  <a:pt x="1010" y="23"/>
                </a:lnTo>
                <a:lnTo>
                  <a:pt x="1012" y="19"/>
                </a:lnTo>
                <a:lnTo>
                  <a:pt x="1014" y="16"/>
                </a:lnTo>
                <a:lnTo>
                  <a:pt x="1018" y="14"/>
                </a:lnTo>
                <a:lnTo>
                  <a:pt x="1022" y="10"/>
                </a:lnTo>
                <a:lnTo>
                  <a:pt x="1025" y="8"/>
                </a:lnTo>
                <a:lnTo>
                  <a:pt x="1029" y="6"/>
                </a:lnTo>
                <a:lnTo>
                  <a:pt x="1031" y="4"/>
                </a:lnTo>
                <a:lnTo>
                  <a:pt x="1035" y="2"/>
                </a:lnTo>
                <a:lnTo>
                  <a:pt x="1039" y="2"/>
                </a:lnTo>
                <a:lnTo>
                  <a:pt x="1045" y="0"/>
                </a:lnTo>
                <a:lnTo>
                  <a:pt x="1048" y="0"/>
                </a:lnTo>
                <a:lnTo>
                  <a:pt x="1054" y="2"/>
                </a:lnTo>
                <a:lnTo>
                  <a:pt x="1062" y="2"/>
                </a:lnTo>
                <a:lnTo>
                  <a:pt x="1068" y="4"/>
                </a:lnTo>
                <a:lnTo>
                  <a:pt x="1075" y="6"/>
                </a:lnTo>
                <a:lnTo>
                  <a:pt x="1083" y="8"/>
                </a:lnTo>
                <a:lnTo>
                  <a:pt x="1093" y="10"/>
                </a:lnTo>
                <a:lnTo>
                  <a:pt x="1102" y="14"/>
                </a:lnTo>
                <a:lnTo>
                  <a:pt x="1112" y="18"/>
                </a:lnTo>
                <a:lnTo>
                  <a:pt x="1121" y="19"/>
                </a:lnTo>
                <a:lnTo>
                  <a:pt x="1133" y="25"/>
                </a:lnTo>
                <a:lnTo>
                  <a:pt x="1144" y="29"/>
                </a:lnTo>
                <a:lnTo>
                  <a:pt x="1154" y="35"/>
                </a:lnTo>
                <a:lnTo>
                  <a:pt x="1164" y="41"/>
                </a:lnTo>
                <a:lnTo>
                  <a:pt x="1171" y="48"/>
                </a:lnTo>
                <a:lnTo>
                  <a:pt x="1179" y="54"/>
                </a:lnTo>
                <a:lnTo>
                  <a:pt x="1185" y="58"/>
                </a:lnTo>
                <a:lnTo>
                  <a:pt x="1192" y="64"/>
                </a:lnTo>
                <a:lnTo>
                  <a:pt x="1198" y="69"/>
                </a:lnTo>
                <a:lnTo>
                  <a:pt x="1202" y="73"/>
                </a:lnTo>
                <a:lnTo>
                  <a:pt x="1208" y="79"/>
                </a:lnTo>
                <a:lnTo>
                  <a:pt x="1212" y="83"/>
                </a:lnTo>
                <a:lnTo>
                  <a:pt x="1215" y="89"/>
                </a:lnTo>
                <a:lnTo>
                  <a:pt x="1217" y="92"/>
                </a:lnTo>
                <a:lnTo>
                  <a:pt x="1219" y="96"/>
                </a:lnTo>
                <a:lnTo>
                  <a:pt x="1221" y="102"/>
                </a:lnTo>
                <a:lnTo>
                  <a:pt x="1221" y="106"/>
                </a:lnTo>
                <a:lnTo>
                  <a:pt x="1223" y="110"/>
                </a:lnTo>
                <a:lnTo>
                  <a:pt x="1221" y="117"/>
                </a:lnTo>
                <a:lnTo>
                  <a:pt x="1221" y="125"/>
                </a:lnTo>
                <a:lnTo>
                  <a:pt x="1219" y="133"/>
                </a:lnTo>
                <a:lnTo>
                  <a:pt x="1217" y="140"/>
                </a:lnTo>
                <a:lnTo>
                  <a:pt x="1213" y="150"/>
                </a:lnTo>
                <a:lnTo>
                  <a:pt x="1212" y="162"/>
                </a:lnTo>
                <a:lnTo>
                  <a:pt x="1208" y="171"/>
                </a:lnTo>
                <a:lnTo>
                  <a:pt x="1202" y="183"/>
                </a:lnTo>
                <a:lnTo>
                  <a:pt x="1198" y="196"/>
                </a:lnTo>
                <a:lnTo>
                  <a:pt x="1192" y="210"/>
                </a:lnTo>
                <a:lnTo>
                  <a:pt x="1185" y="223"/>
                </a:lnTo>
                <a:lnTo>
                  <a:pt x="1179" y="238"/>
                </a:lnTo>
                <a:lnTo>
                  <a:pt x="1171" y="254"/>
                </a:lnTo>
                <a:lnTo>
                  <a:pt x="1164" y="271"/>
                </a:lnTo>
                <a:lnTo>
                  <a:pt x="1154" y="290"/>
                </a:lnTo>
                <a:lnTo>
                  <a:pt x="1144" y="309"/>
                </a:lnTo>
                <a:lnTo>
                  <a:pt x="1121" y="348"/>
                </a:lnTo>
                <a:lnTo>
                  <a:pt x="1094" y="388"/>
                </a:lnTo>
                <a:lnTo>
                  <a:pt x="1066" y="426"/>
                </a:lnTo>
                <a:lnTo>
                  <a:pt x="1037" y="465"/>
                </a:lnTo>
                <a:lnTo>
                  <a:pt x="1006" y="505"/>
                </a:lnTo>
                <a:lnTo>
                  <a:pt x="989" y="524"/>
                </a:lnTo>
                <a:lnTo>
                  <a:pt x="974" y="543"/>
                </a:lnTo>
                <a:lnTo>
                  <a:pt x="956" y="563"/>
                </a:lnTo>
                <a:lnTo>
                  <a:pt x="939" y="584"/>
                </a:lnTo>
                <a:lnTo>
                  <a:pt x="920" y="603"/>
                </a:lnTo>
                <a:lnTo>
                  <a:pt x="901" y="622"/>
                </a:lnTo>
                <a:lnTo>
                  <a:pt x="856" y="663"/>
                </a:lnTo>
                <a:lnTo>
                  <a:pt x="812" y="699"/>
                </a:lnTo>
                <a:lnTo>
                  <a:pt x="789" y="718"/>
                </a:lnTo>
                <a:lnTo>
                  <a:pt x="766" y="735"/>
                </a:lnTo>
                <a:lnTo>
                  <a:pt x="741" y="753"/>
                </a:lnTo>
                <a:lnTo>
                  <a:pt x="718" y="768"/>
                </a:lnTo>
                <a:lnTo>
                  <a:pt x="693" y="785"/>
                </a:lnTo>
                <a:lnTo>
                  <a:pt x="668" y="801"/>
                </a:lnTo>
                <a:lnTo>
                  <a:pt x="645" y="814"/>
                </a:lnTo>
                <a:lnTo>
                  <a:pt x="618" y="830"/>
                </a:lnTo>
                <a:lnTo>
                  <a:pt x="593" y="843"/>
                </a:lnTo>
                <a:lnTo>
                  <a:pt x="569" y="856"/>
                </a:lnTo>
                <a:lnTo>
                  <a:pt x="542" y="868"/>
                </a:lnTo>
                <a:lnTo>
                  <a:pt x="517" y="879"/>
                </a:lnTo>
                <a:lnTo>
                  <a:pt x="488" y="893"/>
                </a:lnTo>
                <a:lnTo>
                  <a:pt x="459" y="904"/>
                </a:lnTo>
                <a:lnTo>
                  <a:pt x="432" y="916"/>
                </a:lnTo>
                <a:lnTo>
                  <a:pt x="405" y="927"/>
                </a:lnTo>
                <a:lnTo>
                  <a:pt x="379" y="939"/>
                </a:lnTo>
                <a:lnTo>
                  <a:pt x="354" y="949"/>
                </a:lnTo>
                <a:lnTo>
                  <a:pt x="329" y="958"/>
                </a:lnTo>
                <a:lnTo>
                  <a:pt x="306" y="968"/>
                </a:lnTo>
                <a:lnTo>
                  <a:pt x="283" y="975"/>
                </a:lnTo>
                <a:lnTo>
                  <a:pt x="260" y="983"/>
                </a:lnTo>
                <a:lnTo>
                  <a:pt x="238" y="991"/>
                </a:lnTo>
                <a:lnTo>
                  <a:pt x="217" y="997"/>
                </a:lnTo>
                <a:lnTo>
                  <a:pt x="198" y="1004"/>
                </a:lnTo>
                <a:lnTo>
                  <a:pt x="179" y="1010"/>
                </a:lnTo>
                <a:lnTo>
                  <a:pt x="162" y="1014"/>
                </a:lnTo>
                <a:lnTo>
                  <a:pt x="144" y="10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130"/>
          <p:cNvSpPr/>
          <p:nvPr/>
        </p:nvSpPr>
        <p:spPr>
          <a:xfrm>
            <a:off x="6046920" y="2563920"/>
            <a:ext cx="514080" cy="907920"/>
          </a:xfrm>
          <a:custGeom>
            <a:avLst/>
            <a:gdLst/>
            <a:ahLst/>
            <a:rect l="l" t="t" r="r" b="b"/>
            <a:pathLst>
              <a:path w="647" h="1144">
                <a:moveTo>
                  <a:pt x="121" y="303"/>
                </a:moveTo>
                <a:lnTo>
                  <a:pt x="125" y="278"/>
                </a:lnTo>
                <a:lnTo>
                  <a:pt x="129" y="257"/>
                </a:lnTo>
                <a:lnTo>
                  <a:pt x="133" y="234"/>
                </a:lnTo>
                <a:lnTo>
                  <a:pt x="135" y="215"/>
                </a:lnTo>
                <a:lnTo>
                  <a:pt x="136" y="195"/>
                </a:lnTo>
                <a:lnTo>
                  <a:pt x="138" y="178"/>
                </a:lnTo>
                <a:lnTo>
                  <a:pt x="138" y="161"/>
                </a:lnTo>
                <a:lnTo>
                  <a:pt x="138" y="144"/>
                </a:lnTo>
                <a:lnTo>
                  <a:pt x="138" y="130"/>
                </a:lnTo>
                <a:lnTo>
                  <a:pt x="138" y="117"/>
                </a:lnTo>
                <a:lnTo>
                  <a:pt x="136" y="103"/>
                </a:lnTo>
                <a:lnTo>
                  <a:pt x="135" y="92"/>
                </a:lnTo>
                <a:lnTo>
                  <a:pt x="133" y="82"/>
                </a:lnTo>
                <a:lnTo>
                  <a:pt x="129" y="73"/>
                </a:lnTo>
                <a:lnTo>
                  <a:pt x="125" y="65"/>
                </a:lnTo>
                <a:lnTo>
                  <a:pt x="121" y="57"/>
                </a:lnTo>
                <a:lnTo>
                  <a:pt x="115" y="52"/>
                </a:lnTo>
                <a:lnTo>
                  <a:pt x="111" y="46"/>
                </a:lnTo>
                <a:lnTo>
                  <a:pt x="108" y="40"/>
                </a:lnTo>
                <a:lnTo>
                  <a:pt x="106" y="34"/>
                </a:lnTo>
                <a:lnTo>
                  <a:pt x="104" y="30"/>
                </a:lnTo>
                <a:lnTo>
                  <a:pt x="102" y="27"/>
                </a:lnTo>
                <a:lnTo>
                  <a:pt x="102" y="23"/>
                </a:lnTo>
                <a:lnTo>
                  <a:pt x="102" y="19"/>
                </a:lnTo>
                <a:lnTo>
                  <a:pt x="102" y="17"/>
                </a:lnTo>
                <a:lnTo>
                  <a:pt x="102" y="13"/>
                </a:lnTo>
                <a:lnTo>
                  <a:pt x="104" y="11"/>
                </a:lnTo>
                <a:lnTo>
                  <a:pt x="106" y="7"/>
                </a:lnTo>
                <a:lnTo>
                  <a:pt x="108" y="5"/>
                </a:lnTo>
                <a:lnTo>
                  <a:pt x="111" y="4"/>
                </a:lnTo>
                <a:lnTo>
                  <a:pt x="115" y="2"/>
                </a:lnTo>
                <a:lnTo>
                  <a:pt x="121" y="0"/>
                </a:lnTo>
                <a:lnTo>
                  <a:pt x="125" y="0"/>
                </a:lnTo>
                <a:lnTo>
                  <a:pt x="131" y="0"/>
                </a:lnTo>
                <a:lnTo>
                  <a:pt x="136" y="0"/>
                </a:lnTo>
                <a:lnTo>
                  <a:pt x="144" y="2"/>
                </a:lnTo>
                <a:lnTo>
                  <a:pt x="152" y="2"/>
                </a:lnTo>
                <a:lnTo>
                  <a:pt x="159" y="4"/>
                </a:lnTo>
                <a:lnTo>
                  <a:pt x="167" y="5"/>
                </a:lnTo>
                <a:lnTo>
                  <a:pt x="177" y="7"/>
                </a:lnTo>
                <a:lnTo>
                  <a:pt x="196" y="13"/>
                </a:lnTo>
                <a:lnTo>
                  <a:pt x="215" y="19"/>
                </a:lnTo>
                <a:lnTo>
                  <a:pt x="238" y="25"/>
                </a:lnTo>
                <a:lnTo>
                  <a:pt x="261" y="34"/>
                </a:lnTo>
                <a:lnTo>
                  <a:pt x="273" y="38"/>
                </a:lnTo>
                <a:lnTo>
                  <a:pt x="284" y="42"/>
                </a:lnTo>
                <a:lnTo>
                  <a:pt x="294" y="48"/>
                </a:lnTo>
                <a:lnTo>
                  <a:pt x="303" y="52"/>
                </a:lnTo>
                <a:lnTo>
                  <a:pt x="311" y="55"/>
                </a:lnTo>
                <a:lnTo>
                  <a:pt x="319" y="61"/>
                </a:lnTo>
                <a:lnTo>
                  <a:pt x="326" y="65"/>
                </a:lnTo>
                <a:lnTo>
                  <a:pt x="332" y="69"/>
                </a:lnTo>
                <a:lnTo>
                  <a:pt x="338" y="73"/>
                </a:lnTo>
                <a:lnTo>
                  <a:pt x="344" y="78"/>
                </a:lnTo>
                <a:lnTo>
                  <a:pt x="348" y="82"/>
                </a:lnTo>
                <a:lnTo>
                  <a:pt x="351" y="86"/>
                </a:lnTo>
                <a:lnTo>
                  <a:pt x="359" y="96"/>
                </a:lnTo>
                <a:lnTo>
                  <a:pt x="365" y="103"/>
                </a:lnTo>
                <a:lnTo>
                  <a:pt x="363" y="107"/>
                </a:lnTo>
                <a:lnTo>
                  <a:pt x="363" y="111"/>
                </a:lnTo>
                <a:lnTo>
                  <a:pt x="363" y="117"/>
                </a:lnTo>
                <a:lnTo>
                  <a:pt x="363" y="121"/>
                </a:lnTo>
                <a:lnTo>
                  <a:pt x="361" y="126"/>
                </a:lnTo>
                <a:lnTo>
                  <a:pt x="359" y="132"/>
                </a:lnTo>
                <a:lnTo>
                  <a:pt x="357" y="138"/>
                </a:lnTo>
                <a:lnTo>
                  <a:pt x="357" y="146"/>
                </a:lnTo>
                <a:lnTo>
                  <a:pt x="353" y="153"/>
                </a:lnTo>
                <a:lnTo>
                  <a:pt x="351" y="161"/>
                </a:lnTo>
                <a:lnTo>
                  <a:pt x="350" y="171"/>
                </a:lnTo>
                <a:lnTo>
                  <a:pt x="348" y="178"/>
                </a:lnTo>
                <a:lnTo>
                  <a:pt x="344" y="188"/>
                </a:lnTo>
                <a:lnTo>
                  <a:pt x="340" y="197"/>
                </a:lnTo>
                <a:lnTo>
                  <a:pt x="336" y="209"/>
                </a:lnTo>
                <a:lnTo>
                  <a:pt x="332" y="220"/>
                </a:lnTo>
                <a:lnTo>
                  <a:pt x="328" y="232"/>
                </a:lnTo>
                <a:lnTo>
                  <a:pt x="325" y="243"/>
                </a:lnTo>
                <a:lnTo>
                  <a:pt x="321" y="257"/>
                </a:lnTo>
                <a:lnTo>
                  <a:pt x="315" y="270"/>
                </a:lnTo>
                <a:lnTo>
                  <a:pt x="309" y="284"/>
                </a:lnTo>
                <a:lnTo>
                  <a:pt x="305" y="299"/>
                </a:lnTo>
                <a:lnTo>
                  <a:pt x="300" y="314"/>
                </a:lnTo>
                <a:lnTo>
                  <a:pt x="294" y="330"/>
                </a:lnTo>
                <a:lnTo>
                  <a:pt x="286" y="345"/>
                </a:lnTo>
                <a:lnTo>
                  <a:pt x="280" y="362"/>
                </a:lnTo>
                <a:lnTo>
                  <a:pt x="275" y="380"/>
                </a:lnTo>
                <a:lnTo>
                  <a:pt x="267" y="399"/>
                </a:lnTo>
                <a:lnTo>
                  <a:pt x="259" y="416"/>
                </a:lnTo>
                <a:lnTo>
                  <a:pt x="252" y="435"/>
                </a:lnTo>
                <a:lnTo>
                  <a:pt x="244" y="457"/>
                </a:lnTo>
                <a:lnTo>
                  <a:pt x="236" y="478"/>
                </a:lnTo>
                <a:lnTo>
                  <a:pt x="229" y="497"/>
                </a:lnTo>
                <a:lnTo>
                  <a:pt x="219" y="516"/>
                </a:lnTo>
                <a:lnTo>
                  <a:pt x="213" y="535"/>
                </a:lnTo>
                <a:lnTo>
                  <a:pt x="206" y="554"/>
                </a:lnTo>
                <a:lnTo>
                  <a:pt x="198" y="572"/>
                </a:lnTo>
                <a:lnTo>
                  <a:pt x="192" y="589"/>
                </a:lnTo>
                <a:lnTo>
                  <a:pt x="184" y="606"/>
                </a:lnTo>
                <a:lnTo>
                  <a:pt x="179" y="622"/>
                </a:lnTo>
                <a:lnTo>
                  <a:pt x="173" y="637"/>
                </a:lnTo>
                <a:lnTo>
                  <a:pt x="167" y="650"/>
                </a:lnTo>
                <a:lnTo>
                  <a:pt x="161" y="664"/>
                </a:lnTo>
                <a:lnTo>
                  <a:pt x="158" y="677"/>
                </a:lnTo>
                <a:lnTo>
                  <a:pt x="152" y="691"/>
                </a:lnTo>
                <a:lnTo>
                  <a:pt x="148" y="702"/>
                </a:lnTo>
                <a:lnTo>
                  <a:pt x="144" y="714"/>
                </a:lnTo>
                <a:lnTo>
                  <a:pt x="140" y="723"/>
                </a:lnTo>
                <a:lnTo>
                  <a:pt x="136" y="735"/>
                </a:lnTo>
                <a:lnTo>
                  <a:pt x="133" y="744"/>
                </a:lnTo>
                <a:lnTo>
                  <a:pt x="131" y="752"/>
                </a:lnTo>
                <a:lnTo>
                  <a:pt x="129" y="762"/>
                </a:lnTo>
                <a:lnTo>
                  <a:pt x="125" y="769"/>
                </a:lnTo>
                <a:lnTo>
                  <a:pt x="123" y="775"/>
                </a:lnTo>
                <a:lnTo>
                  <a:pt x="121" y="783"/>
                </a:lnTo>
                <a:lnTo>
                  <a:pt x="121" y="789"/>
                </a:lnTo>
                <a:lnTo>
                  <a:pt x="119" y="792"/>
                </a:lnTo>
                <a:lnTo>
                  <a:pt x="119" y="798"/>
                </a:lnTo>
                <a:lnTo>
                  <a:pt x="117" y="802"/>
                </a:lnTo>
                <a:lnTo>
                  <a:pt x="117" y="806"/>
                </a:lnTo>
                <a:lnTo>
                  <a:pt x="117" y="808"/>
                </a:lnTo>
                <a:lnTo>
                  <a:pt x="119" y="812"/>
                </a:lnTo>
                <a:lnTo>
                  <a:pt x="119" y="814"/>
                </a:lnTo>
                <a:lnTo>
                  <a:pt x="121" y="815"/>
                </a:lnTo>
                <a:lnTo>
                  <a:pt x="123" y="817"/>
                </a:lnTo>
                <a:lnTo>
                  <a:pt x="127" y="817"/>
                </a:lnTo>
                <a:lnTo>
                  <a:pt x="129" y="819"/>
                </a:lnTo>
                <a:lnTo>
                  <a:pt x="133" y="821"/>
                </a:lnTo>
                <a:lnTo>
                  <a:pt x="136" y="823"/>
                </a:lnTo>
                <a:lnTo>
                  <a:pt x="142" y="823"/>
                </a:lnTo>
                <a:lnTo>
                  <a:pt x="146" y="825"/>
                </a:lnTo>
                <a:lnTo>
                  <a:pt x="152" y="827"/>
                </a:lnTo>
                <a:lnTo>
                  <a:pt x="158" y="829"/>
                </a:lnTo>
                <a:lnTo>
                  <a:pt x="171" y="833"/>
                </a:lnTo>
                <a:lnTo>
                  <a:pt x="186" y="837"/>
                </a:lnTo>
                <a:lnTo>
                  <a:pt x="204" y="842"/>
                </a:lnTo>
                <a:lnTo>
                  <a:pt x="223" y="846"/>
                </a:lnTo>
                <a:lnTo>
                  <a:pt x="244" y="852"/>
                </a:lnTo>
                <a:lnTo>
                  <a:pt x="265" y="858"/>
                </a:lnTo>
                <a:lnTo>
                  <a:pt x="290" y="865"/>
                </a:lnTo>
                <a:lnTo>
                  <a:pt x="315" y="871"/>
                </a:lnTo>
                <a:lnTo>
                  <a:pt x="344" y="879"/>
                </a:lnTo>
                <a:lnTo>
                  <a:pt x="373" y="888"/>
                </a:lnTo>
                <a:lnTo>
                  <a:pt x="403" y="896"/>
                </a:lnTo>
                <a:lnTo>
                  <a:pt x="419" y="902"/>
                </a:lnTo>
                <a:lnTo>
                  <a:pt x="432" y="908"/>
                </a:lnTo>
                <a:lnTo>
                  <a:pt x="447" y="911"/>
                </a:lnTo>
                <a:lnTo>
                  <a:pt x="461" y="917"/>
                </a:lnTo>
                <a:lnTo>
                  <a:pt x="474" y="923"/>
                </a:lnTo>
                <a:lnTo>
                  <a:pt x="488" y="929"/>
                </a:lnTo>
                <a:lnTo>
                  <a:pt x="499" y="933"/>
                </a:lnTo>
                <a:lnTo>
                  <a:pt x="511" y="938"/>
                </a:lnTo>
                <a:lnTo>
                  <a:pt x="522" y="944"/>
                </a:lnTo>
                <a:lnTo>
                  <a:pt x="534" y="948"/>
                </a:lnTo>
                <a:lnTo>
                  <a:pt x="543" y="954"/>
                </a:lnTo>
                <a:lnTo>
                  <a:pt x="553" y="958"/>
                </a:lnTo>
                <a:lnTo>
                  <a:pt x="563" y="963"/>
                </a:lnTo>
                <a:lnTo>
                  <a:pt x="570" y="969"/>
                </a:lnTo>
                <a:lnTo>
                  <a:pt x="580" y="973"/>
                </a:lnTo>
                <a:lnTo>
                  <a:pt x="588" y="979"/>
                </a:lnTo>
                <a:lnTo>
                  <a:pt x="595" y="982"/>
                </a:lnTo>
                <a:lnTo>
                  <a:pt x="601" y="988"/>
                </a:lnTo>
                <a:lnTo>
                  <a:pt x="607" y="992"/>
                </a:lnTo>
                <a:lnTo>
                  <a:pt x="612" y="998"/>
                </a:lnTo>
                <a:lnTo>
                  <a:pt x="624" y="1007"/>
                </a:lnTo>
                <a:lnTo>
                  <a:pt x="632" y="1017"/>
                </a:lnTo>
                <a:lnTo>
                  <a:pt x="637" y="1027"/>
                </a:lnTo>
                <a:lnTo>
                  <a:pt x="643" y="1038"/>
                </a:lnTo>
                <a:lnTo>
                  <a:pt x="645" y="1048"/>
                </a:lnTo>
                <a:lnTo>
                  <a:pt x="647" y="1059"/>
                </a:lnTo>
                <a:lnTo>
                  <a:pt x="647" y="1071"/>
                </a:lnTo>
                <a:lnTo>
                  <a:pt x="645" y="1080"/>
                </a:lnTo>
                <a:lnTo>
                  <a:pt x="645" y="1090"/>
                </a:lnTo>
                <a:lnTo>
                  <a:pt x="645" y="1098"/>
                </a:lnTo>
                <a:lnTo>
                  <a:pt x="643" y="1105"/>
                </a:lnTo>
                <a:lnTo>
                  <a:pt x="641" y="1113"/>
                </a:lnTo>
                <a:lnTo>
                  <a:pt x="639" y="1121"/>
                </a:lnTo>
                <a:lnTo>
                  <a:pt x="637" y="1126"/>
                </a:lnTo>
                <a:lnTo>
                  <a:pt x="634" y="1130"/>
                </a:lnTo>
                <a:lnTo>
                  <a:pt x="632" y="1136"/>
                </a:lnTo>
                <a:lnTo>
                  <a:pt x="628" y="1138"/>
                </a:lnTo>
                <a:lnTo>
                  <a:pt x="624" y="1142"/>
                </a:lnTo>
                <a:lnTo>
                  <a:pt x="622" y="1142"/>
                </a:lnTo>
                <a:lnTo>
                  <a:pt x="616" y="1144"/>
                </a:lnTo>
                <a:lnTo>
                  <a:pt x="612" y="1142"/>
                </a:lnTo>
                <a:lnTo>
                  <a:pt x="609" y="1142"/>
                </a:lnTo>
                <a:lnTo>
                  <a:pt x="601" y="1138"/>
                </a:lnTo>
                <a:lnTo>
                  <a:pt x="591" y="1134"/>
                </a:lnTo>
                <a:lnTo>
                  <a:pt x="580" y="1130"/>
                </a:lnTo>
                <a:lnTo>
                  <a:pt x="566" y="1126"/>
                </a:lnTo>
                <a:lnTo>
                  <a:pt x="553" y="1121"/>
                </a:lnTo>
                <a:lnTo>
                  <a:pt x="538" y="1113"/>
                </a:lnTo>
                <a:lnTo>
                  <a:pt x="520" y="1105"/>
                </a:lnTo>
                <a:lnTo>
                  <a:pt x="501" y="1098"/>
                </a:lnTo>
                <a:lnTo>
                  <a:pt x="480" y="1088"/>
                </a:lnTo>
                <a:lnTo>
                  <a:pt x="457" y="1078"/>
                </a:lnTo>
                <a:lnTo>
                  <a:pt x="434" y="1067"/>
                </a:lnTo>
                <a:lnTo>
                  <a:pt x="407" y="1055"/>
                </a:lnTo>
                <a:lnTo>
                  <a:pt x="380" y="1044"/>
                </a:lnTo>
                <a:lnTo>
                  <a:pt x="351" y="1030"/>
                </a:lnTo>
                <a:lnTo>
                  <a:pt x="321" y="1015"/>
                </a:lnTo>
                <a:lnTo>
                  <a:pt x="288" y="1002"/>
                </a:lnTo>
                <a:lnTo>
                  <a:pt x="271" y="994"/>
                </a:lnTo>
                <a:lnTo>
                  <a:pt x="255" y="986"/>
                </a:lnTo>
                <a:lnTo>
                  <a:pt x="240" y="979"/>
                </a:lnTo>
                <a:lnTo>
                  <a:pt x="225" y="971"/>
                </a:lnTo>
                <a:lnTo>
                  <a:pt x="209" y="963"/>
                </a:lnTo>
                <a:lnTo>
                  <a:pt x="196" y="958"/>
                </a:lnTo>
                <a:lnTo>
                  <a:pt x="183" y="950"/>
                </a:lnTo>
                <a:lnTo>
                  <a:pt x="169" y="944"/>
                </a:lnTo>
                <a:lnTo>
                  <a:pt x="158" y="938"/>
                </a:lnTo>
                <a:lnTo>
                  <a:pt x="144" y="931"/>
                </a:lnTo>
                <a:lnTo>
                  <a:pt x="133" y="925"/>
                </a:lnTo>
                <a:lnTo>
                  <a:pt x="123" y="919"/>
                </a:lnTo>
                <a:lnTo>
                  <a:pt x="111" y="913"/>
                </a:lnTo>
                <a:lnTo>
                  <a:pt x="102" y="910"/>
                </a:lnTo>
                <a:lnTo>
                  <a:pt x="92" y="904"/>
                </a:lnTo>
                <a:lnTo>
                  <a:pt x="83" y="898"/>
                </a:lnTo>
                <a:lnTo>
                  <a:pt x="75" y="894"/>
                </a:lnTo>
                <a:lnTo>
                  <a:pt x="67" y="888"/>
                </a:lnTo>
                <a:lnTo>
                  <a:pt x="60" y="885"/>
                </a:lnTo>
                <a:lnTo>
                  <a:pt x="52" y="881"/>
                </a:lnTo>
                <a:lnTo>
                  <a:pt x="40" y="873"/>
                </a:lnTo>
                <a:lnTo>
                  <a:pt x="29" y="867"/>
                </a:lnTo>
                <a:lnTo>
                  <a:pt x="19" y="862"/>
                </a:lnTo>
                <a:lnTo>
                  <a:pt x="14" y="856"/>
                </a:lnTo>
                <a:lnTo>
                  <a:pt x="8" y="852"/>
                </a:lnTo>
                <a:lnTo>
                  <a:pt x="4" y="850"/>
                </a:lnTo>
                <a:lnTo>
                  <a:pt x="2" y="846"/>
                </a:lnTo>
                <a:lnTo>
                  <a:pt x="0" y="842"/>
                </a:lnTo>
                <a:lnTo>
                  <a:pt x="0" y="839"/>
                </a:lnTo>
                <a:lnTo>
                  <a:pt x="0" y="831"/>
                </a:lnTo>
                <a:lnTo>
                  <a:pt x="0" y="825"/>
                </a:lnTo>
                <a:lnTo>
                  <a:pt x="2" y="815"/>
                </a:lnTo>
                <a:lnTo>
                  <a:pt x="2" y="806"/>
                </a:lnTo>
                <a:lnTo>
                  <a:pt x="6" y="796"/>
                </a:lnTo>
                <a:lnTo>
                  <a:pt x="8" y="783"/>
                </a:lnTo>
                <a:lnTo>
                  <a:pt x="12" y="769"/>
                </a:lnTo>
                <a:lnTo>
                  <a:pt x="16" y="756"/>
                </a:lnTo>
                <a:lnTo>
                  <a:pt x="19" y="739"/>
                </a:lnTo>
                <a:lnTo>
                  <a:pt x="25" y="723"/>
                </a:lnTo>
                <a:lnTo>
                  <a:pt x="31" y="704"/>
                </a:lnTo>
                <a:lnTo>
                  <a:pt x="37" y="685"/>
                </a:lnTo>
                <a:lnTo>
                  <a:pt x="42" y="664"/>
                </a:lnTo>
                <a:lnTo>
                  <a:pt x="50" y="643"/>
                </a:lnTo>
                <a:lnTo>
                  <a:pt x="56" y="622"/>
                </a:lnTo>
                <a:lnTo>
                  <a:pt x="69" y="579"/>
                </a:lnTo>
                <a:lnTo>
                  <a:pt x="81" y="537"/>
                </a:lnTo>
                <a:lnTo>
                  <a:pt x="90" y="491"/>
                </a:lnTo>
                <a:lnTo>
                  <a:pt x="100" y="445"/>
                </a:lnTo>
                <a:lnTo>
                  <a:pt x="108" y="397"/>
                </a:lnTo>
                <a:lnTo>
                  <a:pt x="115" y="351"/>
                </a:lnTo>
                <a:lnTo>
                  <a:pt x="121" y="3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31"/>
          <p:cNvSpPr/>
          <p:nvPr/>
        </p:nvSpPr>
        <p:spPr>
          <a:xfrm>
            <a:off x="5457960" y="2959200"/>
            <a:ext cx="1103040" cy="260280"/>
          </a:xfrm>
          <a:custGeom>
            <a:avLst/>
            <a:gdLst/>
            <a:ahLst/>
            <a:rect l="l" t="t" r="r" b="b"/>
            <a:pathLst>
              <a:path w="1390" h="328">
                <a:moveTo>
                  <a:pt x="183" y="328"/>
                </a:moveTo>
                <a:lnTo>
                  <a:pt x="175" y="326"/>
                </a:lnTo>
                <a:lnTo>
                  <a:pt x="167" y="326"/>
                </a:lnTo>
                <a:lnTo>
                  <a:pt x="162" y="324"/>
                </a:lnTo>
                <a:lnTo>
                  <a:pt x="154" y="322"/>
                </a:lnTo>
                <a:lnTo>
                  <a:pt x="146" y="320"/>
                </a:lnTo>
                <a:lnTo>
                  <a:pt x="139" y="316"/>
                </a:lnTo>
                <a:lnTo>
                  <a:pt x="133" y="315"/>
                </a:lnTo>
                <a:lnTo>
                  <a:pt x="125" y="309"/>
                </a:lnTo>
                <a:lnTo>
                  <a:pt x="117" y="305"/>
                </a:lnTo>
                <a:lnTo>
                  <a:pt x="110" y="299"/>
                </a:lnTo>
                <a:lnTo>
                  <a:pt x="102" y="293"/>
                </a:lnTo>
                <a:lnTo>
                  <a:pt x="96" y="288"/>
                </a:lnTo>
                <a:lnTo>
                  <a:pt x="89" y="280"/>
                </a:lnTo>
                <a:lnTo>
                  <a:pt x="81" y="274"/>
                </a:lnTo>
                <a:lnTo>
                  <a:pt x="73" y="265"/>
                </a:lnTo>
                <a:lnTo>
                  <a:pt x="68" y="257"/>
                </a:lnTo>
                <a:lnTo>
                  <a:pt x="58" y="249"/>
                </a:lnTo>
                <a:lnTo>
                  <a:pt x="48" y="240"/>
                </a:lnTo>
                <a:lnTo>
                  <a:pt x="41" y="232"/>
                </a:lnTo>
                <a:lnTo>
                  <a:pt x="33" y="224"/>
                </a:lnTo>
                <a:lnTo>
                  <a:pt x="27" y="217"/>
                </a:lnTo>
                <a:lnTo>
                  <a:pt x="21" y="211"/>
                </a:lnTo>
                <a:lnTo>
                  <a:pt x="16" y="203"/>
                </a:lnTo>
                <a:lnTo>
                  <a:pt x="12" y="197"/>
                </a:lnTo>
                <a:lnTo>
                  <a:pt x="8" y="192"/>
                </a:lnTo>
                <a:lnTo>
                  <a:pt x="4" y="186"/>
                </a:lnTo>
                <a:lnTo>
                  <a:pt x="2" y="182"/>
                </a:lnTo>
                <a:lnTo>
                  <a:pt x="0" y="176"/>
                </a:lnTo>
                <a:lnTo>
                  <a:pt x="0" y="173"/>
                </a:lnTo>
                <a:lnTo>
                  <a:pt x="0" y="169"/>
                </a:lnTo>
                <a:lnTo>
                  <a:pt x="0" y="167"/>
                </a:lnTo>
                <a:lnTo>
                  <a:pt x="2" y="165"/>
                </a:lnTo>
                <a:lnTo>
                  <a:pt x="2" y="161"/>
                </a:lnTo>
                <a:lnTo>
                  <a:pt x="4" y="159"/>
                </a:lnTo>
                <a:lnTo>
                  <a:pt x="6" y="157"/>
                </a:lnTo>
                <a:lnTo>
                  <a:pt x="8" y="155"/>
                </a:lnTo>
                <a:lnTo>
                  <a:pt x="10" y="153"/>
                </a:lnTo>
                <a:lnTo>
                  <a:pt x="14" y="151"/>
                </a:lnTo>
                <a:lnTo>
                  <a:pt x="16" y="151"/>
                </a:lnTo>
                <a:lnTo>
                  <a:pt x="21" y="149"/>
                </a:lnTo>
                <a:lnTo>
                  <a:pt x="29" y="148"/>
                </a:lnTo>
                <a:lnTo>
                  <a:pt x="41" y="148"/>
                </a:lnTo>
                <a:lnTo>
                  <a:pt x="46" y="148"/>
                </a:lnTo>
                <a:lnTo>
                  <a:pt x="54" y="149"/>
                </a:lnTo>
                <a:lnTo>
                  <a:pt x="60" y="149"/>
                </a:lnTo>
                <a:lnTo>
                  <a:pt x="68" y="153"/>
                </a:lnTo>
                <a:lnTo>
                  <a:pt x="81" y="157"/>
                </a:lnTo>
                <a:lnTo>
                  <a:pt x="94" y="159"/>
                </a:lnTo>
                <a:lnTo>
                  <a:pt x="106" y="161"/>
                </a:lnTo>
                <a:lnTo>
                  <a:pt x="117" y="163"/>
                </a:lnTo>
                <a:lnTo>
                  <a:pt x="127" y="163"/>
                </a:lnTo>
                <a:lnTo>
                  <a:pt x="137" y="163"/>
                </a:lnTo>
                <a:lnTo>
                  <a:pt x="158" y="165"/>
                </a:lnTo>
                <a:lnTo>
                  <a:pt x="158" y="163"/>
                </a:lnTo>
                <a:lnTo>
                  <a:pt x="160" y="163"/>
                </a:lnTo>
                <a:lnTo>
                  <a:pt x="162" y="163"/>
                </a:lnTo>
                <a:lnTo>
                  <a:pt x="164" y="163"/>
                </a:lnTo>
                <a:lnTo>
                  <a:pt x="167" y="163"/>
                </a:lnTo>
                <a:lnTo>
                  <a:pt x="171" y="163"/>
                </a:lnTo>
                <a:lnTo>
                  <a:pt x="175" y="161"/>
                </a:lnTo>
                <a:lnTo>
                  <a:pt x="181" y="161"/>
                </a:lnTo>
                <a:lnTo>
                  <a:pt x="187" y="161"/>
                </a:lnTo>
                <a:lnTo>
                  <a:pt x="192" y="159"/>
                </a:lnTo>
                <a:lnTo>
                  <a:pt x="198" y="159"/>
                </a:lnTo>
                <a:lnTo>
                  <a:pt x="206" y="157"/>
                </a:lnTo>
                <a:lnTo>
                  <a:pt x="213" y="157"/>
                </a:lnTo>
                <a:lnTo>
                  <a:pt x="223" y="155"/>
                </a:lnTo>
                <a:lnTo>
                  <a:pt x="231" y="155"/>
                </a:lnTo>
                <a:lnTo>
                  <a:pt x="240" y="153"/>
                </a:lnTo>
                <a:lnTo>
                  <a:pt x="252" y="151"/>
                </a:lnTo>
                <a:lnTo>
                  <a:pt x="261" y="151"/>
                </a:lnTo>
                <a:lnTo>
                  <a:pt x="273" y="149"/>
                </a:lnTo>
                <a:lnTo>
                  <a:pt x="286" y="148"/>
                </a:lnTo>
                <a:lnTo>
                  <a:pt x="298" y="146"/>
                </a:lnTo>
                <a:lnTo>
                  <a:pt x="311" y="144"/>
                </a:lnTo>
                <a:lnTo>
                  <a:pt x="325" y="142"/>
                </a:lnTo>
                <a:lnTo>
                  <a:pt x="340" y="140"/>
                </a:lnTo>
                <a:lnTo>
                  <a:pt x="354" y="138"/>
                </a:lnTo>
                <a:lnTo>
                  <a:pt x="369" y="136"/>
                </a:lnTo>
                <a:lnTo>
                  <a:pt x="386" y="134"/>
                </a:lnTo>
                <a:lnTo>
                  <a:pt x="402" y="132"/>
                </a:lnTo>
                <a:lnTo>
                  <a:pt x="419" y="130"/>
                </a:lnTo>
                <a:lnTo>
                  <a:pt x="438" y="128"/>
                </a:lnTo>
                <a:lnTo>
                  <a:pt x="455" y="125"/>
                </a:lnTo>
                <a:lnTo>
                  <a:pt x="474" y="123"/>
                </a:lnTo>
                <a:lnTo>
                  <a:pt x="494" y="121"/>
                </a:lnTo>
                <a:lnTo>
                  <a:pt x="515" y="117"/>
                </a:lnTo>
                <a:lnTo>
                  <a:pt x="536" y="115"/>
                </a:lnTo>
                <a:lnTo>
                  <a:pt x="557" y="111"/>
                </a:lnTo>
                <a:lnTo>
                  <a:pt x="578" y="109"/>
                </a:lnTo>
                <a:lnTo>
                  <a:pt x="601" y="105"/>
                </a:lnTo>
                <a:lnTo>
                  <a:pt x="624" y="103"/>
                </a:lnTo>
                <a:lnTo>
                  <a:pt x="647" y="100"/>
                </a:lnTo>
                <a:lnTo>
                  <a:pt x="672" y="96"/>
                </a:lnTo>
                <a:lnTo>
                  <a:pt x="697" y="92"/>
                </a:lnTo>
                <a:lnTo>
                  <a:pt x="722" y="90"/>
                </a:lnTo>
                <a:lnTo>
                  <a:pt x="747" y="86"/>
                </a:lnTo>
                <a:lnTo>
                  <a:pt x="774" y="82"/>
                </a:lnTo>
                <a:lnTo>
                  <a:pt x="801" y="78"/>
                </a:lnTo>
                <a:lnTo>
                  <a:pt x="830" y="75"/>
                </a:lnTo>
                <a:lnTo>
                  <a:pt x="858" y="71"/>
                </a:lnTo>
                <a:lnTo>
                  <a:pt x="887" y="67"/>
                </a:lnTo>
                <a:lnTo>
                  <a:pt x="916" y="63"/>
                </a:lnTo>
                <a:lnTo>
                  <a:pt x="947" y="59"/>
                </a:lnTo>
                <a:lnTo>
                  <a:pt x="977" y="55"/>
                </a:lnTo>
                <a:lnTo>
                  <a:pt x="1008" y="52"/>
                </a:lnTo>
                <a:lnTo>
                  <a:pt x="1039" y="48"/>
                </a:lnTo>
                <a:lnTo>
                  <a:pt x="1071" y="42"/>
                </a:lnTo>
                <a:lnTo>
                  <a:pt x="1104" y="38"/>
                </a:lnTo>
                <a:lnTo>
                  <a:pt x="1139" y="34"/>
                </a:lnTo>
                <a:lnTo>
                  <a:pt x="1173" y="29"/>
                </a:lnTo>
                <a:lnTo>
                  <a:pt x="1208" y="25"/>
                </a:lnTo>
                <a:lnTo>
                  <a:pt x="1242" y="21"/>
                </a:lnTo>
                <a:lnTo>
                  <a:pt x="1279" y="15"/>
                </a:lnTo>
                <a:lnTo>
                  <a:pt x="1315" y="11"/>
                </a:lnTo>
                <a:lnTo>
                  <a:pt x="1352" y="6"/>
                </a:lnTo>
                <a:lnTo>
                  <a:pt x="1390" y="0"/>
                </a:lnTo>
                <a:lnTo>
                  <a:pt x="1390" y="94"/>
                </a:lnTo>
                <a:lnTo>
                  <a:pt x="1342" y="100"/>
                </a:lnTo>
                <a:lnTo>
                  <a:pt x="1296" y="105"/>
                </a:lnTo>
                <a:lnTo>
                  <a:pt x="1250" y="111"/>
                </a:lnTo>
                <a:lnTo>
                  <a:pt x="1206" y="117"/>
                </a:lnTo>
                <a:lnTo>
                  <a:pt x="1162" y="125"/>
                </a:lnTo>
                <a:lnTo>
                  <a:pt x="1117" y="130"/>
                </a:lnTo>
                <a:lnTo>
                  <a:pt x="1073" y="136"/>
                </a:lnTo>
                <a:lnTo>
                  <a:pt x="1031" y="142"/>
                </a:lnTo>
                <a:lnTo>
                  <a:pt x="1008" y="144"/>
                </a:lnTo>
                <a:lnTo>
                  <a:pt x="985" y="146"/>
                </a:lnTo>
                <a:lnTo>
                  <a:pt x="960" y="149"/>
                </a:lnTo>
                <a:lnTo>
                  <a:pt x="933" y="153"/>
                </a:lnTo>
                <a:lnTo>
                  <a:pt x="906" y="159"/>
                </a:lnTo>
                <a:lnTo>
                  <a:pt x="879" y="163"/>
                </a:lnTo>
                <a:lnTo>
                  <a:pt x="851" y="169"/>
                </a:lnTo>
                <a:lnTo>
                  <a:pt x="820" y="174"/>
                </a:lnTo>
                <a:lnTo>
                  <a:pt x="789" y="182"/>
                </a:lnTo>
                <a:lnTo>
                  <a:pt x="757" y="190"/>
                </a:lnTo>
                <a:lnTo>
                  <a:pt x="724" y="197"/>
                </a:lnTo>
                <a:lnTo>
                  <a:pt x="689" y="205"/>
                </a:lnTo>
                <a:lnTo>
                  <a:pt x="653" y="215"/>
                </a:lnTo>
                <a:lnTo>
                  <a:pt x="616" y="224"/>
                </a:lnTo>
                <a:lnTo>
                  <a:pt x="580" y="234"/>
                </a:lnTo>
                <a:lnTo>
                  <a:pt x="542" y="245"/>
                </a:lnTo>
                <a:lnTo>
                  <a:pt x="522" y="251"/>
                </a:lnTo>
                <a:lnTo>
                  <a:pt x="505" y="257"/>
                </a:lnTo>
                <a:lnTo>
                  <a:pt x="486" y="261"/>
                </a:lnTo>
                <a:lnTo>
                  <a:pt x="469" y="267"/>
                </a:lnTo>
                <a:lnTo>
                  <a:pt x="453" y="270"/>
                </a:lnTo>
                <a:lnTo>
                  <a:pt x="436" y="274"/>
                </a:lnTo>
                <a:lnTo>
                  <a:pt x="421" y="280"/>
                </a:lnTo>
                <a:lnTo>
                  <a:pt x="405" y="284"/>
                </a:lnTo>
                <a:lnTo>
                  <a:pt x="390" y="288"/>
                </a:lnTo>
                <a:lnTo>
                  <a:pt x="377" y="292"/>
                </a:lnTo>
                <a:lnTo>
                  <a:pt x="361" y="293"/>
                </a:lnTo>
                <a:lnTo>
                  <a:pt x="348" y="297"/>
                </a:lnTo>
                <a:lnTo>
                  <a:pt x="336" y="301"/>
                </a:lnTo>
                <a:lnTo>
                  <a:pt x="323" y="303"/>
                </a:lnTo>
                <a:lnTo>
                  <a:pt x="311" y="307"/>
                </a:lnTo>
                <a:lnTo>
                  <a:pt x="300" y="309"/>
                </a:lnTo>
                <a:lnTo>
                  <a:pt x="288" y="311"/>
                </a:lnTo>
                <a:lnTo>
                  <a:pt x="279" y="313"/>
                </a:lnTo>
                <a:lnTo>
                  <a:pt x="269" y="315"/>
                </a:lnTo>
                <a:lnTo>
                  <a:pt x="259" y="316"/>
                </a:lnTo>
                <a:lnTo>
                  <a:pt x="242" y="320"/>
                </a:lnTo>
                <a:lnTo>
                  <a:pt x="227" y="322"/>
                </a:lnTo>
                <a:lnTo>
                  <a:pt x="213" y="324"/>
                </a:lnTo>
                <a:lnTo>
                  <a:pt x="200" y="326"/>
                </a:lnTo>
                <a:lnTo>
                  <a:pt x="190" y="326"/>
                </a:lnTo>
                <a:lnTo>
                  <a:pt x="183" y="3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4"/>
          <p:cNvSpPr/>
          <p:nvPr/>
        </p:nvSpPr>
        <p:spPr>
          <a:xfrm>
            <a:off x="2218680" y="23097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惶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组合 8"/>
          <p:cNvGrpSpPr/>
          <p:nvPr/>
        </p:nvGrpSpPr>
        <p:grpSpPr>
          <a:xfrm>
            <a:off x="1400040" y="3736800"/>
            <a:ext cx="2840040" cy="1572840"/>
            <a:chOff x="1400040" y="3736800"/>
            <a:chExt cx="2840040" cy="1572840"/>
          </a:xfrm>
        </p:grpSpPr>
        <p:pic>
          <p:nvPicPr>
            <p:cNvPr id="136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736800"/>
              <a:ext cx="2840040" cy="15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矩形 2"/>
            <p:cNvSpPr/>
            <p:nvPr/>
          </p:nvSpPr>
          <p:spPr>
            <a:xfrm>
              <a:off x="1444680" y="4349520"/>
              <a:ext cx="2766600" cy="573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1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忄”左点低，右点高。“皇”末笔长。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矩形 3"/>
          <p:cNvSpPr/>
          <p:nvPr/>
        </p:nvSpPr>
        <p:spPr>
          <a:xfrm>
            <a:off x="1738440" y="1630440"/>
            <a:ext cx="174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á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114880" y="2144880"/>
          <a:ext cx="3041640" cy="303984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Freeform 128"/>
          <p:cNvSpPr/>
          <p:nvPr/>
        </p:nvSpPr>
        <p:spPr>
          <a:xfrm>
            <a:off x="6838920" y="3848040"/>
            <a:ext cx="135000" cy="646200"/>
          </a:xfrm>
          <a:custGeom>
            <a:avLst/>
            <a:gdLst/>
            <a:ahLst/>
            <a:rect l="l" t="t" r="r" b="b"/>
            <a:pathLst>
              <a:path w="171" h="814">
                <a:moveTo>
                  <a:pt x="171" y="0"/>
                </a:moveTo>
                <a:lnTo>
                  <a:pt x="171" y="407"/>
                </a:lnTo>
                <a:lnTo>
                  <a:pt x="171" y="814"/>
                </a:lnTo>
                <a:lnTo>
                  <a:pt x="104" y="814"/>
                </a:lnTo>
                <a:lnTo>
                  <a:pt x="37" y="814"/>
                </a:lnTo>
                <a:lnTo>
                  <a:pt x="37" y="705"/>
                </a:lnTo>
                <a:lnTo>
                  <a:pt x="35" y="597"/>
                </a:lnTo>
                <a:lnTo>
                  <a:pt x="33" y="545"/>
                </a:lnTo>
                <a:lnTo>
                  <a:pt x="31" y="492"/>
                </a:lnTo>
                <a:lnTo>
                  <a:pt x="29" y="440"/>
                </a:lnTo>
                <a:lnTo>
                  <a:pt x="27" y="388"/>
                </a:lnTo>
                <a:lnTo>
                  <a:pt x="25" y="338"/>
                </a:lnTo>
                <a:lnTo>
                  <a:pt x="23" y="286"/>
                </a:lnTo>
                <a:lnTo>
                  <a:pt x="20" y="238"/>
                </a:lnTo>
                <a:lnTo>
                  <a:pt x="16" y="188"/>
                </a:lnTo>
                <a:lnTo>
                  <a:pt x="12" y="140"/>
                </a:lnTo>
                <a:lnTo>
                  <a:pt x="8" y="92"/>
                </a:lnTo>
                <a:lnTo>
                  <a:pt x="4" y="46"/>
                </a:lnTo>
                <a:lnTo>
                  <a:pt x="0" y="0"/>
                </a:lnTo>
                <a:lnTo>
                  <a:pt x="171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129"/>
          <p:cNvSpPr/>
          <p:nvPr/>
        </p:nvSpPr>
        <p:spPr>
          <a:xfrm>
            <a:off x="6164280" y="4362480"/>
            <a:ext cx="1587600" cy="291960"/>
          </a:xfrm>
          <a:custGeom>
            <a:avLst/>
            <a:gdLst/>
            <a:ahLst/>
            <a:rect l="l" t="t" r="r" b="b"/>
            <a:pathLst>
              <a:path w="2000" h="369">
                <a:moveTo>
                  <a:pt x="384" y="332"/>
                </a:moveTo>
                <a:lnTo>
                  <a:pt x="359" y="336"/>
                </a:lnTo>
                <a:lnTo>
                  <a:pt x="334" y="340"/>
                </a:lnTo>
                <a:lnTo>
                  <a:pt x="313" y="344"/>
                </a:lnTo>
                <a:lnTo>
                  <a:pt x="292" y="347"/>
                </a:lnTo>
                <a:lnTo>
                  <a:pt x="272" y="351"/>
                </a:lnTo>
                <a:lnTo>
                  <a:pt x="253" y="355"/>
                </a:lnTo>
                <a:lnTo>
                  <a:pt x="236" y="357"/>
                </a:lnTo>
                <a:lnTo>
                  <a:pt x="221" y="359"/>
                </a:lnTo>
                <a:lnTo>
                  <a:pt x="207" y="363"/>
                </a:lnTo>
                <a:lnTo>
                  <a:pt x="194" y="365"/>
                </a:lnTo>
                <a:lnTo>
                  <a:pt x="182" y="365"/>
                </a:lnTo>
                <a:lnTo>
                  <a:pt x="173" y="367"/>
                </a:lnTo>
                <a:lnTo>
                  <a:pt x="165" y="369"/>
                </a:lnTo>
                <a:lnTo>
                  <a:pt x="157" y="369"/>
                </a:lnTo>
                <a:lnTo>
                  <a:pt x="153" y="369"/>
                </a:lnTo>
                <a:lnTo>
                  <a:pt x="150" y="369"/>
                </a:lnTo>
                <a:lnTo>
                  <a:pt x="140" y="369"/>
                </a:lnTo>
                <a:lnTo>
                  <a:pt x="130" y="367"/>
                </a:lnTo>
                <a:lnTo>
                  <a:pt x="119" y="363"/>
                </a:lnTo>
                <a:lnTo>
                  <a:pt x="106" y="359"/>
                </a:lnTo>
                <a:lnTo>
                  <a:pt x="100" y="355"/>
                </a:lnTo>
                <a:lnTo>
                  <a:pt x="92" y="351"/>
                </a:lnTo>
                <a:lnTo>
                  <a:pt x="86" y="347"/>
                </a:lnTo>
                <a:lnTo>
                  <a:pt x="79" y="342"/>
                </a:lnTo>
                <a:lnTo>
                  <a:pt x="73" y="338"/>
                </a:lnTo>
                <a:lnTo>
                  <a:pt x="65" y="332"/>
                </a:lnTo>
                <a:lnTo>
                  <a:pt x="59" y="324"/>
                </a:lnTo>
                <a:lnTo>
                  <a:pt x="52" y="319"/>
                </a:lnTo>
                <a:lnTo>
                  <a:pt x="44" y="311"/>
                </a:lnTo>
                <a:lnTo>
                  <a:pt x="36" y="305"/>
                </a:lnTo>
                <a:lnTo>
                  <a:pt x="29" y="299"/>
                </a:lnTo>
                <a:lnTo>
                  <a:pt x="23" y="294"/>
                </a:lnTo>
                <a:lnTo>
                  <a:pt x="17" y="290"/>
                </a:lnTo>
                <a:lnTo>
                  <a:pt x="11" y="284"/>
                </a:lnTo>
                <a:lnTo>
                  <a:pt x="8" y="280"/>
                </a:lnTo>
                <a:lnTo>
                  <a:pt x="6" y="276"/>
                </a:lnTo>
                <a:lnTo>
                  <a:pt x="2" y="273"/>
                </a:lnTo>
                <a:lnTo>
                  <a:pt x="0" y="271"/>
                </a:lnTo>
                <a:lnTo>
                  <a:pt x="0" y="267"/>
                </a:lnTo>
                <a:lnTo>
                  <a:pt x="0" y="265"/>
                </a:lnTo>
                <a:lnTo>
                  <a:pt x="0" y="263"/>
                </a:lnTo>
                <a:lnTo>
                  <a:pt x="0" y="259"/>
                </a:lnTo>
                <a:lnTo>
                  <a:pt x="2" y="257"/>
                </a:lnTo>
                <a:lnTo>
                  <a:pt x="4" y="255"/>
                </a:lnTo>
                <a:lnTo>
                  <a:pt x="6" y="255"/>
                </a:lnTo>
                <a:lnTo>
                  <a:pt x="8" y="255"/>
                </a:lnTo>
                <a:lnTo>
                  <a:pt x="11" y="253"/>
                </a:lnTo>
                <a:lnTo>
                  <a:pt x="17" y="253"/>
                </a:lnTo>
                <a:lnTo>
                  <a:pt x="23" y="253"/>
                </a:lnTo>
                <a:lnTo>
                  <a:pt x="29" y="251"/>
                </a:lnTo>
                <a:lnTo>
                  <a:pt x="38" y="251"/>
                </a:lnTo>
                <a:lnTo>
                  <a:pt x="46" y="250"/>
                </a:lnTo>
                <a:lnTo>
                  <a:pt x="58" y="250"/>
                </a:lnTo>
                <a:lnTo>
                  <a:pt x="69" y="248"/>
                </a:lnTo>
                <a:lnTo>
                  <a:pt x="81" y="246"/>
                </a:lnTo>
                <a:lnTo>
                  <a:pt x="94" y="244"/>
                </a:lnTo>
                <a:lnTo>
                  <a:pt x="109" y="242"/>
                </a:lnTo>
                <a:lnTo>
                  <a:pt x="125" y="240"/>
                </a:lnTo>
                <a:lnTo>
                  <a:pt x="140" y="238"/>
                </a:lnTo>
                <a:lnTo>
                  <a:pt x="157" y="234"/>
                </a:lnTo>
                <a:lnTo>
                  <a:pt x="177" y="232"/>
                </a:lnTo>
                <a:lnTo>
                  <a:pt x="196" y="228"/>
                </a:lnTo>
                <a:lnTo>
                  <a:pt x="217" y="226"/>
                </a:lnTo>
                <a:lnTo>
                  <a:pt x="238" y="223"/>
                </a:lnTo>
                <a:lnTo>
                  <a:pt x="261" y="219"/>
                </a:lnTo>
                <a:lnTo>
                  <a:pt x="286" y="215"/>
                </a:lnTo>
                <a:lnTo>
                  <a:pt x="309" y="211"/>
                </a:lnTo>
                <a:lnTo>
                  <a:pt x="336" y="207"/>
                </a:lnTo>
                <a:lnTo>
                  <a:pt x="363" y="202"/>
                </a:lnTo>
                <a:lnTo>
                  <a:pt x="390" y="198"/>
                </a:lnTo>
                <a:lnTo>
                  <a:pt x="418" y="194"/>
                </a:lnTo>
                <a:lnTo>
                  <a:pt x="449" y="188"/>
                </a:lnTo>
                <a:lnTo>
                  <a:pt x="480" y="182"/>
                </a:lnTo>
                <a:lnTo>
                  <a:pt x="512" y="177"/>
                </a:lnTo>
                <a:lnTo>
                  <a:pt x="545" y="171"/>
                </a:lnTo>
                <a:lnTo>
                  <a:pt x="580" y="165"/>
                </a:lnTo>
                <a:lnTo>
                  <a:pt x="612" y="161"/>
                </a:lnTo>
                <a:lnTo>
                  <a:pt x="645" y="155"/>
                </a:lnTo>
                <a:lnTo>
                  <a:pt x="676" y="152"/>
                </a:lnTo>
                <a:lnTo>
                  <a:pt x="708" y="148"/>
                </a:lnTo>
                <a:lnTo>
                  <a:pt x="739" y="142"/>
                </a:lnTo>
                <a:lnTo>
                  <a:pt x="770" y="138"/>
                </a:lnTo>
                <a:lnTo>
                  <a:pt x="798" y="134"/>
                </a:lnTo>
                <a:lnTo>
                  <a:pt x="829" y="129"/>
                </a:lnTo>
                <a:lnTo>
                  <a:pt x="858" y="125"/>
                </a:lnTo>
                <a:lnTo>
                  <a:pt x="887" y="121"/>
                </a:lnTo>
                <a:lnTo>
                  <a:pt x="914" y="117"/>
                </a:lnTo>
                <a:lnTo>
                  <a:pt x="940" y="113"/>
                </a:lnTo>
                <a:lnTo>
                  <a:pt x="967" y="109"/>
                </a:lnTo>
                <a:lnTo>
                  <a:pt x="994" y="106"/>
                </a:lnTo>
                <a:lnTo>
                  <a:pt x="1019" y="102"/>
                </a:lnTo>
                <a:lnTo>
                  <a:pt x="1044" y="98"/>
                </a:lnTo>
                <a:lnTo>
                  <a:pt x="1069" y="94"/>
                </a:lnTo>
                <a:lnTo>
                  <a:pt x="1092" y="90"/>
                </a:lnTo>
                <a:lnTo>
                  <a:pt x="1115" y="86"/>
                </a:lnTo>
                <a:lnTo>
                  <a:pt x="1138" y="83"/>
                </a:lnTo>
                <a:lnTo>
                  <a:pt x="1161" y="79"/>
                </a:lnTo>
                <a:lnTo>
                  <a:pt x="1182" y="75"/>
                </a:lnTo>
                <a:lnTo>
                  <a:pt x="1203" y="71"/>
                </a:lnTo>
                <a:lnTo>
                  <a:pt x="1223" y="67"/>
                </a:lnTo>
                <a:lnTo>
                  <a:pt x="1242" y="63"/>
                </a:lnTo>
                <a:lnTo>
                  <a:pt x="1261" y="60"/>
                </a:lnTo>
                <a:lnTo>
                  <a:pt x="1280" y="56"/>
                </a:lnTo>
                <a:lnTo>
                  <a:pt x="1297" y="54"/>
                </a:lnTo>
                <a:lnTo>
                  <a:pt x="1315" y="50"/>
                </a:lnTo>
                <a:lnTo>
                  <a:pt x="1332" y="46"/>
                </a:lnTo>
                <a:lnTo>
                  <a:pt x="1347" y="42"/>
                </a:lnTo>
                <a:lnTo>
                  <a:pt x="1363" y="38"/>
                </a:lnTo>
                <a:lnTo>
                  <a:pt x="1392" y="35"/>
                </a:lnTo>
                <a:lnTo>
                  <a:pt x="1420" y="29"/>
                </a:lnTo>
                <a:lnTo>
                  <a:pt x="1447" y="25"/>
                </a:lnTo>
                <a:lnTo>
                  <a:pt x="1474" y="21"/>
                </a:lnTo>
                <a:lnTo>
                  <a:pt x="1501" y="17"/>
                </a:lnTo>
                <a:lnTo>
                  <a:pt x="1526" y="15"/>
                </a:lnTo>
                <a:lnTo>
                  <a:pt x="1551" y="12"/>
                </a:lnTo>
                <a:lnTo>
                  <a:pt x="1574" y="10"/>
                </a:lnTo>
                <a:lnTo>
                  <a:pt x="1597" y="8"/>
                </a:lnTo>
                <a:lnTo>
                  <a:pt x="1618" y="6"/>
                </a:lnTo>
                <a:lnTo>
                  <a:pt x="1639" y="4"/>
                </a:lnTo>
                <a:lnTo>
                  <a:pt x="1658" y="2"/>
                </a:lnTo>
                <a:lnTo>
                  <a:pt x="1678" y="2"/>
                </a:lnTo>
                <a:lnTo>
                  <a:pt x="1697" y="0"/>
                </a:lnTo>
                <a:lnTo>
                  <a:pt x="1714" y="0"/>
                </a:lnTo>
                <a:lnTo>
                  <a:pt x="1729" y="0"/>
                </a:lnTo>
                <a:lnTo>
                  <a:pt x="1743" y="0"/>
                </a:lnTo>
                <a:lnTo>
                  <a:pt x="1756" y="2"/>
                </a:lnTo>
                <a:lnTo>
                  <a:pt x="1770" y="2"/>
                </a:lnTo>
                <a:lnTo>
                  <a:pt x="1783" y="4"/>
                </a:lnTo>
                <a:lnTo>
                  <a:pt x="1795" y="8"/>
                </a:lnTo>
                <a:lnTo>
                  <a:pt x="1808" y="10"/>
                </a:lnTo>
                <a:lnTo>
                  <a:pt x="1820" y="13"/>
                </a:lnTo>
                <a:lnTo>
                  <a:pt x="1833" y="17"/>
                </a:lnTo>
                <a:lnTo>
                  <a:pt x="1856" y="27"/>
                </a:lnTo>
                <a:lnTo>
                  <a:pt x="1879" y="38"/>
                </a:lnTo>
                <a:lnTo>
                  <a:pt x="1902" y="50"/>
                </a:lnTo>
                <a:lnTo>
                  <a:pt x="1925" y="63"/>
                </a:lnTo>
                <a:lnTo>
                  <a:pt x="1935" y="73"/>
                </a:lnTo>
                <a:lnTo>
                  <a:pt x="1942" y="83"/>
                </a:lnTo>
                <a:lnTo>
                  <a:pt x="1950" y="92"/>
                </a:lnTo>
                <a:lnTo>
                  <a:pt x="1958" y="100"/>
                </a:lnTo>
                <a:lnTo>
                  <a:pt x="1963" y="107"/>
                </a:lnTo>
                <a:lnTo>
                  <a:pt x="1969" y="115"/>
                </a:lnTo>
                <a:lnTo>
                  <a:pt x="1975" y="123"/>
                </a:lnTo>
                <a:lnTo>
                  <a:pt x="1981" y="129"/>
                </a:lnTo>
                <a:lnTo>
                  <a:pt x="1985" y="136"/>
                </a:lnTo>
                <a:lnTo>
                  <a:pt x="1988" y="142"/>
                </a:lnTo>
                <a:lnTo>
                  <a:pt x="1992" y="146"/>
                </a:lnTo>
                <a:lnTo>
                  <a:pt x="1994" y="152"/>
                </a:lnTo>
                <a:lnTo>
                  <a:pt x="1996" y="155"/>
                </a:lnTo>
                <a:lnTo>
                  <a:pt x="1998" y="159"/>
                </a:lnTo>
                <a:lnTo>
                  <a:pt x="1998" y="163"/>
                </a:lnTo>
                <a:lnTo>
                  <a:pt x="2000" y="165"/>
                </a:lnTo>
                <a:lnTo>
                  <a:pt x="1998" y="167"/>
                </a:lnTo>
                <a:lnTo>
                  <a:pt x="1998" y="171"/>
                </a:lnTo>
                <a:lnTo>
                  <a:pt x="1996" y="173"/>
                </a:lnTo>
                <a:lnTo>
                  <a:pt x="1992" y="175"/>
                </a:lnTo>
                <a:lnTo>
                  <a:pt x="1988" y="177"/>
                </a:lnTo>
                <a:lnTo>
                  <a:pt x="1985" y="179"/>
                </a:lnTo>
                <a:lnTo>
                  <a:pt x="1979" y="180"/>
                </a:lnTo>
                <a:lnTo>
                  <a:pt x="1973" y="182"/>
                </a:lnTo>
                <a:lnTo>
                  <a:pt x="1967" y="184"/>
                </a:lnTo>
                <a:lnTo>
                  <a:pt x="1960" y="186"/>
                </a:lnTo>
                <a:lnTo>
                  <a:pt x="1952" y="188"/>
                </a:lnTo>
                <a:lnTo>
                  <a:pt x="1942" y="188"/>
                </a:lnTo>
                <a:lnTo>
                  <a:pt x="1933" y="190"/>
                </a:lnTo>
                <a:lnTo>
                  <a:pt x="1921" y="192"/>
                </a:lnTo>
                <a:lnTo>
                  <a:pt x="1910" y="194"/>
                </a:lnTo>
                <a:lnTo>
                  <a:pt x="1898" y="194"/>
                </a:lnTo>
                <a:lnTo>
                  <a:pt x="1885" y="196"/>
                </a:lnTo>
                <a:lnTo>
                  <a:pt x="1871" y="196"/>
                </a:lnTo>
                <a:lnTo>
                  <a:pt x="1856" y="198"/>
                </a:lnTo>
                <a:lnTo>
                  <a:pt x="1841" y="198"/>
                </a:lnTo>
                <a:lnTo>
                  <a:pt x="1825" y="200"/>
                </a:lnTo>
                <a:lnTo>
                  <a:pt x="1808" y="200"/>
                </a:lnTo>
                <a:lnTo>
                  <a:pt x="1791" y="202"/>
                </a:lnTo>
                <a:lnTo>
                  <a:pt x="1772" y="202"/>
                </a:lnTo>
                <a:lnTo>
                  <a:pt x="1752" y="202"/>
                </a:lnTo>
                <a:lnTo>
                  <a:pt x="1733" y="203"/>
                </a:lnTo>
                <a:lnTo>
                  <a:pt x="1712" y="203"/>
                </a:lnTo>
                <a:lnTo>
                  <a:pt x="1689" y="203"/>
                </a:lnTo>
                <a:lnTo>
                  <a:pt x="1668" y="203"/>
                </a:lnTo>
                <a:lnTo>
                  <a:pt x="1643" y="203"/>
                </a:lnTo>
                <a:lnTo>
                  <a:pt x="1620" y="203"/>
                </a:lnTo>
                <a:lnTo>
                  <a:pt x="1595" y="203"/>
                </a:lnTo>
                <a:lnTo>
                  <a:pt x="1545" y="203"/>
                </a:lnTo>
                <a:lnTo>
                  <a:pt x="1495" y="205"/>
                </a:lnTo>
                <a:lnTo>
                  <a:pt x="1447" y="205"/>
                </a:lnTo>
                <a:lnTo>
                  <a:pt x="1399" y="205"/>
                </a:lnTo>
                <a:lnTo>
                  <a:pt x="1353" y="207"/>
                </a:lnTo>
                <a:lnTo>
                  <a:pt x="1307" y="209"/>
                </a:lnTo>
                <a:lnTo>
                  <a:pt x="1263" y="211"/>
                </a:lnTo>
                <a:lnTo>
                  <a:pt x="1219" y="213"/>
                </a:lnTo>
                <a:lnTo>
                  <a:pt x="1175" y="215"/>
                </a:lnTo>
                <a:lnTo>
                  <a:pt x="1132" y="219"/>
                </a:lnTo>
                <a:lnTo>
                  <a:pt x="1092" y="221"/>
                </a:lnTo>
                <a:lnTo>
                  <a:pt x="1052" y="225"/>
                </a:lnTo>
                <a:lnTo>
                  <a:pt x="1011" y="228"/>
                </a:lnTo>
                <a:lnTo>
                  <a:pt x="973" y="232"/>
                </a:lnTo>
                <a:lnTo>
                  <a:pt x="935" y="238"/>
                </a:lnTo>
                <a:lnTo>
                  <a:pt x="898" y="242"/>
                </a:lnTo>
                <a:lnTo>
                  <a:pt x="862" y="250"/>
                </a:lnTo>
                <a:lnTo>
                  <a:pt x="825" y="255"/>
                </a:lnTo>
                <a:lnTo>
                  <a:pt x="789" y="263"/>
                </a:lnTo>
                <a:lnTo>
                  <a:pt x="754" y="269"/>
                </a:lnTo>
                <a:lnTo>
                  <a:pt x="722" y="274"/>
                </a:lnTo>
                <a:lnTo>
                  <a:pt x="687" y="280"/>
                </a:lnTo>
                <a:lnTo>
                  <a:pt x="654" y="286"/>
                </a:lnTo>
                <a:lnTo>
                  <a:pt x="622" y="292"/>
                </a:lnTo>
                <a:lnTo>
                  <a:pt x="589" y="298"/>
                </a:lnTo>
                <a:lnTo>
                  <a:pt x="558" y="301"/>
                </a:lnTo>
                <a:lnTo>
                  <a:pt x="528" y="307"/>
                </a:lnTo>
                <a:lnTo>
                  <a:pt x="497" y="311"/>
                </a:lnTo>
                <a:lnTo>
                  <a:pt x="468" y="317"/>
                </a:lnTo>
                <a:lnTo>
                  <a:pt x="439" y="321"/>
                </a:lnTo>
                <a:lnTo>
                  <a:pt x="411" y="326"/>
                </a:lnTo>
                <a:lnTo>
                  <a:pt x="384" y="3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30"/>
          <p:cNvSpPr/>
          <p:nvPr/>
        </p:nvSpPr>
        <p:spPr>
          <a:xfrm>
            <a:off x="6499080" y="4049640"/>
            <a:ext cx="816120" cy="216000"/>
          </a:xfrm>
          <a:custGeom>
            <a:avLst/>
            <a:gdLst/>
            <a:ahLst/>
            <a:rect l="l" t="t" r="r" b="b"/>
            <a:pathLst>
              <a:path w="1029" h="270">
                <a:moveTo>
                  <a:pt x="722" y="38"/>
                </a:moveTo>
                <a:lnTo>
                  <a:pt x="745" y="28"/>
                </a:lnTo>
                <a:lnTo>
                  <a:pt x="770" y="21"/>
                </a:lnTo>
                <a:lnTo>
                  <a:pt x="795" y="13"/>
                </a:lnTo>
                <a:lnTo>
                  <a:pt x="822" y="7"/>
                </a:lnTo>
                <a:lnTo>
                  <a:pt x="849" y="3"/>
                </a:lnTo>
                <a:lnTo>
                  <a:pt x="876" y="1"/>
                </a:lnTo>
                <a:lnTo>
                  <a:pt x="902" y="0"/>
                </a:lnTo>
                <a:lnTo>
                  <a:pt x="931" y="0"/>
                </a:lnTo>
                <a:lnTo>
                  <a:pt x="941" y="1"/>
                </a:lnTo>
                <a:lnTo>
                  <a:pt x="952" y="3"/>
                </a:lnTo>
                <a:lnTo>
                  <a:pt x="962" y="5"/>
                </a:lnTo>
                <a:lnTo>
                  <a:pt x="972" y="9"/>
                </a:lnTo>
                <a:lnTo>
                  <a:pt x="979" y="11"/>
                </a:lnTo>
                <a:lnTo>
                  <a:pt x="989" y="13"/>
                </a:lnTo>
                <a:lnTo>
                  <a:pt x="995" y="17"/>
                </a:lnTo>
                <a:lnTo>
                  <a:pt x="1002" y="19"/>
                </a:lnTo>
                <a:lnTo>
                  <a:pt x="1008" y="23"/>
                </a:lnTo>
                <a:lnTo>
                  <a:pt x="1014" y="26"/>
                </a:lnTo>
                <a:lnTo>
                  <a:pt x="1018" y="28"/>
                </a:lnTo>
                <a:lnTo>
                  <a:pt x="1021" y="32"/>
                </a:lnTo>
                <a:lnTo>
                  <a:pt x="1025" y="36"/>
                </a:lnTo>
                <a:lnTo>
                  <a:pt x="1027" y="40"/>
                </a:lnTo>
                <a:lnTo>
                  <a:pt x="1027" y="46"/>
                </a:lnTo>
                <a:lnTo>
                  <a:pt x="1029" y="49"/>
                </a:lnTo>
                <a:lnTo>
                  <a:pt x="1027" y="57"/>
                </a:lnTo>
                <a:lnTo>
                  <a:pt x="1025" y="63"/>
                </a:lnTo>
                <a:lnTo>
                  <a:pt x="1021" y="71"/>
                </a:lnTo>
                <a:lnTo>
                  <a:pt x="1014" y="76"/>
                </a:lnTo>
                <a:lnTo>
                  <a:pt x="1006" y="82"/>
                </a:lnTo>
                <a:lnTo>
                  <a:pt x="998" y="88"/>
                </a:lnTo>
                <a:lnTo>
                  <a:pt x="987" y="94"/>
                </a:lnTo>
                <a:lnTo>
                  <a:pt x="975" y="99"/>
                </a:lnTo>
                <a:lnTo>
                  <a:pt x="960" y="107"/>
                </a:lnTo>
                <a:lnTo>
                  <a:pt x="945" y="113"/>
                </a:lnTo>
                <a:lnTo>
                  <a:pt x="927" y="119"/>
                </a:lnTo>
                <a:lnTo>
                  <a:pt x="910" y="124"/>
                </a:lnTo>
                <a:lnTo>
                  <a:pt x="889" y="130"/>
                </a:lnTo>
                <a:lnTo>
                  <a:pt x="868" y="138"/>
                </a:lnTo>
                <a:lnTo>
                  <a:pt x="845" y="143"/>
                </a:lnTo>
                <a:lnTo>
                  <a:pt x="820" y="151"/>
                </a:lnTo>
                <a:lnTo>
                  <a:pt x="764" y="165"/>
                </a:lnTo>
                <a:lnTo>
                  <a:pt x="710" y="178"/>
                </a:lnTo>
                <a:lnTo>
                  <a:pt x="655" y="190"/>
                </a:lnTo>
                <a:lnTo>
                  <a:pt x="601" y="201"/>
                </a:lnTo>
                <a:lnTo>
                  <a:pt x="547" y="211"/>
                </a:lnTo>
                <a:lnTo>
                  <a:pt x="495" y="220"/>
                </a:lnTo>
                <a:lnTo>
                  <a:pt x="442" y="230"/>
                </a:lnTo>
                <a:lnTo>
                  <a:pt x="392" y="241"/>
                </a:lnTo>
                <a:lnTo>
                  <a:pt x="367" y="245"/>
                </a:lnTo>
                <a:lnTo>
                  <a:pt x="344" y="249"/>
                </a:lnTo>
                <a:lnTo>
                  <a:pt x="321" y="253"/>
                </a:lnTo>
                <a:lnTo>
                  <a:pt x="300" y="257"/>
                </a:lnTo>
                <a:lnTo>
                  <a:pt x="281" y="261"/>
                </a:lnTo>
                <a:lnTo>
                  <a:pt x="261" y="262"/>
                </a:lnTo>
                <a:lnTo>
                  <a:pt x="244" y="266"/>
                </a:lnTo>
                <a:lnTo>
                  <a:pt x="229" y="268"/>
                </a:lnTo>
                <a:lnTo>
                  <a:pt x="213" y="270"/>
                </a:lnTo>
                <a:lnTo>
                  <a:pt x="200" y="270"/>
                </a:lnTo>
                <a:lnTo>
                  <a:pt x="186" y="270"/>
                </a:lnTo>
                <a:lnTo>
                  <a:pt x="177" y="270"/>
                </a:lnTo>
                <a:lnTo>
                  <a:pt x="167" y="270"/>
                </a:lnTo>
                <a:lnTo>
                  <a:pt x="160" y="270"/>
                </a:lnTo>
                <a:lnTo>
                  <a:pt x="152" y="268"/>
                </a:lnTo>
                <a:lnTo>
                  <a:pt x="146" y="266"/>
                </a:lnTo>
                <a:lnTo>
                  <a:pt x="133" y="264"/>
                </a:lnTo>
                <a:lnTo>
                  <a:pt x="121" y="264"/>
                </a:lnTo>
                <a:lnTo>
                  <a:pt x="110" y="261"/>
                </a:lnTo>
                <a:lnTo>
                  <a:pt x="98" y="259"/>
                </a:lnTo>
                <a:lnTo>
                  <a:pt x="87" y="255"/>
                </a:lnTo>
                <a:lnTo>
                  <a:pt x="75" y="249"/>
                </a:lnTo>
                <a:lnTo>
                  <a:pt x="62" y="245"/>
                </a:lnTo>
                <a:lnTo>
                  <a:pt x="48" y="241"/>
                </a:lnTo>
                <a:lnTo>
                  <a:pt x="43" y="238"/>
                </a:lnTo>
                <a:lnTo>
                  <a:pt x="37" y="236"/>
                </a:lnTo>
                <a:lnTo>
                  <a:pt x="31" y="234"/>
                </a:lnTo>
                <a:lnTo>
                  <a:pt x="25" y="230"/>
                </a:lnTo>
                <a:lnTo>
                  <a:pt x="21" y="228"/>
                </a:lnTo>
                <a:lnTo>
                  <a:pt x="18" y="226"/>
                </a:lnTo>
                <a:lnTo>
                  <a:pt x="10" y="222"/>
                </a:lnTo>
                <a:lnTo>
                  <a:pt x="6" y="216"/>
                </a:lnTo>
                <a:lnTo>
                  <a:pt x="2" y="213"/>
                </a:lnTo>
                <a:lnTo>
                  <a:pt x="0" y="207"/>
                </a:lnTo>
                <a:lnTo>
                  <a:pt x="0" y="203"/>
                </a:lnTo>
                <a:lnTo>
                  <a:pt x="0" y="201"/>
                </a:lnTo>
                <a:lnTo>
                  <a:pt x="0" y="199"/>
                </a:lnTo>
                <a:lnTo>
                  <a:pt x="2" y="199"/>
                </a:lnTo>
                <a:lnTo>
                  <a:pt x="4" y="197"/>
                </a:lnTo>
                <a:lnTo>
                  <a:pt x="8" y="195"/>
                </a:lnTo>
                <a:lnTo>
                  <a:pt x="12" y="193"/>
                </a:lnTo>
                <a:lnTo>
                  <a:pt x="16" y="191"/>
                </a:lnTo>
                <a:lnTo>
                  <a:pt x="19" y="190"/>
                </a:lnTo>
                <a:lnTo>
                  <a:pt x="25" y="188"/>
                </a:lnTo>
                <a:lnTo>
                  <a:pt x="31" y="186"/>
                </a:lnTo>
                <a:lnTo>
                  <a:pt x="39" y="184"/>
                </a:lnTo>
                <a:lnTo>
                  <a:pt x="46" y="182"/>
                </a:lnTo>
                <a:lnTo>
                  <a:pt x="54" y="180"/>
                </a:lnTo>
                <a:lnTo>
                  <a:pt x="62" y="178"/>
                </a:lnTo>
                <a:lnTo>
                  <a:pt x="71" y="176"/>
                </a:lnTo>
                <a:lnTo>
                  <a:pt x="81" y="174"/>
                </a:lnTo>
                <a:lnTo>
                  <a:pt x="90" y="172"/>
                </a:lnTo>
                <a:lnTo>
                  <a:pt x="102" y="168"/>
                </a:lnTo>
                <a:lnTo>
                  <a:pt x="114" y="166"/>
                </a:lnTo>
                <a:lnTo>
                  <a:pt x="127" y="165"/>
                </a:lnTo>
                <a:lnTo>
                  <a:pt x="138" y="161"/>
                </a:lnTo>
                <a:lnTo>
                  <a:pt x="152" y="159"/>
                </a:lnTo>
                <a:lnTo>
                  <a:pt x="165" y="155"/>
                </a:lnTo>
                <a:lnTo>
                  <a:pt x="181" y="153"/>
                </a:lnTo>
                <a:lnTo>
                  <a:pt x="196" y="149"/>
                </a:lnTo>
                <a:lnTo>
                  <a:pt x="211" y="145"/>
                </a:lnTo>
                <a:lnTo>
                  <a:pt x="229" y="143"/>
                </a:lnTo>
                <a:lnTo>
                  <a:pt x="244" y="140"/>
                </a:lnTo>
                <a:lnTo>
                  <a:pt x="261" y="136"/>
                </a:lnTo>
                <a:lnTo>
                  <a:pt x="281" y="132"/>
                </a:lnTo>
                <a:lnTo>
                  <a:pt x="300" y="130"/>
                </a:lnTo>
                <a:lnTo>
                  <a:pt x="319" y="126"/>
                </a:lnTo>
                <a:lnTo>
                  <a:pt x="355" y="119"/>
                </a:lnTo>
                <a:lnTo>
                  <a:pt x="392" y="111"/>
                </a:lnTo>
                <a:lnTo>
                  <a:pt x="426" y="105"/>
                </a:lnTo>
                <a:lnTo>
                  <a:pt x="461" y="97"/>
                </a:lnTo>
                <a:lnTo>
                  <a:pt x="492" y="90"/>
                </a:lnTo>
                <a:lnTo>
                  <a:pt x="520" y="84"/>
                </a:lnTo>
                <a:lnTo>
                  <a:pt x="549" y="78"/>
                </a:lnTo>
                <a:lnTo>
                  <a:pt x="574" y="72"/>
                </a:lnTo>
                <a:lnTo>
                  <a:pt x="599" y="67"/>
                </a:lnTo>
                <a:lnTo>
                  <a:pt x="622" y="61"/>
                </a:lnTo>
                <a:lnTo>
                  <a:pt x="643" y="55"/>
                </a:lnTo>
                <a:lnTo>
                  <a:pt x="662" y="51"/>
                </a:lnTo>
                <a:lnTo>
                  <a:pt x="680" y="47"/>
                </a:lnTo>
                <a:lnTo>
                  <a:pt x="695" y="44"/>
                </a:lnTo>
                <a:lnTo>
                  <a:pt x="710" y="40"/>
                </a:lnTo>
                <a:lnTo>
                  <a:pt x="722" y="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131"/>
          <p:cNvSpPr/>
          <p:nvPr/>
        </p:nvSpPr>
        <p:spPr>
          <a:xfrm>
            <a:off x="6440400" y="3736800"/>
            <a:ext cx="935280" cy="211320"/>
          </a:xfrm>
          <a:custGeom>
            <a:avLst/>
            <a:gdLst/>
            <a:ahLst/>
            <a:rect l="l" t="t" r="r" b="b"/>
            <a:pathLst>
              <a:path w="1179" h="267">
                <a:moveTo>
                  <a:pt x="0" y="192"/>
                </a:moveTo>
                <a:lnTo>
                  <a:pt x="50" y="179"/>
                </a:lnTo>
                <a:lnTo>
                  <a:pt x="100" y="167"/>
                </a:lnTo>
                <a:lnTo>
                  <a:pt x="148" y="156"/>
                </a:lnTo>
                <a:lnTo>
                  <a:pt x="194" y="146"/>
                </a:lnTo>
                <a:lnTo>
                  <a:pt x="240" y="134"/>
                </a:lnTo>
                <a:lnTo>
                  <a:pt x="284" y="125"/>
                </a:lnTo>
                <a:lnTo>
                  <a:pt x="327" y="115"/>
                </a:lnTo>
                <a:lnTo>
                  <a:pt x="369" y="106"/>
                </a:lnTo>
                <a:lnTo>
                  <a:pt x="409" y="98"/>
                </a:lnTo>
                <a:lnTo>
                  <a:pt x="448" y="88"/>
                </a:lnTo>
                <a:lnTo>
                  <a:pt x="484" y="81"/>
                </a:lnTo>
                <a:lnTo>
                  <a:pt x="521" y="73"/>
                </a:lnTo>
                <a:lnTo>
                  <a:pt x="555" y="65"/>
                </a:lnTo>
                <a:lnTo>
                  <a:pt x="588" y="60"/>
                </a:lnTo>
                <a:lnTo>
                  <a:pt x="620" y="54"/>
                </a:lnTo>
                <a:lnTo>
                  <a:pt x="651" y="46"/>
                </a:lnTo>
                <a:lnTo>
                  <a:pt x="680" y="40"/>
                </a:lnTo>
                <a:lnTo>
                  <a:pt x="709" y="37"/>
                </a:lnTo>
                <a:lnTo>
                  <a:pt x="734" y="31"/>
                </a:lnTo>
                <a:lnTo>
                  <a:pt x="759" y="27"/>
                </a:lnTo>
                <a:lnTo>
                  <a:pt x="783" y="21"/>
                </a:lnTo>
                <a:lnTo>
                  <a:pt x="807" y="17"/>
                </a:lnTo>
                <a:lnTo>
                  <a:pt x="826" y="15"/>
                </a:lnTo>
                <a:lnTo>
                  <a:pt x="847" y="12"/>
                </a:lnTo>
                <a:lnTo>
                  <a:pt x="864" y="10"/>
                </a:lnTo>
                <a:lnTo>
                  <a:pt x="881" y="6"/>
                </a:lnTo>
                <a:lnTo>
                  <a:pt x="897" y="4"/>
                </a:lnTo>
                <a:lnTo>
                  <a:pt x="912" y="4"/>
                </a:lnTo>
                <a:lnTo>
                  <a:pt x="924" y="2"/>
                </a:lnTo>
                <a:lnTo>
                  <a:pt x="935" y="0"/>
                </a:lnTo>
                <a:lnTo>
                  <a:pt x="945" y="0"/>
                </a:lnTo>
                <a:lnTo>
                  <a:pt x="954" y="0"/>
                </a:lnTo>
                <a:lnTo>
                  <a:pt x="981" y="0"/>
                </a:lnTo>
                <a:lnTo>
                  <a:pt x="1006" y="2"/>
                </a:lnTo>
                <a:lnTo>
                  <a:pt x="1031" y="4"/>
                </a:lnTo>
                <a:lnTo>
                  <a:pt x="1056" y="8"/>
                </a:lnTo>
                <a:lnTo>
                  <a:pt x="1077" y="12"/>
                </a:lnTo>
                <a:lnTo>
                  <a:pt x="1098" y="15"/>
                </a:lnTo>
                <a:lnTo>
                  <a:pt x="1119" y="21"/>
                </a:lnTo>
                <a:lnTo>
                  <a:pt x="1139" y="25"/>
                </a:lnTo>
                <a:lnTo>
                  <a:pt x="1144" y="31"/>
                </a:lnTo>
                <a:lnTo>
                  <a:pt x="1150" y="35"/>
                </a:lnTo>
                <a:lnTo>
                  <a:pt x="1156" y="40"/>
                </a:lnTo>
                <a:lnTo>
                  <a:pt x="1160" y="44"/>
                </a:lnTo>
                <a:lnTo>
                  <a:pt x="1165" y="50"/>
                </a:lnTo>
                <a:lnTo>
                  <a:pt x="1169" y="54"/>
                </a:lnTo>
                <a:lnTo>
                  <a:pt x="1171" y="58"/>
                </a:lnTo>
                <a:lnTo>
                  <a:pt x="1175" y="62"/>
                </a:lnTo>
                <a:lnTo>
                  <a:pt x="1177" y="67"/>
                </a:lnTo>
                <a:lnTo>
                  <a:pt x="1177" y="71"/>
                </a:lnTo>
                <a:lnTo>
                  <a:pt x="1179" y="73"/>
                </a:lnTo>
                <a:lnTo>
                  <a:pt x="1179" y="77"/>
                </a:lnTo>
                <a:lnTo>
                  <a:pt x="1179" y="81"/>
                </a:lnTo>
                <a:lnTo>
                  <a:pt x="1179" y="85"/>
                </a:lnTo>
                <a:lnTo>
                  <a:pt x="1177" y="86"/>
                </a:lnTo>
                <a:lnTo>
                  <a:pt x="1175" y="88"/>
                </a:lnTo>
                <a:lnTo>
                  <a:pt x="1171" y="90"/>
                </a:lnTo>
                <a:lnTo>
                  <a:pt x="1169" y="92"/>
                </a:lnTo>
                <a:lnTo>
                  <a:pt x="1165" y="92"/>
                </a:lnTo>
                <a:lnTo>
                  <a:pt x="1162" y="94"/>
                </a:lnTo>
                <a:lnTo>
                  <a:pt x="1158" y="96"/>
                </a:lnTo>
                <a:lnTo>
                  <a:pt x="1152" y="98"/>
                </a:lnTo>
                <a:lnTo>
                  <a:pt x="1146" y="100"/>
                </a:lnTo>
                <a:lnTo>
                  <a:pt x="1140" y="100"/>
                </a:lnTo>
                <a:lnTo>
                  <a:pt x="1135" y="102"/>
                </a:lnTo>
                <a:lnTo>
                  <a:pt x="1127" y="104"/>
                </a:lnTo>
                <a:lnTo>
                  <a:pt x="1119" y="106"/>
                </a:lnTo>
                <a:lnTo>
                  <a:pt x="1112" y="108"/>
                </a:lnTo>
                <a:lnTo>
                  <a:pt x="1094" y="111"/>
                </a:lnTo>
                <a:lnTo>
                  <a:pt x="1075" y="115"/>
                </a:lnTo>
                <a:lnTo>
                  <a:pt x="1054" y="121"/>
                </a:lnTo>
                <a:lnTo>
                  <a:pt x="1031" y="125"/>
                </a:lnTo>
                <a:lnTo>
                  <a:pt x="1006" y="129"/>
                </a:lnTo>
                <a:lnTo>
                  <a:pt x="979" y="134"/>
                </a:lnTo>
                <a:lnTo>
                  <a:pt x="952" y="138"/>
                </a:lnTo>
                <a:lnTo>
                  <a:pt x="922" y="142"/>
                </a:lnTo>
                <a:lnTo>
                  <a:pt x="889" y="148"/>
                </a:lnTo>
                <a:lnTo>
                  <a:pt x="856" y="154"/>
                </a:lnTo>
                <a:lnTo>
                  <a:pt x="822" y="159"/>
                </a:lnTo>
                <a:lnTo>
                  <a:pt x="789" y="167"/>
                </a:lnTo>
                <a:lnTo>
                  <a:pt x="755" y="173"/>
                </a:lnTo>
                <a:lnTo>
                  <a:pt x="724" y="179"/>
                </a:lnTo>
                <a:lnTo>
                  <a:pt x="691" y="184"/>
                </a:lnTo>
                <a:lnTo>
                  <a:pt x="661" y="190"/>
                </a:lnTo>
                <a:lnTo>
                  <a:pt x="632" y="196"/>
                </a:lnTo>
                <a:lnTo>
                  <a:pt x="603" y="200"/>
                </a:lnTo>
                <a:lnTo>
                  <a:pt x="574" y="205"/>
                </a:lnTo>
                <a:lnTo>
                  <a:pt x="547" y="209"/>
                </a:lnTo>
                <a:lnTo>
                  <a:pt x="521" y="213"/>
                </a:lnTo>
                <a:lnTo>
                  <a:pt x="496" y="217"/>
                </a:lnTo>
                <a:lnTo>
                  <a:pt x="471" y="221"/>
                </a:lnTo>
                <a:lnTo>
                  <a:pt x="448" y="223"/>
                </a:lnTo>
                <a:lnTo>
                  <a:pt x="425" y="227"/>
                </a:lnTo>
                <a:lnTo>
                  <a:pt x="403" y="229"/>
                </a:lnTo>
                <a:lnTo>
                  <a:pt x="380" y="234"/>
                </a:lnTo>
                <a:lnTo>
                  <a:pt x="359" y="238"/>
                </a:lnTo>
                <a:lnTo>
                  <a:pt x="340" y="242"/>
                </a:lnTo>
                <a:lnTo>
                  <a:pt x="321" y="246"/>
                </a:lnTo>
                <a:lnTo>
                  <a:pt x="304" y="250"/>
                </a:lnTo>
                <a:lnTo>
                  <a:pt x="286" y="253"/>
                </a:lnTo>
                <a:lnTo>
                  <a:pt x="271" y="255"/>
                </a:lnTo>
                <a:lnTo>
                  <a:pt x="258" y="257"/>
                </a:lnTo>
                <a:lnTo>
                  <a:pt x="246" y="259"/>
                </a:lnTo>
                <a:lnTo>
                  <a:pt x="235" y="263"/>
                </a:lnTo>
                <a:lnTo>
                  <a:pt x="225" y="263"/>
                </a:lnTo>
                <a:lnTo>
                  <a:pt x="215" y="265"/>
                </a:lnTo>
                <a:lnTo>
                  <a:pt x="208" y="267"/>
                </a:lnTo>
                <a:lnTo>
                  <a:pt x="202" y="267"/>
                </a:lnTo>
                <a:lnTo>
                  <a:pt x="198" y="267"/>
                </a:lnTo>
                <a:lnTo>
                  <a:pt x="196" y="267"/>
                </a:lnTo>
                <a:lnTo>
                  <a:pt x="177" y="267"/>
                </a:lnTo>
                <a:lnTo>
                  <a:pt x="167" y="267"/>
                </a:lnTo>
                <a:lnTo>
                  <a:pt x="158" y="265"/>
                </a:lnTo>
                <a:lnTo>
                  <a:pt x="146" y="265"/>
                </a:lnTo>
                <a:lnTo>
                  <a:pt x="135" y="261"/>
                </a:lnTo>
                <a:lnTo>
                  <a:pt x="123" y="259"/>
                </a:lnTo>
                <a:lnTo>
                  <a:pt x="110" y="255"/>
                </a:lnTo>
                <a:lnTo>
                  <a:pt x="96" y="250"/>
                </a:lnTo>
                <a:lnTo>
                  <a:pt x="81" y="244"/>
                </a:lnTo>
                <a:lnTo>
                  <a:pt x="68" y="238"/>
                </a:lnTo>
                <a:lnTo>
                  <a:pt x="54" y="232"/>
                </a:lnTo>
                <a:lnTo>
                  <a:pt x="41" y="225"/>
                </a:lnTo>
                <a:lnTo>
                  <a:pt x="27" y="215"/>
                </a:lnTo>
                <a:lnTo>
                  <a:pt x="20" y="209"/>
                </a:lnTo>
                <a:lnTo>
                  <a:pt x="14" y="204"/>
                </a:lnTo>
                <a:lnTo>
                  <a:pt x="6" y="198"/>
                </a:lnTo>
                <a:lnTo>
                  <a:pt x="0" y="1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32"/>
          <p:cNvSpPr/>
          <p:nvPr/>
        </p:nvSpPr>
        <p:spPr>
          <a:xfrm>
            <a:off x="6407280" y="3044880"/>
            <a:ext cx="266400" cy="641160"/>
          </a:xfrm>
          <a:custGeom>
            <a:avLst/>
            <a:gdLst/>
            <a:ahLst/>
            <a:rect l="l" t="t" r="r" b="b"/>
            <a:pathLst>
              <a:path w="336" h="808">
                <a:moveTo>
                  <a:pt x="200" y="19"/>
                </a:moveTo>
                <a:lnTo>
                  <a:pt x="207" y="59"/>
                </a:lnTo>
                <a:lnTo>
                  <a:pt x="215" y="99"/>
                </a:lnTo>
                <a:lnTo>
                  <a:pt x="223" y="138"/>
                </a:lnTo>
                <a:lnTo>
                  <a:pt x="230" y="176"/>
                </a:lnTo>
                <a:lnTo>
                  <a:pt x="236" y="213"/>
                </a:lnTo>
                <a:lnTo>
                  <a:pt x="244" y="247"/>
                </a:lnTo>
                <a:lnTo>
                  <a:pt x="250" y="282"/>
                </a:lnTo>
                <a:lnTo>
                  <a:pt x="257" y="314"/>
                </a:lnTo>
                <a:lnTo>
                  <a:pt x="263" y="345"/>
                </a:lnTo>
                <a:lnTo>
                  <a:pt x="269" y="376"/>
                </a:lnTo>
                <a:lnTo>
                  <a:pt x="275" y="407"/>
                </a:lnTo>
                <a:lnTo>
                  <a:pt x="280" y="433"/>
                </a:lnTo>
                <a:lnTo>
                  <a:pt x="284" y="460"/>
                </a:lnTo>
                <a:lnTo>
                  <a:pt x="290" y="487"/>
                </a:lnTo>
                <a:lnTo>
                  <a:pt x="294" y="510"/>
                </a:lnTo>
                <a:lnTo>
                  <a:pt x="300" y="533"/>
                </a:lnTo>
                <a:lnTo>
                  <a:pt x="303" y="556"/>
                </a:lnTo>
                <a:lnTo>
                  <a:pt x="307" y="577"/>
                </a:lnTo>
                <a:lnTo>
                  <a:pt x="311" y="597"/>
                </a:lnTo>
                <a:lnTo>
                  <a:pt x="315" y="616"/>
                </a:lnTo>
                <a:lnTo>
                  <a:pt x="319" y="633"/>
                </a:lnTo>
                <a:lnTo>
                  <a:pt x="321" y="648"/>
                </a:lnTo>
                <a:lnTo>
                  <a:pt x="323" y="664"/>
                </a:lnTo>
                <a:lnTo>
                  <a:pt x="326" y="677"/>
                </a:lnTo>
                <a:lnTo>
                  <a:pt x="328" y="689"/>
                </a:lnTo>
                <a:lnTo>
                  <a:pt x="330" y="700"/>
                </a:lnTo>
                <a:lnTo>
                  <a:pt x="332" y="712"/>
                </a:lnTo>
                <a:lnTo>
                  <a:pt x="332" y="719"/>
                </a:lnTo>
                <a:lnTo>
                  <a:pt x="334" y="727"/>
                </a:lnTo>
                <a:lnTo>
                  <a:pt x="334" y="735"/>
                </a:lnTo>
                <a:lnTo>
                  <a:pt x="334" y="741"/>
                </a:lnTo>
                <a:lnTo>
                  <a:pt x="336" y="744"/>
                </a:lnTo>
                <a:lnTo>
                  <a:pt x="334" y="758"/>
                </a:lnTo>
                <a:lnTo>
                  <a:pt x="332" y="769"/>
                </a:lnTo>
                <a:lnTo>
                  <a:pt x="330" y="781"/>
                </a:lnTo>
                <a:lnTo>
                  <a:pt x="326" y="790"/>
                </a:lnTo>
                <a:lnTo>
                  <a:pt x="323" y="794"/>
                </a:lnTo>
                <a:lnTo>
                  <a:pt x="321" y="798"/>
                </a:lnTo>
                <a:lnTo>
                  <a:pt x="317" y="800"/>
                </a:lnTo>
                <a:lnTo>
                  <a:pt x="315" y="802"/>
                </a:lnTo>
                <a:lnTo>
                  <a:pt x="311" y="804"/>
                </a:lnTo>
                <a:lnTo>
                  <a:pt x="307" y="806"/>
                </a:lnTo>
                <a:lnTo>
                  <a:pt x="303" y="808"/>
                </a:lnTo>
                <a:lnTo>
                  <a:pt x="298" y="808"/>
                </a:lnTo>
                <a:lnTo>
                  <a:pt x="296" y="808"/>
                </a:lnTo>
                <a:lnTo>
                  <a:pt x="294" y="808"/>
                </a:lnTo>
                <a:lnTo>
                  <a:pt x="290" y="808"/>
                </a:lnTo>
                <a:lnTo>
                  <a:pt x="288" y="806"/>
                </a:lnTo>
                <a:lnTo>
                  <a:pt x="284" y="804"/>
                </a:lnTo>
                <a:lnTo>
                  <a:pt x="282" y="800"/>
                </a:lnTo>
                <a:lnTo>
                  <a:pt x="278" y="796"/>
                </a:lnTo>
                <a:lnTo>
                  <a:pt x="275" y="790"/>
                </a:lnTo>
                <a:lnTo>
                  <a:pt x="271" y="785"/>
                </a:lnTo>
                <a:lnTo>
                  <a:pt x="267" y="779"/>
                </a:lnTo>
                <a:lnTo>
                  <a:pt x="263" y="771"/>
                </a:lnTo>
                <a:lnTo>
                  <a:pt x="259" y="764"/>
                </a:lnTo>
                <a:lnTo>
                  <a:pt x="255" y="756"/>
                </a:lnTo>
                <a:lnTo>
                  <a:pt x="252" y="746"/>
                </a:lnTo>
                <a:lnTo>
                  <a:pt x="246" y="737"/>
                </a:lnTo>
                <a:lnTo>
                  <a:pt x="242" y="725"/>
                </a:lnTo>
                <a:lnTo>
                  <a:pt x="236" y="714"/>
                </a:lnTo>
                <a:lnTo>
                  <a:pt x="230" y="700"/>
                </a:lnTo>
                <a:lnTo>
                  <a:pt x="227" y="687"/>
                </a:lnTo>
                <a:lnTo>
                  <a:pt x="221" y="673"/>
                </a:lnTo>
                <a:lnTo>
                  <a:pt x="215" y="660"/>
                </a:lnTo>
                <a:lnTo>
                  <a:pt x="209" y="645"/>
                </a:lnTo>
                <a:lnTo>
                  <a:pt x="202" y="627"/>
                </a:lnTo>
                <a:lnTo>
                  <a:pt x="196" y="610"/>
                </a:lnTo>
                <a:lnTo>
                  <a:pt x="190" y="593"/>
                </a:lnTo>
                <a:lnTo>
                  <a:pt x="182" y="575"/>
                </a:lnTo>
                <a:lnTo>
                  <a:pt x="177" y="556"/>
                </a:lnTo>
                <a:lnTo>
                  <a:pt x="169" y="537"/>
                </a:lnTo>
                <a:lnTo>
                  <a:pt x="161" y="516"/>
                </a:lnTo>
                <a:lnTo>
                  <a:pt x="156" y="495"/>
                </a:lnTo>
                <a:lnTo>
                  <a:pt x="148" y="474"/>
                </a:lnTo>
                <a:lnTo>
                  <a:pt x="140" y="451"/>
                </a:lnTo>
                <a:lnTo>
                  <a:pt x="131" y="430"/>
                </a:lnTo>
                <a:lnTo>
                  <a:pt x="123" y="407"/>
                </a:lnTo>
                <a:lnTo>
                  <a:pt x="117" y="385"/>
                </a:lnTo>
                <a:lnTo>
                  <a:pt x="110" y="366"/>
                </a:lnTo>
                <a:lnTo>
                  <a:pt x="102" y="345"/>
                </a:lnTo>
                <a:lnTo>
                  <a:pt x="96" y="326"/>
                </a:lnTo>
                <a:lnTo>
                  <a:pt x="88" y="309"/>
                </a:lnTo>
                <a:lnTo>
                  <a:pt x="83" y="291"/>
                </a:lnTo>
                <a:lnTo>
                  <a:pt x="77" y="274"/>
                </a:lnTo>
                <a:lnTo>
                  <a:pt x="71" y="257"/>
                </a:lnTo>
                <a:lnTo>
                  <a:pt x="65" y="242"/>
                </a:lnTo>
                <a:lnTo>
                  <a:pt x="60" y="226"/>
                </a:lnTo>
                <a:lnTo>
                  <a:pt x="54" y="213"/>
                </a:lnTo>
                <a:lnTo>
                  <a:pt x="50" y="197"/>
                </a:lnTo>
                <a:lnTo>
                  <a:pt x="44" y="184"/>
                </a:lnTo>
                <a:lnTo>
                  <a:pt x="40" y="172"/>
                </a:lnTo>
                <a:lnTo>
                  <a:pt x="37" y="161"/>
                </a:lnTo>
                <a:lnTo>
                  <a:pt x="33" y="149"/>
                </a:lnTo>
                <a:lnTo>
                  <a:pt x="29" y="138"/>
                </a:lnTo>
                <a:lnTo>
                  <a:pt x="25" y="128"/>
                </a:lnTo>
                <a:lnTo>
                  <a:pt x="21" y="119"/>
                </a:lnTo>
                <a:lnTo>
                  <a:pt x="19" y="111"/>
                </a:lnTo>
                <a:lnTo>
                  <a:pt x="15" y="101"/>
                </a:lnTo>
                <a:lnTo>
                  <a:pt x="14" y="94"/>
                </a:lnTo>
                <a:lnTo>
                  <a:pt x="12" y="88"/>
                </a:lnTo>
                <a:lnTo>
                  <a:pt x="10" y="82"/>
                </a:lnTo>
                <a:lnTo>
                  <a:pt x="8" y="76"/>
                </a:lnTo>
                <a:lnTo>
                  <a:pt x="6" y="71"/>
                </a:lnTo>
                <a:lnTo>
                  <a:pt x="6" y="67"/>
                </a:lnTo>
                <a:lnTo>
                  <a:pt x="6" y="63"/>
                </a:lnTo>
                <a:lnTo>
                  <a:pt x="4" y="59"/>
                </a:lnTo>
                <a:lnTo>
                  <a:pt x="4" y="57"/>
                </a:lnTo>
                <a:lnTo>
                  <a:pt x="2" y="51"/>
                </a:lnTo>
                <a:lnTo>
                  <a:pt x="2" y="48"/>
                </a:lnTo>
                <a:lnTo>
                  <a:pt x="0" y="44"/>
                </a:lnTo>
                <a:lnTo>
                  <a:pt x="0" y="40"/>
                </a:lnTo>
                <a:lnTo>
                  <a:pt x="0" y="36"/>
                </a:lnTo>
                <a:lnTo>
                  <a:pt x="0" y="32"/>
                </a:lnTo>
                <a:lnTo>
                  <a:pt x="4" y="27"/>
                </a:lnTo>
                <a:lnTo>
                  <a:pt x="8" y="21"/>
                </a:lnTo>
                <a:lnTo>
                  <a:pt x="14" y="15"/>
                </a:lnTo>
                <a:lnTo>
                  <a:pt x="21" y="11"/>
                </a:lnTo>
                <a:lnTo>
                  <a:pt x="29" y="5"/>
                </a:lnTo>
                <a:lnTo>
                  <a:pt x="31" y="3"/>
                </a:lnTo>
                <a:lnTo>
                  <a:pt x="37" y="2"/>
                </a:lnTo>
                <a:lnTo>
                  <a:pt x="40" y="2"/>
                </a:lnTo>
                <a:lnTo>
                  <a:pt x="46" y="0"/>
                </a:lnTo>
                <a:lnTo>
                  <a:pt x="54" y="0"/>
                </a:lnTo>
                <a:lnTo>
                  <a:pt x="63" y="0"/>
                </a:lnTo>
                <a:lnTo>
                  <a:pt x="71" y="2"/>
                </a:lnTo>
                <a:lnTo>
                  <a:pt x="83" y="2"/>
                </a:lnTo>
                <a:lnTo>
                  <a:pt x="94" y="3"/>
                </a:lnTo>
                <a:lnTo>
                  <a:pt x="106" y="5"/>
                </a:lnTo>
                <a:lnTo>
                  <a:pt x="119" y="7"/>
                </a:lnTo>
                <a:lnTo>
                  <a:pt x="134" y="9"/>
                </a:lnTo>
                <a:lnTo>
                  <a:pt x="150" y="11"/>
                </a:lnTo>
                <a:lnTo>
                  <a:pt x="165" y="13"/>
                </a:lnTo>
                <a:lnTo>
                  <a:pt x="182" y="17"/>
                </a:lnTo>
                <a:lnTo>
                  <a:pt x="200" y="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133"/>
          <p:cNvSpPr/>
          <p:nvPr/>
        </p:nvSpPr>
        <p:spPr>
          <a:xfrm>
            <a:off x="6507000" y="2924280"/>
            <a:ext cx="1001880" cy="699840"/>
          </a:xfrm>
          <a:custGeom>
            <a:avLst/>
            <a:gdLst/>
            <a:ahLst/>
            <a:rect l="l" t="t" r="r" b="b"/>
            <a:pathLst>
              <a:path w="1261" h="883">
                <a:moveTo>
                  <a:pt x="992" y="6"/>
                </a:moveTo>
                <a:lnTo>
                  <a:pt x="998" y="6"/>
                </a:lnTo>
                <a:lnTo>
                  <a:pt x="1006" y="6"/>
                </a:lnTo>
                <a:lnTo>
                  <a:pt x="1013" y="8"/>
                </a:lnTo>
                <a:lnTo>
                  <a:pt x="1021" y="10"/>
                </a:lnTo>
                <a:lnTo>
                  <a:pt x="1031" y="12"/>
                </a:lnTo>
                <a:lnTo>
                  <a:pt x="1038" y="15"/>
                </a:lnTo>
                <a:lnTo>
                  <a:pt x="1048" y="19"/>
                </a:lnTo>
                <a:lnTo>
                  <a:pt x="1057" y="23"/>
                </a:lnTo>
                <a:lnTo>
                  <a:pt x="1067" y="29"/>
                </a:lnTo>
                <a:lnTo>
                  <a:pt x="1079" y="35"/>
                </a:lnTo>
                <a:lnTo>
                  <a:pt x="1088" y="40"/>
                </a:lnTo>
                <a:lnTo>
                  <a:pt x="1100" y="48"/>
                </a:lnTo>
                <a:lnTo>
                  <a:pt x="1111" y="56"/>
                </a:lnTo>
                <a:lnTo>
                  <a:pt x="1125" y="63"/>
                </a:lnTo>
                <a:lnTo>
                  <a:pt x="1138" y="71"/>
                </a:lnTo>
                <a:lnTo>
                  <a:pt x="1151" y="81"/>
                </a:lnTo>
                <a:lnTo>
                  <a:pt x="1163" y="92"/>
                </a:lnTo>
                <a:lnTo>
                  <a:pt x="1176" y="104"/>
                </a:lnTo>
                <a:lnTo>
                  <a:pt x="1188" y="115"/>
                </a:lnTo>
                <a:lnTo>
                  <a:pt x="1199" y="125"/>
                </a:lnTo>
                <a:lnTo>
                  <a:pt x="1209" y="134"/>
                </a:lnTo>
                <a:lnTo>
                  <a:pt x="1217" y="142"/>
                </a:lnTo>
                <a:lnTo>
                  <a:pt x="1226" y="150"/>
                </a:lnTo>
                <a:lnTo>
                  <a:pt x="1234" y="157"/>
                </a:lnTo>
                <a:lnTo>
                  <a:pt x="1240" y="165"/>
                </a:lnTo>
                <a:lnTo>
                  <a:pt x="1246" y="171"/>
                </a:lnTo>
                <a:lnTo>
                  <a:pt x="1249" y="177"/>
                </a:lnTo>
                <a:lnTo>
                  <a:pt x="1253" y="182"/>
                </a:lnTo>
                <a:lnTo>
                  <a:pt x="1257" y="186"/>
                </a:lnTo>
                <a:lnTo>
                  <a:pt x="1259" y="190"/>
                </a:lnTo>
                <a:lnTo>
                  <a:pt x="1261" y="194"/>
                </a:lnTo>
                <a:lnTo>
                  <a:pt x="1261" y="196"/>
                </a:lnTo>
                <a:lnTo>
                  <a:pt x="1261" y="205"/>
                </a:lnTo>
                <a:lnTo>
                  <a:pt x="1259" y="215"/>
                </a:lnTo>
                <a:lnTo>
                  <a:pt x="1255" y="225"/>
                </a:lnTo>
                <a:lnTo>
                  <a:pt x="1249" y="232"/>
                </a:lnTo>
                <a:lnTo>
                  <a:pt x="1244" y="240"/>
                </a:lnTo>
                <a:lnTo>
                  <a:pt x="1240" y="244"/>
                </a:lnTo>
                <a:lnTo>
                  <a:pt x="1236" y="248"/>
                </a:lnTo>
                <a:lnTo>
                  <a:pt x="1230" y="251"/>
                </a:lnTo>
                <a:lnTo>
                  <a:pt x="1224" y="253"/>
                </a:lnTo>
                <a:lnTo>
                  <a:pt x="1219" y="257"/>
                </a:lnTo>
                <a:lnTo>
                  <a:pt x="1213" y="259"/>
                </a:lnTo>
                <a:lnTo>
                  <a:pt x="1209" y="261"/>
                </a:lnTo>
                <a:lnTo>
                  <a:pt x="1205" y="263"/>
                </a:lnTo>
                <a:lnTo>
                  <a:pt x="1201" y="265"/>
                </a:lnTo>
                <a:lnTo>
                  <a:pt x="1198" y="269"/>
                </a:lnTo>
                <a:lnTo>
                  <a:pt x="1194" y="273"/>
                </a:lnTo>
                <a:lnTo>
                  <a:pt x="1188" y="276"/>
                </a:lnTo>
                <a:lnTo>
                  <a:pt x="1184" y="282"/>
                </a:lnTo>
                <a:lnTo>
                  <a:pt x="1180" y="288"/>
                </a:lnTo>
                <a:lnTo>
                  <a:pt x="1174" y="294"/>
                </a:lnTo>
                <a:lnTo>
                  <a:pt x="1171" y="299"/>
                </a:lnTo>
                <a:lnTo>
                  <a:pt x="1165" y="307"/>
                </a:lnTo>
                <a:lnTo>
                  <a:pt x="1161" y="315"/>
                </a:lnTo>
                <a:lnTo>
                  <a:pt x="1155" y="324"/>
                </a:lnTo>
                <a:lnTo>
                  <a:pt x="1150" y="332"/>
                </a:lnTo>
                <a:lnTo>
                  <a:pt x="1146" y="342"/>
                </a:lnTo>
                <a:lnTo>
                  <a:pt x="1140" y="351"/>
                </a:lnTo>
                <a:lnTo>
                  <a:pt x="1134" y="363"/>
                </a:lnTo>
                <a:lnTo>
                  <a:pt x="1128" y="372"/>
                </a:lnTo>
                <a:lnTo>
                  <a:pt x="1123" y="384"/>
                </a:lnTo>
                <a:lnTo>
                  <a:pt x="1117" y="395"/>
                </a:lnTo>
                <a:lnTo>
                  <a:pt x="1111" y="409"/>
                </a:lnTo>
                <a:lnTo>
                  <a:pt x="1105" y="422"/>
                </a:lnTo>
                <a:lnTo>
                  <a:pt x="1100" y="436"/>
                </a:lnTo>
                <a:lnTo>
                  <a:pt x="1092" y="449"/>
                </a:lnTo>
                <a:lnTo>
                  <a:pt x="1086" y="463"/>
                </a:lnTo>
                <a:lnTo>
                  <a:pt x="1080" y="478"/>
                </a:lnTo>
                <a:lnTo>
                  <a:pt x="1067" y="509"/>
                </a:lnTo>
                <a:lnTo>
                  <a:pt x="1054" y="543"/>
                </a:lnTo>
                <a:lnTo>
                  <a:pt x="1040" y="578"/>
                </a:lnTo>
                <a:lnTo>
                  <a:pt x="1032" y="597"/>
                </a:lnTo>
                <a:lnTo>
                  <a:pt x="1025" y="614"/>
                </a:lnTo>
                <a:lnTo>
                  <a:pt x="1017" y="632"/>
                </a:lnTo>
                <a:lnTo>
                  <a:pt x="1009" y="649"/>
                </a:lnTo>
                <a:lnTo>
                  <a:pt x="1002" y="666"/>
                </a:lnTo>
                <a:lnTo>
                  <a:pt x="996" y="681"/>
                </a:lnTo>
                <a:lnTo>
                  <a:pt x="988" y="697"/>
                </a:lnTo>
                <a:lnTo>
                  <a:pt x="981" y="712"/>
                </a:lnTo>
                <a:lnTo>
                  <a:pt x="975" y="726"/>
                </a:lnTo>
                <a:lnTo>
                  <a:pt x="967" y="739"/>
                </a:lnTo>
                <a:lnTo>
                  <a:pt x="961" y="752"/>
                </a:lnTo>
                <a:lnTo>
                  <a:pt x="954" y="764"/>
                </a:lnTo>
                <a:lnTo>
                  <a:pt x="948" y="775"/>
                </a:lnTo>
                <a:lnTo>
                  <a:pt x="942" y="787"/>
                </a:lnTo>
                <a:lnTo>
                  <a:pt x="936" y="797"/>
                </a:lnTo>
                <a:lnTo>
                  <a:pt x="929" y="806"/>
                </a:lnTo>
                <a:lnTo>
                  <a:pt x="923" y="816"/>
                </a:lnTo>
                <a:lnTo>
                  <a:pt x="917" y="825"/>
                </a:lnTo>
                <a:lnTo>
                  <a:pt x="912" y="833"/>
                </a:lnTo>
                <a:lnTo>
                  <a:pt x="906" y="841"/>
                </a:lnTo>
                <a:lnTo>
                  <a:pt x="900" y="847"/>
                </a:lnTo>
                <a:lnTo>
                  <a:pt x="894" y="854"/>
                </a:lnTo>
                <a:lnTo>
                  <a:pt x="890" y="858"/>
                </a:lnTo>
                <a:lnTo>
                  <a:pt x="885" y="864"/>
                </a:lnTo>
                <a:lnTo>
                  <a:pt x="879" y="868"/>
                </a:lnTo>
                <a:lnTo>
                  <a:pt x="873" y="871"/>
                </a:lnTo>
                <a:lnTo>
                  <a:pt x="869" y="875"/>
                </a:lnTo>
                <a:lnTo>
                  <a:pt x="864" y="879"/>
                </a:lnTo>
                <a:lnTo>
                  <a:pt x="860" y="881"/>
                </a:lnTo>
                <a:lnTo>
                  <a:pt x="854" y="881"/>
                </a:lnTo>
                <a:lnTo>
                  <a:pt x="850" y="883"/>
                </a:lnTo>
                <a:lnTo>
                  <a:pt x="844" y="883"/>
                </a:lnTo>
                <a:lnTo>
                  <a:pt x="842" y="870"/>
                </a:lnTo>
                <a:lnTo>
                  <a:pt x="841" y="856"/>
                </a:lnTo>
                <a:lnTo>
                  <a:pt x="841" y="843"/>
                </a:lnTo>
                <a:lnTo>
                  <a:pt x="841" y="825"/>
                </a:lnTo>
                <a:lnTo>
                  <a:pt x="841" y="808"/>
                </a:lnTo>
                <a:lnTo>
                  <a:pt x="842" y="791"/>
                </a:lnTo>
                <a:lnTo>
                  <a:pt x="844" y="770"/>
                </a:lnTo>
                <a:lnTo>
                  <a:pt x="846" y="749"/>
                </a:lnTo>
                <a:lnTo>
                  <a:pt x="850" y="727"/>
                </a:lnTo>
                <a:lnTo>
                  <a:pt x="854" y="704"/>
                </a:lnTo>
                <a:lnTo>
                  <a:pt x="858" y="680"/>
                </a:lnTo>
                <a:lnTo>
                  <a:pt x="864" y="655"/>
                </a:lnTo>
                <a:lnTo>
                  <a:pt x="869" y="628"/>
                </a:lnTo>
                <a:lnTo>
                  <a:pt x="877" y="599"/>
                </a:lnTo>
                <a:lnTo>
                  <a:pt x="885" y="570"/>
                </a:lnTo>
                <a:lnTo>
                  <a:pt x="894" y="539"/>
                </a:lnTo>
                <a:lnTo>
                  <a:pt x="900" y="509"/>
                </a:lnTo>
                <a:lnTo>
                  <a:pt x="908" y="482"/>
                </a:lnTo>
                <a:lnTo>
                  <a:pt x="913" y="455"/>
                </a:lnTo>
                <a:lnTo>
                  <a:pt x="919" y="430"/>
                </a:lnTo>
                <a:lnTo>
                  <a:pt x="923" y="405"/>
                </a:lnTo>
                <a:lnTo>
                  <a:pt x="929" y="384"/>
                </a:lnTo>
                <a:lnTo>
                  <a:pt x="933" y="365"/>
                </a:lnTo>
                <a:lnTo>
                  <a:pt x="938" y="346"/>
                </a:lnTo>
                <a:lnTo>
                  <a:pt x="942" y="328"/>
                </a:lnTo>
                <a:lnTo>
                  <a:pt x="944" y="313"/>
                </a:lnTo>
                <a:lnTo>
                  <a:pt x="948" y="298"/>
                </a:lnTo>
                <a:lnTo>
                  <a:pt x="950" y="286"/>
                </a:lnTo>
                <a:lnTo>
                  <a:pt x="952" y="275"/>
                </a:lnTo>
                <a:lnTo>
                  <a:pt x="954" y="263"/>
                </a:lnTo>
                <a:lnTo>
                  <a:pt x="954" y="255"/>
                </a:lnTo>
                <a:lnTo>
                  <a:pt x="956" y="248"/>
                </a:lnTo>
                <a:lnTo>
                  <a:pt x="952" y="240"/>
                </a:lnTo>
                <a:lnTo>
                  <a:pt x="950" y="234"/>
                </a:lnTo>
                <a:lnTo>
                  <a:pt x="946" y="228"/>
                </a:lnTo>
                <a:lnTo>
                  <a:pt x="944" y="223"/>
                </a:lnTo>
                <a:lnTo>
                  <a:pt x="936" y="213"/>
                </a:lnTo>
                <a:lnTo>
                  <a:pt x="927" y="205"/>
                </a:lnTo>
                <a:lnTo>
                  <a:pt x="917" y="198"/>
                </a:lnTo>
                <a:lnTo>
                  <a:pt x="906" y="194"/>
                </a:lnTo>
                <a:lnTo>
                  <a:pt x="894" y="188"/>
                </a:lnTo>
                <a:lnTo>
                  <a:pt x="881" y="182"/>
                </a:lnTo>
                <a:lnTo>
                  <a:pt x="877" y="182"/>
                </a:lnTo>
                <a:lnTo>
                  <a:pt x="873" y="180"/>
                </a:lnTo>
                <a:lnTo>
                  <a:pt x="867" y="180"/>
                </a:lnTo>
                <a:lnTo>
                  <a:pt x="862" y="179"/>
                </a:lnTo>
                <a:lnTo>
                  <a:pt x="856" y="179"/>
                </a:lnTo>
                <a:lnTo>
                  <a:pt x="850" y="179"/>
                </a:lnTo>
                <a:lnTo>
                  <a:pt x="842" y="179"/>
                </a:lnTo>
                <a:lnTo>
                  <a:pt x="833" y="179"/>
                </a:lnTo>
                <a:lnTo>
                  <a:pt x="825" y="179"/>
                </a:lnTo>
                <a:lnTo>
                  <a:pt x="816" y="179"/>
                </a:lnTo>
                <a:lnTo>
                  <a:pt x="806" y="179"/>
                </a:lnTo>
                <a:lnTo>
                  <a:pt x="794" y="179"/>
                </a:lnTo>
                <a:lnTo>
                  <a:pt x="783" y="180"/>
                </a:lnTo>
                <a:lnTo>
                  <a:pt x="771" y="180"/>
                </a:lnTo>
                <a:lnTo>
                  <a:pt x="760" y="182"/>
                </a:lnTo>
                <a:lnTo>
                  <a:pt x="746" y="182"/>
                </a:lnTo>
                <a:lnTo>
                  <a:pt x="733" y="184"/>
                </a:lnTo>
                <a:lnTo>
                  <a:pt x="720" y="186"/>
                </a:lnTo>
                <a:lnTo>
                  <a:pt x="704" y="186"/>
                </a:lnTo>
                <a:lnTo>
                  <a:pt x="689" y="188"/>
                </a:lnTo>
                <a:lnTo>
                  <a:pt x="674" y="190"/>
                </a:lnTo>
                <a:lnTo>
                  <a:pt x="658" y="192"/>
                </a:lnTo>
                <a:lnTo>
                  <a:pt x="641" y="194"/>
                </a:lnTo>
                <a:lnTo>
                  <a:pt x="624" y="198"/>
                </a:lnTo>
                <a:lnTo>
                  <a:pt x="604" y="200"/>
                </a:lnTo>
                <a:lnTo>
                  <a:pt x="587" y="202"/>
                </a:lnTo>
                <a:lnTo>
                  <a:pt x="568" y="205"/>
                </a:lnTo>
                <a:lnTo>
                  <a:pt x="549" y="207"/>
                </a:lnTo>
                <a:lnTo>
                  <a:pt x="528" y="211"/>
                </a:lnTo>
                <a:lnTo>
                  <a:pt x="508" y="215"/>
                </a:lnTo>
                <a:lnTo>
                  <a:pt x="487" y="217"/>
                </a:lnTo>
                <a:lnTo>
                  <a:pt x="466" y="221"/>
                </a:lnTo>
                <a:lnTo>
                  <a:pt x="443" y="225"/>
                </a:lnTo>
                <a:lnTo>
                  <a:pt x="420" y="228"/>
                </a:lnTo>
                <a:lnTo>
                  <a:pt x="399" y="232"/>
                </a:lnTo>
                <a:lnTo>
                  <a:pt x="378" y="234"/>
                </a:lnTo>
                <a:lnTo>
                  <a:pt x="357" y="238"/>
                </a:lnTo>
                <a:lnTo>
                  <a:pt x="338" y="240"/>
                </a:lnTo>
                <a:lnTo>
                  <a:pt x="317" y="244"/>
                </a:lnTo>
                <a:lnTo>
                  <a:pt x="297" y="246"/>
                </a:lnTo>
                <a:lnTo>
                  <a:pt x="280" y="248"/>
                </a:lnTo>
                <a:lnTo>
                  <a:pt x="261" y="250"/>
                </a:lnTo>
                <a:lnTo>
                  <a:pt x="244" y="253"/>
                </a:lnTo>
                <a:lnTo>
                  <a:pt x="226" y="255"/>
                </a:lnTo>
                <a:lnTo>
                  <a:pt x="211" y="257"/>
                </a:lnTo>
                <a:lnTo>
                  <a:pt x="194" y="257"/>
                </a:lnTo>
                <a:lnTo>
                  <a:pt x="178" y="259"/>
                </a:lnTo>
                <a:lnTo>
                  <a:pt x="163" y="261"/>
                </a:lnTo>
                <a:lnTo>
                  <a:pt x="150" y="263"/>
                </a:lnTo>
                <a:lnTo>
                  <a:pt x="136" y="265"/>
                </a:lnTo>
                <a:lnTo>
                  <a:pt x="123" y="265"/>
                </a:lnTo>
                <a:lnTo>
                  <a:pt x="109" y="267"/>
                </a:lnTo>
                <a:lnTo>
                  <a:pt x="98" y="267"/>
                </a:lnTo>
                <a:lnTo>
                  <a:pt x="86" y="269"/>
                </a:lnTo>
                <a:lnTo>
                  <a:pt x="75" y="269"/>
                </a:lnTo>
                <a:lnTo>
                  <a:pt x="63" y="269"/>
                </a:lnTo>
                <a:lnTo>
                  <a:pt x="54" y="271"/>
                </a:lnTo>
                <a:lnTo>
                  <a:pt x="44" y="271"/>
                </a:lnTo>
                <a:lnTo>
                  <a:pt x="36" y="271"/>
                </a:lnTo>
                <a:lnTo>
                  <a:pt x="27" y="271"/>
                </a:lnTo>
                <a:lnTo>
                  <a:pt x="19" y="273"/>
                </a:lnTo>
                <a:lnTo>
                  <a:pt x="13" y="273"/>
                </a:lnTo>
                <a:lnTo>
                  <a:pt x="6" y="273"/>
                </a:lnTo>
                <a:lnTo>
                  <a:pt x="0" y="273"/>
                </a:lnTo>
                <a:lnTo>
                  <a:pt x="0" y="221"/>
                </a:lnTo>
                <a:lnTo>
                  <a:pt x="0" y="171"/>
                </a:lnTo>
                <a:lnTo>
                  <a:pt x="32" y="171"/>
                </a:lnTo>
                <a:lnTo>
                  <a:pt x="65" y="169"/>
                </a:lnTo>
                <a:lnTo>
                  <a:pt x="100" y="167"/>
                </a:lnTo>
                <a:lnTo>
                  <a:pt x="132" y="165"/>
                </a:lnTo>
                <a:lnTo>
                  <a:pt x="167" y="163"/>
                </a:lnTo>
                <a:lnTo>
                  <a:pt x="203" y="161"/>
                </a:lnTo>
                <a:lnTo>
                  <a:pt x="238" y="157"/>
                </a:lnTo>
                <a:lnTo>
                  <a:pt x="274" y="154"/>
                </a:lnTo>
                <a:lnTo>
                  <a:pt x="347" y="144"/>
                </a:lnTo>
                <a:lnTo>
                  <a:pt x="422" y="132"/>
                </a:lnTo>
                <a:lnTo>
                  <a:pt x="497" y="121"/>
                </a:lnTo>
                <a:lnTo>
                  <a:pt x="576" y="108"/>
                </a:lnTo>
                <a:lnTo>
                  <a:pt x="595" y="104"/>
                </a:lnTo>
                <a:lnTo>
                  <a:pt x="614" y="100"/>
                </a:lnTo>
                <a:lnTo>
                  <a:pt x="631" y="96"/>
                </a:lnTo>
                <a:lnTo>
                  <a:pt x="649" y="92"/>
                </a:lnTo>
                <a:lnTo>
                  <a:pt x="666" y="90"/>
                </a:lnTo>
                <a:lnTo>
                  <a:pt x="681" y="86"/>
                </a:lnTo>
                <a:lnTo>
                  <a:pt x="698" y="83"/>
                </a:lnTo>
                <a:lnTo>
                  <a:pt x="714" y="81"/>
                </a:lnTo>
                <a:lnTo>
                  <a:pt x="727" y="77"/>
                </a:lnTo>
                <a:lnTo>
                  <a:pt x="743" y="73"/>
                </a:lnTo>
                <a:lnTo>
                  <a:pt x="756" y="71"/>
                </a:lnTo>
                <a:lnTo>
                  <a:pt x="769" y="67"/>
                </a:lnTo>
                <a:lnTo>
                  <a:pt x="781" y="65"/>
                </a:lnTo>
                <a:lnTo>
                  <a:pt x="793" y="63"/>
                </a:lnTo>
                <a:lnTo>
                  <a:pt x="804" y="60"/>
                </a:lnTo>
                <a:lnTo>
                  <a:pt x="816" y="58"/>
                </a:lnTo>
                <a:lnTo>
                  <a:pt x="825" y="54"/>
                </a:lnTo>
                <a:lnTo>
                  <a:pt x="837" y="52"/>
                </a:lnTo>
                <a:lnTo>
                  <a:pt x="844" y="50"/>
                </a:lnTo>
                <a:lnTo>
                  <a:pt x="854" y="46"/>
                </a:lnTo>
                <a:lnTo>
                  <a:pt x="862" y="44"/>
                </a:lnTo>
                <a:lnTo>
                  <a:pt x="869" y="42"/>
                </a:lnTo>
                <a:lnTo>
                  <a:pt x="877" y="38"/>
                </a:lnTo>
                <a:lnTo>
                  <a:pt x="883" y="36"/>
                </a:lnTo>
                <a:lnTo>
                  <a:pt x="890" y="35"/>
                </a:lnTo>
                <a:lnTo>
                  <a:pt x="896" y="33"/>
                </a:lnTo>
                <a:lnTo>
                  <a:pt x="900" y="29"/>
                </a:lnTo>
                <a:lnTo>
                  <a:pt x="906" y="27"/>
                </a:lnTo>
                <a:lnTo>
                  <a:pt x="910" y="25"/>
                </a:lnTo>
                <a:lnTo>
                  <a:pt x="913" y="23"/>
                </a:lnTo>
                <a:lnTo>
                  <a:pt x="915" y="19"/>
                </a:lnTo>
                <a:lnTo>
                  <a:pt x="919" y="17"/>
                </a:lnTo>
                <a:lnTo>
                  <a:pt x="927" y="13"/>
                </a:lnTo>
                <a:lnTo>
                  <a:pt x="936" y="8"/>
                </a:lnTo>
                <a:lnTo>
                  <a:pt x="946" y="4"/>
                </a:lnTo>
                <a:lnTo>
                  <a:pt x="956" y="2"/>
                </a:lnTo>
                <a:lnTo>
                  <a:pt x="963" y="0"/>
                </a:lnTo>
                <a:lnTo>
                  <a:pt x="973" y="0"/>
                </a:lnTo>
                <a:lnTo>
                  <a:pt x="979" y="0"/>
                </a:lnTo>
                <a:lnTo>
                  <a:pt x="983" y="2"/>
                </a:lnTo>
                <a:lnTo>
                  <a:pt x="986" y="2"/>
                </a:lnTo>
                <a:lnTo>
                  <a:pt x="992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34"/>
          <p:cNvSpPr/>
          <p:nvPr/>
        </p:nvSpPr>
        <p:spPr>
          <a:xfrm>
            <a:off x="6643800" y="3505320"/>
            <a:ext cx="574560" cy="139680"/>
          </a:xfrm>
          <a:custGeom>
            <a:avLst/>
            <a:gdLst/>
            <a:ahLst/>
            <a:rect l="l" t="t" r="r" b="b"/>
            <a:pathLst>
              <a:path w="723" h="177">
                <a:moveTo>
                  <a:pt x="723" y="102"/>
                </a:moveTo>
                <a:lnTo>
                  <a:pt x="717" y="102"/>
                </a:lnTo>
                <a:lnTo>
                  <a:pt x="712" y="102"/>
                </a:lnTo>
                <a:lnTo>
                  <a:pt x="704" y="102"/>
                </a:lnTo>
                <a:lnTo>
                  <a:pt x="694" y="102"/>
                </a:lnTo>
                <a:lnTo>
                  <a:pt x="685" y="102"/>
                </a:lnTo>
                <a:lnTo>
                  <a:pt x="675" y="104"/>
                </a:lnTo>
                <a:lnTo>
                  <a:pt x="662" y="104"/>
                </a:lnTo>
                <a:lnTo>
                  <a:pt x="650" y="106"/>
                </a:lnTo>
                <a:lnTo>
                  <a:pt x="635" y="108"/>
                </a:lnTo>
                <a:lnTo>
                  <a:pt x="620" y="108"/>
                </a:lnTo>
                <a:lnTo>
                  <a:pt x="604" y="110"/>
                </a:lnTo>
                <a:lnTo>
                  <a:pt x="585" y="112"/>
                </a:lnTo>
                <a:lnTo>
                  <a:pt x="568" y="114"/>
                </a:lnTo>
                <a:lnTo>
                  <a:pt x="547" y="116"/>
                </a:lnTo>
                <a:lnTo>
                  <a:pt x="526" y="117"/>
                </a:lnTo>
                <a:lnTo>
                  <a:pt x="504" y="119"/>
                </a:lnTo>
                <a:lnTo>
                  <a:pt x="481" y="123"/>
                </a:lnTo>
                <a:lnTo>
                  <a:pt x="456" y="125"/>
                </a:lnTo>
                <a:lnTo>
                  <a:pt x="431" y="127"/>
                </a:lnTo>
                <a:lnTo>
                  <a:pt x="405" y="131"/>
                </a:lnTo>
                <a:lnTo>
                  <a:pt x="376" y="133"/>
                </a:lnTo>
                <a:lnTo>
                  <a:pt x="347" y="137"/>
                </a:lnTo>
                <a:lnTo>
                  <a:pt x="318" y="140"/>
                </a:lnTo>
                <a:lnTo>
                  <a:pt x="288" y="144"/>
                </a:lnTo>
                <a:lnTo>
                  <a:pt x="255" y="148"/>
                </a:lnTo>
                <a:lnTo>
                  <a:pt x="222" y="152"/>
                </a:lnTo>
                <a:lnTo>
                  <a:pt x="188" y="156"/>
                </a:lnTo>
                <a:lnTo>
                  <a:pt x="151" y="160"/>
                </a:lnTo>
                <a:lnTo>
                  <a:pt x="117" y="163"/>
                </a:lnTo>
                <a:lnTo>
                  <a:pt x="78" y="167"/>
                </a:lnTo>
                <a:lnTo>
                  <a:pt x="40" y="173"/>
                </a:lnTo>
                <a:lnTo>
                  <a:pt x="0" y="177"/>
                </a:lnTo>
                <a:lnTo>
                  <a:pt x="0" y="119"/>
                </a:lnTo>
                <a:lnTo>
                  <a:pt x="0" y="64"/>
                </a:lnTo>
                <a:lnTo>
                  <a:pt x="57" y="56"/>
                </a:lnTo>
                <a:lnTo>
                  <a:pt x="111" y="48"/>
                </a:lnTo>
                <a:lnTo>
                  <a:pt x="165" y="43"/>
                </a:lnTo>
                <a:lnTo>
                  <a:pt x="217" y="37"/>
                </a:lnTo>
                <a:lnTo>
                  <a:pt x="266" y="31"/>
                </a:lnTo>
                <a:lnTo>
                  <a:pt x="314" y="25"/>
                </a:lnTo>
                <a:lnTo>
                  <a:pt x="362" y="21"/>
                </a:lnTo>
                <a:lnTo>
                  <a:pt x="407" y="16"/>
                </a:lnTo>
                <a:lnTo>
                  <a:pt x="451" y="12"/>
                </a:lnTo>
                <a:lnTo>
                  <a:pt x="495" y="10"/>
                </a:lnTo>
                <a:lnTo>
                  <a:pt x="535" y="6"/>
                </a:lnTo>
                <a:lnTo>
                  <a:pt x="575" y="4"/>
                </a:lnTo>
                <a:lnTo>
                  <a:pt x="614" y="2"/>
                </a:lnTo>
                <a:lnTo>
                  <a:pt x="652" y="0"/>
                </a:lnTo>
                <a:lnTo>
                  <a:pt x="689" y="0"/>
                </a:lnTo>
                <a:lnTo>
                  <a:pt x="723" y="0"/>
                </a:lnTo>
                <a:lnTo>
                  <a:pt x="723" y="50"/>
                </a:lnTo>
                <a:lnTo>
                  <a:pt x="723" y="1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35"/>
          <p:cNvSpPr/>
          <p:nvPr/>
        </p:nvSpPr>
        <p:spPr>
          <a:xfrm>
            <a:off x="6566040" y="3246480"/>
            <a:ext cx="514080" cy="136440"/>
          </a:xfrm>
          <a:custGeom>
            <a:avLst/>
            <a:gdLst/>
            <a:ahLst/>
            <a:rect l="l" t="t" r="r" b="b"/>
            <a:pathLst>
              <a:path w="649" h="171">
                <a:moveTo>
                  <a:pt x="393" y="132"/>
                </a:moveTo>
                <a:lnTo>
                  <a:pt x="361" y="136"/>
                </a:lnTo>
                <a:lnTo>
                  <a:pt x="330" y="142"/>
                </a:lnTo>
                <a:lnTo>
                  <a:pt x="299" y="146"/>
                </a:lnTo>
                <a:lnTo>
                  <a:pt x="270" y="150"/>
                </a:lnTo>
                <a:lnTo>
                  <a:pt x="244" y="154"/>
                </a:lnTo>
                <a:lnTo>
                  <a:pt x="215" y="155"/>
                </a:lnTo>
                <a:lnTo>
                  <a:pt x="190" y="159"/>
                </a:lnTo>
                <a:lnTo>
                  <a:pt x="165" y="161"/>
                </a:lnTo>
                <a:lnTo>
                  <a:pt x="140" y="163"/>
                </a:lnTo>
                <a:lnTo>
                  <a:pt x="117" y="165"/>
                </a:lnTo>
                <a:lnTo>
                  <a:pt x="94" y="167"/>
                </a:lnTo>
                <a:lnTo>
                  <a:pt x="75" y="169"/>
                </a:lnTo>
                <a:lnTo>
                  <a:pt x="53" y="169"/>
                </a:lnTo>
                <a:lnTo>
                  <a:pt x="34" y="169"/>
                </a:lnTo>
                <a:lnTo>
                  <a:pt x="17" y="171"/>
                </a:lnTo>
                <a:lnTo>
                  <a:pt x="0" y="171"/>
                </a:lnTo>
                <a:lnTo>
                  <a:pt x="0" y="119"/>
                </a:lnTo>
                <a:lnTo>
                  <a:pt x="0" y="69"/>
                </a:lnTo>
                <a:lnTo>
                  <a:pt x="25" y="69"/>
                </a:lnTo>
                <a:lnTo>
                  <a:pt x="50" y="67"/>
                </a:lnTo>
                <a:lnTo>
                  <a:pt x="73" y="67"/>
                </a:lnTo>
                <a:lnTo>
                  <a:pt x="98" y="67"/>
                </a:lnTo>
                <a:lnTo>
                  <a:pt x="121" y="65"/>
                </a:lnTo>
                <a:lnTo>
                  <a:pt x="142" y="63"/>
                </a:lnTo>
                <a:lnTo>
                  <a:pt x="186" y="59"/>
                </a:lnTo>
                <a:lnTo>
                  <a:pt x="228" y="54"/>
                </a:lnTo>
                <a:lnTo>
                  <a:pt x="267" y="48"/>
                </a:lnTo>
                <a:lnTo>
                  <a:pt x="307" y="40"/>
                </a:lnTo>
                <a:lnTo>
                  <a:pt x="343" y="31"/>
                </a:lnTo>
                <a:lnTo>
                  <a:pt x="374" y="21"/>
                </a:lnTo>
                <a:lnTo>
                  <a:pt x="405" y="13"/>
                </a:lnTo>
                <a:lnTo>
                  <a:pt x="434" y="8"/>
                </a:lnTo>
                <a:lnTo>
                  <a:pt x="462" y="4"/>
                </a:lnTo>
                <a:lnTo>
                  <a:pt x="476" y="2"/>
                </a:lnTo>
                <a:lnTo>
                  <a:pt x="489" y="0"/>
                </a:lnTo>
                <a:lnTo>
                  <a:pt x="503" y="0"/>
                </a:lnTo>
                <a:lnTo>
                  <a:pt x="516" y="0"/>
                </a:lnTo>
                <a:lnTo>
                  <a:pt x="528" y="0"/>
                </a:lnTo>
                <a:lnTo>
                  <a:pt x="539" y="2"/>
                </a:lnTo>
                <a:lnTo>
                  <a:pt x="553" y="4"/>
                </a:lnTo>
                <a:lnTo>
                  <a:pt x="564" y="6"/>
                </a:lnTo>
                <a:lnTo>
                  <a:pt x="576" y="8"/>
                </a:lnTo>
                <a:lnTo>
                  <a:pt x="585" y="10"/>
                </a:lnTo>
                <a:lnTo>
                  <a:pt x="595" y="13"/>
                </a:lnTo>
                <a:lnTo>
                  <a:pt x="602" y="15"/>
                </a:lnTo>
                <a:lnTo>
                  <a:pt x="610" y="17"/>
                </a:lnTo>
                <a:lnTo>
                  <a:pt x="618" y="21"/>
                </a:lnTo>
                <a:lnTo>
                  <a:pt x="624" y="23"/>
                </a:lnTo>
                <a:lnTo>
                  <a:pt x="629" y="27"/>
                </a:lnTo>
                <a:lnTo>
                  <a:pt x="633" y="29"/>
                </a:lnTo>
                <a:lnTo>
                  <a:pt x="639" y="33"/>
                </a:lnTo>
                <a:lnTo>
                  <a:pt x="641" y="36"/>
                </a:lnTo>
                <a:lnTo>
                  <a:pt x="645" y="38"/>
                </a:lnTo>
                <a:lnTo>
                  <a:pt x="647" y="42"/>
                </a:lnTo>
                <a:lnTo>
                  <a:pt x="649" y="48"/>
                </a:lnTo>
                <a:lnTo>
                  <a:pt x="649" y="52"/>
                </a:lnTo>
                <a:lnTo>
                  <a:pt x="649" y="56"/>
                </a:lnTo>
                <a:lnTo>
                  <a:pt x="649" y="59"/>
                </a:lnTo>
                <a:lnTo>
                  <a:pt x="649" y="61"/>
                </a:lnTo>
                <a:lnTo>
                  <a:pt x="647" y="63"/>
                </a:lnTo>
                <a:lnTo>
                  <a:pt x="645" y="65"/>
                </a:lnTo>
                <a:lnTo>
                  <a:pt x="643" y="67"/>
                </a:lnTo>
                <a:lnTo>
                  <a:pt x="641" y="71"/>
                </a:lnTo>
                <a:lnTo>
                  <a:pt x="637" y="73"/>
                </a:lnTo>
                <a:lnTo>
                  <a:pt x="633" y="75"/>
                </a:lnTo>
                <a:lnTo>
                  <a:pt x="629" y="77"/>
                </a:lnTo>
                <a:lnTo>
                  <a:pt x="624" y="81"/>
                </a:lnTo>
                <a:lnTo>
                  <a:pt x="618" y="82"/>
                </a:lnTo>
                <a:lnTo>
                  <a:pt x="612" y="84"/>
                </a:lnTo>
                <a:lnTo>
                  <a:pt x="606" y="86"/>
                </a:lnTo>
                <a:lnTo>
                  <a:pt x="601" y="90"/>
                </a:lnTo>
                <a:lnTo>
                  <a:pt x="593" y="92"/>
                </a:lnTo>
                <a:lnTo>
                  <a:pt x="585" y="94"/>
                </a:lnTo>
                <a:lnTo>
                  <a:pt x="577" y="96"/>
                </a:lnTo>
                <a:lnTo>
                  <a:pt x="568" y="100"/>
                </a:lnTo>
                <a:lnTo>
                  <a:pt x="558" y="102"/>
                </a:lnTo>
                <a:lnTo>
                  <a:pt x="549" y="104"/>
                </a:lnTo>
                <a:lnTo>
                  <a:pt x="539" y="106"/>
                </a:lnTo>
                <a:lnTo>
                  <a:pt x="528" y="107"/>
                </a:lnTo>
                <a:lnTo>
                  <a:pt x="516" y="111"/>
                </a:lnTo>
                <a:lnTo>
                  <a:pt x="505" y="113"/>
                </a:lnTo>
                <a:lnTo>
                  <a:pt x="493" y="115"/>
                </a:lnTo>
                <a:lnTo>
                  <a:pt x="480" y="117"/>
                </a:lnTo>
                <a:lnTo>
                  <a:pt x="466" y="121"/>
                </a:lnTo>
                <a:lnTo>
                  <a:pt x="453" y="123"/>
                </a:lnTo>
                <a:lnTo>
                  <a:pt x="437" y="125"/>
                </a:lnTo>
                <a:lnTo>
                  <a:pt x="424" y="127"/>
                </a:lnTo>
                <a:lnTo>
                  <a:pt x="409" y="130"/>
                </a:lnTo>
                <a:lnTo>
                  <a:pt x="393" y="1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136"/>
          <p:cNvSpPr/>
          <p:nvPr/>
        </p:nvSpPr>
        <p:spPr>
          <a:xfrm>
            <a:off x="5854680" y="2598840"/>
            <a:ext cx="227160" cy="2198520"/>
          </a:xfrm>
          <a:custGeom>
            <a:avLst/>
            <a:gdLst/>
            <a:ahLst/>
            <a:rect l="l" t="t" r="r" b="b"/>
            <a:pathLst>
              <a:path w="286" h="2770">
                <a:moveTo>
                  <a:pt x="4" y="21"/>
                </a:moveTo>
                <a:lnTo>
                  <a:pt x="6" y="18"/>
                </a:lnTo>
                <a:lnTo>
                  <a:pt x="10" y="14"/>
                </a:lnTo>
                <a:lnTo>
                  <a:pt x="14" y="10"/>
                </a:lnTo>
                <a:lnTo>
                  <a:pt x="20" y="6"/>
                </a:lnTo>
                <a:lnTo>
                  <a:pt x="25" y="4"/>
                </a:lnTo>
                <a:lnTo>
                  <a:pt x="33" y="2"/>
                </a:lnTo>
                <a:lnTo>
                  <a:pt x="41" y="0"/>
                </a:lnTo>
                <a:lnTo>
                  <a:pt x="50" y="0"/>
                </a:lnTo>
                <a:lnTo>
                  <a:pt x="60" y="0"/>
                </a:lnTo>
                <a:lnTo>
                  <a:pt x="69" y="0"/>
                </a:lnTo>
                <a:lnTo>
                  <a:pt x="81" y="0"/>
                </a:lnTo>
                <a:lnTo>
                  <a:pt x="93" y="2"/>
                </a:lnTo>
                <a:lnTo>
                  <a:pt x="106" y="2"/>
                </a:lnTo>
                <a:lnTo>
                  <a:pt x="119" y="4"/>
                </a:lnTo>
                <a:lnTo>
                  <a:pt x="135" y="6"/>
                </a:lnTo>
                <a:lnTo>
                  <a:pt x="150" y="8"/>
                </a:lnTo>
                <a:lnTo>
                  <a:pt x="165" y="14"/>
                </a:lnTo>
                <a:lnTo>
                  <a:pt x="181" y="18"/>
                </a:lnTo>
                <a:lnTo>
                  <a:pt x="194" y="23"/>
                </a:lnTo>
                <a:lnTo>
                  <a:pt x="206" y="27"/>
                </a:lnTo>
                <a:lnTo>
                  <a:pt x="217" y="33"/>
                </a:lnTo>
                <a:lnTo>
                  <a:pt x="227" y="37"/>
                </a:lnTo>
                <a:lnTo>
                  <a:pt x="236" y="41"/>
                </a:lnTo>
                <a:lnTo>
                  <a:pt x="246" y="44"/>
                </a:lnTo>
                <a:lnTo>
                  <a:pt x="254" y="50"/>
                </a:lnTo>
                <a:lnTo>
                  <a:pt x="259" y="54"/>
                </a:lnTo>
                <a:lnTo>
                  <a:pt x="265" y="58"/>
                </a:lnTo>
                <a:lnTo>
                  <a:pt x="271" y="60"/>
                </a:lnTo>
                <a:lnTo>
                  <a:pt x="275" y="64"/>
                </a:lnTo>
                <a:lnTo>
                  <a:pt x="279" y="67"/>
                </a:lnTo>
                <a:lnTo>
                  <a:pt x="283" y="69"/>
                </a:lnTo>
                <a:lnTo>
                  <a:pt x="286" y="73"/>
                </a:lnTo>
                <a:lnTo>
                  <a:pt x="284" y="75"/>
                </a:lnTo>
                <a:lnTo>
                  <a:pt x="284" y="79"/>
                </a:lnTo>
                <a:lnTo>
                  <a:pt x="284" y="81"/>
                </a:lnTo>
                <a:lnTo>
                  <a:pt x="284" y="85"/>
                </a:lnTo>
                <a:lnTo>
                  <a:pt x="284" y="90"/>
                </a:lnTo>
                <a:lnTo>
                  <a:pt x="284" y="94"/>
                </a:lnTo>
                <a:lnTo>
                  <a:pt x="283" y="100"/>
                </a:lnTo>
                <a:lnTo>
                  <a:pt x="283" y="106"/>
                </a:lnTo>
                <a:lnTo>
                  <a:pt x="283" y="113"/>
                </a:lnTo>
                <a:lnTo>
                  <a:pt x="281" y="121"/>
                </a:lnTo>
                <a:lnTo>
                  <a:pt x="281" y="129"/>
                </a:lnTo>
                <a:lnTo>
                  <a:pt x="279" y="137"/>
                </a:lnTo>
                <a:lnTo>
                  <a:pt x="279" y="144"/>
                </a:lnTo>
                <a:lnTo>
                  <a:pt x="277" y="154"/>
                </a:lnTo>
                <a:lnTo>
                  <a:pt x="277" y="165"/>
                </a:lnTo>
                <a:lnTo>
                  <a:pt x="275" y="175"/>
                </a:lnTo>
                <a:lnTo>
                  <a:pt x="273" y="186"/>
                </a:lnTo>
                <a:lnTo>
                  <a:pt x="273" y="198"/>
                </a:lnTo>
                <a:lnTo>
                  <a:pt x="271" y="209"/>
                </a:lnTo>
                <a:lnTo>
                  <a:pt x="269" y="221"/>
                </a:lnTo>
                <a:lnTo>
                  <a:pt x="267" y="234"/>
                </a:lnTo>
                <a:lnTo>
                  <a:pt x="265" y="248"/>
                </a:lnTo>
                <a:lnTo>
                  <a:pt x="265" y="261"/>
                </a:lnTo>
                <a:lnTo>
                  <a:pt x="263" y="277"/>
                </a:lnTo>
                <a:lnTo>
                  <a:pt x="261" y="292"/>
                </a:lnTo>
                <a:lnTo>
                  <a:pt x="258" y="323"/>
                </a:lnTo>
                <a:lnTo>
                  <a:pt x="254" y="355"/>
                </a:lnTo>
                <a:lnTo>
                  <a:pt x="248" y="390"/>
                </a:lnTo>
                <a:lnTo>
                  <a:pt x="246" y="411"/>
                </a:lnTo>
                <a:lnTo>
                  <a:pt x="244" y="430"/>
                </a:lnTo>
                <a:lnTo>
                  <a:pt x="242" y="453"/>
                </a:lnTo>
                <a:lnTo>
                  <a:pt x="240" y="476"/>
                </a:lnTo>
                <a:lnTo>
                  <a:pt x="238" y="499"/>
                </a:lnTo>
                <a:lnTo>
                  <a:pt x="236" y="524"/>
                </a:lnTo>
                <a:lnTo>
                  <a:pt x="235" y="551"/>
                </a:lnTo>
                <a:lnTo>
                  <a:pt x="233" y="580"/>
                </a:lnTo>
                <a:lnTo>
                  <a:pt x="231" y="607"/>
                </a:lnTo>
                <a:lnTo>
                  <a:pt x="229" y="638"/>
                </a:lnTo>
                <a:lnTo>
                  <a:pt x="229" y="668"/>
                </a:lnTo>
                <a:lnTo>
                  <a:pt x="227" y="701"/>
                </a:lnTo>
                <a:lnTo>
                  <a:pt x="225" y="733"/>
                </a:lnTo>
                <a:lnTo>
                  <a:pt x="223" y="768"/>
                </a:lnTo>
                <a:lnTo>
                  <a:pt x="223" y="805"/>
                </a:lnTo>
                <a:lnTo>
                  <a:pt x="221" y="841"/>
                </a:lnTo>
                <a:lnTo>
                  <a:pt x="221" y="877"/>
                </a:lnTo>
                <a:lnTo>
                  <a:pt x="219" y="918"/>
                </a:lnTo>
                <a:lnTo>
                  <a:pt x="217" y="958"/>
                </a:lnTo>
                <a:lnTo>
                  <a:pt x="217" y="998"/>
                </a:lnTo>
                <a:lnTo>
                  <a:pt x="217" y="1041"/>
                </a:lnTo>
                <a:lnTo>
                  <a:pt x="215" y="1085"/>
                </a:lnTo>
                <a:lnTo>
                  <a:pt x="215" y="1131"/>
                </a:lnTo>
                <a:lnTo>
                  <a:pt x="213" y="1177"/>
                </a:lnTo>
                <a:lnTo>
                  <a:pt x="213" y="1223"/>
                </a:lnTo>
                <a:lnTo>
                  <a:pt x="213" y="1271"/>
                </a:lnTo>
                <a:lnTo>
                  <a:pt x="213" y="1321"/>
                </a:lnTo>
                <a:lnTo>
                  <a:pt x="213" y="1373"/>
                </a:lnTo>
                <a:lnTo>
                  <a:pt x="212" y="1424"/>
                </a:lnTo>
                <a:lnTo>
                  <a:pt x="212" y="1476"/>
                </a:lnTo>
                <a:lnTo>
                  <a:pt x="212" y="1532"/>
                </a:lnTo>
                <a:lnTo>
                  <a:pt x="212" y="1588"/>
                </a:lnTo>
                <a:lnTo>
                  <a:pt x="212" y="1641"/>
                </a:lnTo>
                <a:lnTo>
                  <a:pt x="212" y="1695"/>
                </a:lnTo>
                <a:lnTo>
                  <a:pt x="212" y="1749"/>
                </a:lnTo>
                <a:lnTo>
                  <a:pt x="212" y="1799"/>
                </a:lnTo>
                <a:lnTo>
                  <a:pt x="212" y="1849"/>
                </a:lnTo>
                <a:lnTo>
                  <a:pt x="212" y="1897"/>
                </a:lnTo>
                <a:lnTo>
                  <a:pt x="210" y="1945"/>
                </a:lnTo>
                <a:lnTo>
                  <a:pt x="210" y="1989"/>
                </a:lnTo>
                <a:lnTo>
                  <a:pt x="210" y="2033"/>
                </a:lnTo>
                <a:lnTo>
                  <a:pt x="208" y="2075"/>
                </a:lnTo>
                <a:lnTo>
                  <a:pt x="208" y="2117"/>
                </a:lnTo>
                <a:lnTo>
                  <a:pt x="206" y="2156"/>
                </a:lnTo>
                <a:lnTo>
                  <a:pt x="206" y="2194"/>
                </a:lnTo>
                <a:lnTo>
                  <a:pt x="204" y="2231"/>
                </a:lnTo>
                <a:lnTo>
                  <a:pt x="204" y="2265"/>
                </a:lnTo>
                <a:lnTo>
                  <a:pt x="202" y="2300"/>
                </a:lnTo>
                <a:lnTo>
                  <a:pt x="202" y="2332"/>
                </a:lnTo>
                <a:lnTo>
                  <a:pt x="200" y="2361"/>
                </a:lnTo>
                <a:lnTo>
                  <a:pt x="198" y="2392"/>
                </a:lnTo>
                <a:lnTo>
                  <a:pt x="198" y="2419"/>
                </a:lnTo>
                <a:lnTo>
                  <a:pt x="196" y="2446"/>
                </a:lnTo>
                <a:lnTo>
                  <a:pt x="194" y="2469"/>
                </a:lnTo>
                <a:lnTo>
                  <a:pt x="192" y="2492"/>
                </a:lnTo>
                <a:lnTo>
                  <a:pt x="190" y="2515"/>
                </a:lnTo>
                <a:lnTo>
                  <a:pt x="188" y="2534"/>
                </a:lnTo>
                <a:lnTo>
                  <a:pt x="187" y="2553"/>
                </a:lnTo>
                <a:lnTo>
                  <a:pt x="185" y="2569"/>
                </a:lnTo>
                <a:lnTo>
                  <a:pt x="183" y="2584"/>
                </a:lnTo>
                <a:lnTo>
                  <a:pt x="181" y="2599"/>
                </a:lnTo>
                <a:lnTo>
                  <a:pt x="179" y="2611"/>
                </a:lnTo>
                <a:lnTo>
                  <a:pt x="177" y="2622"/>
                </a:lnTo>
                <a:lnTo>
                  <a:pt x="175" y="2630"/>
                </a:lnTo>
                <a:lnTo>
                  <a:pt x="171" y="2647"/>
                </a:lnTo>
                <a:lnTo>
                  <a:pt x="165" y="2663"/>
                </a:lnTo>
                <a:lnTo>
                  <a:pt x="162" y="2676"/>
                </a:lnTo>
                <a:lnTo>
                  <a:pt x="158" y="2689"/>
                </a:lnTo>
                <a:lnTo>
                  <a:pt x="152" y="2703"/>
                </a:lnTo>
                <a:lnTo>
                  <a:pt x="148" y="2714"/>
                </a:lnTo>
                <a:lnTo>
                  <a:pt x="144" y="2724"/>
                </a:lnTo>
                <a:lnTo>
                  <a:pt x="140" y="2734"/>
                </a:lnTo>
                <a:lnTo>
                  <a:pt x="137" y="2743"/>
                </a:lnTo>
                <a:lnTo>
                  <a:pt x="133" y="2749"/>
                </a:lnTo>
                <a:lnTo>
                  <a:pt x="129" y="2757"/>
                </a:lnTo>
                <a:lnTo>
                  <a:pt x="125" y="2760"/>
                </a:lnTo>
                <a:lnTo>
                  <a:pt x="121" y="2766"/>
                </a:lnTo>
                <a:lnTo>
                  <a:pt x="119" y="2768"/>
                </a:lnTo>
                <a:lnTo>
                  <a:pt x="117" y="2770"/>
                </a:lnTo>
                <a:lnTo>
                  <a:pt x="114" y="2770"/>
                </a:lnTo>
                <a:lnTo>
                  <a:pt x="112" y="2770"/>
                </a:lnTo>
                <a:lnTo>
                  <a:pt x="110" y="2768"/>
                </a:lnTo>
                <a:lnTo>
                  <a:pt x="106" y="2764"/>
                </a:lnTo>
                <a:lnTo>
                  <a:pt x="102" y="2760"/>
                </a:lnTo>
                <a:lnTo>
                  <a:pt x="98" y="2755"/>
                </a:lnTo>
                <a:lnTo>
                  <a:pt x="96" y="2749"/>
                </a:lnTo>
                <a:lnTo>
                  <a:pt x="93" y="2739"/>
                </a:lnTo>
                <a:lnTo>
                  <a:pt x="89" y="2732"/>
                </a:lnTo>
                <a:lnTo>
                  <a:pt x="83" y="2720"/>
                </a:lnTo>
                <a:lnTo>
                  <a:pt x="79" y="2709"/>
                </a:lnTo>
                <a:lnTo>
                  <a:pt x="75" y="2695"/>
                </a:lnTo>
                <a:lnTo>
                  <a:pt x="71" y="2680"/>
                </a:lnTo>
                <a:lnTo>
                  <a:pt x="66" y="2663"/>
                </a:lnTo>
                <a:lnTo>
                  <a:pt x="62" y="2645"/>
                </a:lnTo>
                <a:lnTo>
                  <a:pt x="58" y="2626"/>
                </a:lnTo>
                <a:lnTo>
                  <a:pt x="52" y="2605"/>
                </a:lnTo>
                <a:lnTo>
                  <a:pt x="46" y="2584"/>
                </a:lnTo>
                <a:lnTo>
                  <a:pt x="41" y="2563"/>
                </a:lnTo>
                <a:lnTo>
                  <a:pt x="37" y="2544"/>
                </a:lnTo>
                <a:lnTo>
                  <a:pt x="31" y="2524"/>
                </a:lnTo>
                <a:lnTo>
                  <a:pt x="29" y="2505"/>
                </a:lnTo>
                <a:lnTo>
                  <a:pt x="25" y="2488"/>
                </a:lnTo>
                <a:lnTo>
                  <a:pt x="23" y="2471"/>
                </a:lnTo>
                <a:lnTo>
                  <a:pt x="23" y="2455"/>
                </a:lnTo>
                <a:lnTo>
                  <a:pt x="21" y="2440"/>
                </a:lnTo>
                <a:lnTo>
                  <a:pt x="21" y="2426"/>
                </a:lnTo>
                <a:lnTo>
                  <a:pt x="21" y="2413"/>
                </a:lnTo>
                <a:lnTo>
                  <a:pt x="21" y="2402"/>
                </a:lnTo>
                <a:lnTo>
                  <a:pt x="23" y="2390"/>
                </a:lnTo>
                <a:lnTo>
                  <a:pt x="25" y="2380"/>
                </a:lnTo>
                <a:lnTo>
                  <a:pt x="25" y="2371"/>
                </a:lnTo>
                <a:lnTo>
                  <a:pt x="29" y="2363"/>
                </a:lnTo>
                <a:lnTo>
                  <a:pt x="29" y="2359"/>
                </a:lnTo>
                <a:lnTo>
                  <a:pt x="31" y="2354"/>
                </a:lnTo>
                <a:lnTo>
                  <a:pt x="31" y="2350"/>
                </a:lnTo>
                <a:lnTo>
                  <a:pt x="33" y="2342"/>
                </a:lnTo>
                <a:lnTo>
                  <a:pt x="35" y="2336"/>
                </a:lnTo>
                <a:lnTo>
                  <a:pt x="35" y="2329"/>
                </a:lnTo>
                <a:lnTo>
                  <a:pt x="37" y="2319"/>
                </a:lnTo>
                <a:lnTo>
                  <a:pt x="37" y="2309"/>
                </a:lnTo>
                <a:lnTo>
                  <a:pt x="39" y="2300"/>
                </a:lnTo>
                <a:lnTo>
                  <a:pt x="41" y="2290"/>
                </a:lnTo>
                <a:lnTo>
                  <a:pt x="41" y="2277"/>
                </a:lnTo>
                <a:lnTo>
                  <a:pt x="43" y="2265"/>
                </a:lnTo>
                <a:lnTo>
                  <a:pt x="45" y="2252"/>
                </a:lnTo>
                <a:lnTo>
                  <a:pt x="45" y="2238"/>
                </a:lnTo>
                <a:lnTo>
                  <a:pt x="46" y="2223"/>
                </a:lnTo>
                <a:lnTo>
                  <a:pt x="48" y="2208"/>
                </a:lnTo>
                <a:lnTo>
                  <a:pt x="50" y="2190"/>
                </a:lnTo>
                <a:lnTo>
                  <a:pt x="50" y="2173"/>
                </a:lnTo>
                <a:lnTo>
                  <a:pt x="52" y="2156"/>
                </a:lnTo>
                <a:lnTo>
                  <a:pt x="54" y="2137"/>
                </a:lnTo>
                <a:lnTo>
                  <a:pt x="56" y="2116"/>
                </a:lnTo>
                <a:lnTo>
                  <a:pt x="58" y="2096"/>
                </a:lnTo>
                <a:lnTo>
                  <a:pt x="60" y="2073"/>
                </a:lnTo>
                <a:lnTo>
                  <a:pt x="62" y="2052"/>
                </a:lnTo>
                <a:lnTo>
                  <a:pt x="64" y="2029"/>
                </a:lnTo>
                <a:lnTo>
                  <a:pt x="66" y="2004"/>
                </a:lnTo>
                <a:lnTo>
                  <a:pt x="68" y="1979"/>
                </a:lnTo>
                <a:lnTo>
                  <a:pt x="69" y="1954"/>
                </a:lnTo>
                <a:lnTo>
                  <a:pt x="71" y="1927"/>
                </a:lnTo>
                <a:lnTo>
                  <a:pt x="73" y="1899"/>
                </a:lnTo>
                <a:lnTo>
                  <a:pt x="75" y="1870"/>
                </a:lnTo>
                <a:lnTo>
                  <a:pt x="77" y="1841"/>
                </a:lnTo>
                <a:lnTo>
                  <a:pt x="79" y="1783"/>
                </a:lnTo>
                <a:lnTo>
                  <a:pt x="81" y="1724"/>
                </a:lnTo>
                <a:lnTo>
                  <a:pt x="85" y="1664"/>
                </a:lnTo>
                <a:lnTo>
                  <a:pt x="87" y="1603"/>
                </a:lnTo>
                <a:lnTo>
                  <a:pt x="89" y="1540"/>
                </a:lnTo>
                <a:lnTo>
                  <a:pt x="91" y="1476"/>
                </a:lnTo>
                <a:lnTo>
                  <a:pt x="93" y="1413"/>
                </a:lnTo>
                <a:lnTo>
                  <a:pt x="94" y="1346"/>
                </a:lnTo>
                <a:lnTo>
                  <a:pt x="96" y="1281"/>
                </a:lnTo>
                <a:lnTo>
                  <a:pt x="96" y="1211"/>
                </a:lnTo>
                <a:lnTo>
                  <a:pt x="98" y="1142"/>
                </a:lnTo>
                <a:lnTo>
                  <a:pt x="100" y="1073"/>
                </a:lnTo>
                <a:lnTo>
                  <a:pt x="100" y="1002"/>
                </a:lnTo>
                <a:lnTo>
                  <a:pt x="100" y="931"/>
                </a:lnTo>
                <a:lnTo>
                  <a:pt x="102" y="858"/>
                </a:lnTo>
                <a:lnTo>
                  <a:pt x="102" y="785"/>
                </a:lnTo>
                <a:lnTo>
                  <a:pt x="102" y="749"/>
                </a:lnTo>
                <a:lnTo>
                  <a:pt x="102" y="712"/>
                </a:lnTo>
                <a:lnTo>
                  <a:pt x="102" y="678"/>
                </a:lnTo>
                <a:lnTo>
                  <a:pt x="100" y="645"/>
                </a:lnTo>
                <a:lnTo>
                  <a:pt x="100" y="613"/>
                </a:lnTo>
                <a:lnTo>
                  <a:pt x="100" y="580"/>
                </a:lnTo>
                <a:lnTo>
                  <a:pt x="100" y="549"/>
                </a:lnTo>
                <a:lnTo>
                  <a:pt x="98" y="520"/>
                </a:lnTo>
                <a:lnTo>
                  <a:pt x="98" y="492"/>
                </a:lnTo>
                <a:lnTo>
                  <a:pt x="98" y="465"/>
                </a:lnTo>
                <a:lnTo>
                  <a:pt x="96" y="438"/>
                </a:lnTo>
                <a:lnTo>
                  <a:pt x="96" y="413"/>
                </a:lnTo>
                <a:lnTo>
                  <a:pt x="94" y="388"/>
                </a:lnTo>
                <a:lnTo>
                  <a:pt x="94" y="365"/>
                </a:lnTo>
                <a:lnTo>
                  <a:pt x="93" y="342"/>
                </a:lnTo>
                <a:lnTo>
                  <a:pt x="91" y="321"/>
                </a:lnTo>
                <a:lnTo>
                  <a:pt x="89" y="300"/>
                </a:lnTo>
                <a:lnTo>
                  <a:pt x="89" y="280"/>
                </a:lnTo>
                <a:lnTo>
                  <a:pt x="87" y="263"/>
                </a:lnTo>
                <a:lnTo>
                  <a:pt x="85" y="246"/>
                </a:lnTo>
                <a:lnTo>
                  <a:pt x="83" y="229"/>
                </a:lnTo>
                <a:lnTo>
                  <a:pt x="81" y="213"/>
                </a:lnTo>
                <a:lnTo>
                  <a:pt x="77" y="200"/>
                </a:lnTo>
                <a:lnTo>
                  <a:pt x="75" y="186"/>
                </a:lnTo>
                <a:lnTo>
                  <a:pt x="73" y="175"/>
                </a:lnTo>
                <a:lnTo>
                  <a:pt x="71" y="165"/>
                </a:lnTo>
                <a:lnTo>
                  <a:pt x="68" y="156"/>
                </a:lnTo>
                <a:lnTo>
                  <a:pt x="66" y="146"/>
                </a:lnTo>
                <a:lnTo>
                  <a:pt x="62" y="138"/>
                </a:lnTo>
                <a:lnTo>
                  <a:pt x="60" y="133"/>
                </a:lnTo>
                <a:lnTo>
                  <a:pt x="56" y="127"/>
                </a:lnTo>
                <a:lnTo>
                  <a:pt x="52" y="123"/>
                </a:lnTo>
                <a:lnTo>
                  <a:pt x="39" y="110"/>
                </a:lnTo>
                <a:lnTo>
                  <a:pt x="27" y="94"/>
                </a:lnTo>
                <a:lnTo>
                  <a:pt x="23" y="89"/>
                </a:lnTo>
                <a:lnTo>
                  <a:pt x="18" y="81"/>
                </a:lnTo>
                <a:lnTo>
                  <a:pt x="14" y="73"/>
                </a:lnTo>
                <a:lnTo>
                  <a:pt x="10" y="67"/>
                </a:lnTo>
                <a:lnTo>
                  <a:pt x="6" y="62"/>
                </a:lnTo>
                <a:lnTo>
                  <a:pt x="4" y="54"/>
                </a:lnTo>
                <a:lnTo>
                  <a:pt x="2" y="48"/>
                </a:lnTo>
                <a:lnTo>
                  <a:pt x="0" y="42"/>
                </a:lnTo>
                <a:lnTo>
                  <a:pt x="0" y="37"/>
                </a:lnTo>
                <a:lnTo>
                  <a:pt x="0" y="31"/>
                </a:lnTo>
                <a:lnTo>
                  <a:pt x="2" y="27"/>
                </a:lnTo>
                <a:lnTo>
                  <a:pt x="4" y="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137"/>
          <p:cNvSpPr/>
          <p:nvPr/>
        </p:nvSpPr>
        <p:spPr>
          <a:xfrm>
            <a:off x="5992920" y="3090960"/>
            <a:ext cx="303120" cy="244440"/>
          </a:xfrm>
          <a:custGeom>
            <a:avLst/>
            <a:gdLst/>
            <a:ahLst/>
            <a:rect l="l" t="t" r="r" b="b"/>
            <a:pathLst>
              <a:path w="382" h="309">
                <a:moveTo>
                  <a:pt x="0" y="0"/>
                </a:moveTo>
                <a:lnTo>
                  <a:pt x="29" y="0"/>
                </a:lnTo>
                <a:lnTo>
                  <a:pt x="58" y="0"/>
                </a:lnTo>
                <a:lnTo>
                  <a:pt x="83" y="2"/>
                </a:lnTo>
                <a:lnTo>
                  <a:pt x="109" y="4"/>
                </a:lnTo>
                <a:lnTo>
                  <a:pt x="132" y="6"/>
                </a:lnTo>
                <a:lnTo>
                  <a:pt x="156" y="10"/>
                </a:lnTo>
                <a:lnTo>
                  <a:pt x="177" y="14"/>
                </a:lnTo>
                <a:lnTo>
                  <a:pt x="196" y="18"/>
                </a:lnTo>
                <a:lnTo>
                  <a:pt x="215" y="21"/>
                </a:lnTo>
                <a:lnTo>
                  <a:pt x="232" y="25"/>
                </a:lnTo>
                <a:lnTo>
                  <a:pt x="250" y="31"/>
                </a:lnTo>
                <a:lnTo>
                  <a:pt x="265" y="37"/>
                </a:lnTo>
                <a:lnTo>
                  <a:pt x="280" y="42"/>
                </a:lnTo>
                <a:lnTo>
                  <a:pt x="294" y="50"/>
                </a:lnTo>
                <a:lnTo>
                  <a:pt x="307" y="56"/>
                </a:lnTo>
                <a:lnTo>
                  <a:pt x="319" y="64"/>
                </a:lnTo>
                <a:lnTo>
                  <a:pt x="326" y="73"/>
                </a:lnTo>
                <a:lnTo>
                  <a:pt x="336" y="83"/>
                </a:lnTo>
                <a:lnTo>
                  <a:pt x="344" y="92"/>
                </a:lnTo>
                <a:lnTo>
                  <a:pt x="349" y="102"/>
                </a:lnTo>
                <a:lnTo>
                  <a:pt x="357" y="112"/>
                </a:lnTo>
                <a:lnTo>
                  <a:pt x="363" y="121"/>
                </a:lnTo>
                <a:lnTo>
                  <a:pt x="367" y="131"/>
                </a:lnTo>
                <a:lnTo>
                  <a:pt x="372" y="140"/>
                </a:lnTo>
                <a:lnTo>
                  <a:pt x="376" y="150"/>
                </a:lnTo>
                <a:lnTo>
                  <a:pt x="378" y="160"/>
                </a:lnTo>
                <a:lnTo>
                  <a:pt x="380" y="167"/>
                </a:lnTo>
                <a:lnTo>
                  <a:pt x="382" y="177"/>
                </a:lnTo>
                <a:lnTo>
                  <a:pt x="382" y="186"/>
                </a:lnTo>
                <a:lnTo>
                  <a:pt x="382" y="196"/>
                </a:lnTo>
                <a:lnTo>
                  <a:pt x="382" y="206"/>
                </a:lnTo>
                <a:lnTo>
                  <a:pt x="380" y="215"/>
                </a:lnTo>
                <a:lnTo>
                  <a:pt x="378" y="227"/>
                </a:lnTo>
                <a:lnTo>
                  <a:pt x="374" y="238"/>
                </a:lnTo>
                <a:lnTo>
                  <a:pt x="372" y="248"/>
                </a:lnTo>
                <a:lnTo>
                  <a:pt x="369" y="257"/>
                </a:lnTo>
                <a:lnTo>
                  <a:pt x="365" y="265"/>
                </a:lnTo>
                <a:lnTo>
                  <a:pt x="363" y="273"/>
                </a:lnTo>
                <a:lnTo>
                  <a:pt x="359" y="279"/>
                </a:lnTo>
                <a:lnTo>
                  <a:pt x="355" y="284"/>
                </a:lnTo>
                <a:lnTo>
                  <a:pt x="351" y="290"/>
                </a:lnTo>
                <a:lnTo>
                  <a:pt x="347" y="294"/>
                </a:lnTo>
                <a:lnTo>
                  <a:pt x="346" y="298"/>
                </a:lnTo>
                <a:lnTo>
                  <a:pt x="342" y="300"/>
                </a:lnTo>
                <a:lnTo>
                  <a:pt x="338" y="302"/>
                </a:lnTo>
                <a:lnTo>
                  <a:pt x="336" y="304"/>
                </a:lnTo>
                <a:lnTo>
                  <a:pt x="334" y="305"/>
                </a:lnTo>
                <a:lnTo>
                  <a:pt x="330" y="305"/>
                </a:lnTo>
                <a:lnTo>
                  <a:pt x="328" y="307"/>
                </a:lnTo>
                <a:lnTo>
                  <a:pt x="324" y="307"/>
                </a:lnTo>
                <a:lnTo>
                  <a:pt x="321" y="309"/>
                </a:lnTo>
                <a:lnTo>
                  <a:pt x="317" y="307"/>
                </a:lnTo>
                <a:lnTo>
                  <a:pt x="313" y="307"/>
                </a:lnTo>
                <a:lnTo>
                  <a:pt x="307" y="305"/>
                </a:lnTo>
                <a:lnTo>
                  <a:pt x="301" y="302"/>
                </a:lnTo>
                <a:lnTo>
                  <a:pt x="294" y="300"/>
                </a:lnTo>
                <a:lnTo>
                  <a:pt x="286" y="296"/>
                </a:lnTo>
                <a:lnTo>
                  <a:pt x="278" y="290"/>
                </a:lnTo>
                <a:lnTo>
                  <a:pt x="271" y="286"/>
                </a:lnTo>
                <a:lnTo>
                  <a:pt x="261" y="280"/>
                </a:lnTo>
                <a:lnTo>
                  <a:pt x="251" y="275"/>
                </a:lnTo>
                <a:lnTo>
                  <a:pt x="242" y="269"/>
                </a:lnTo>
                <a:lnTo>
                  <a:pt x="232" y="261"/>
                </a:lnTo>
                <a:lnTo>
                  <a:pt x="221" y="254"/>
                </a:lnTo>
                <a:lnTo>
                  <a:pt x="209" y="246"/>
                </a:lnTo>
                <a:lnTo>
                  <a:pt x="198" y="238"/>
                </a:lnTo>
                <a:lnTo>
                  <a:pt x="184" y="229"/>
                </a:lnTo>
                <a:lnTo>
                  <a:pt x="173" y="217"/>
                </a:lnTo>
                <a:lnTo>
                  <a:pt x="159" y="206"/>
                </a:lnTo>
                <a:lnTo>
                  <a:pt x="146" y="194"/>
                </a:lnTo>
                <a:lnTo>
                  <a:pt x="132" y="181"/>
                </a:lnTo>
                <a:lnTo>
                  <a:pt x="119" y="165"/>
                </a:lnTo>
                <a:lnTo>
                  <a:pt x="106" y="148"/>
                </a:lnTo>
                <a:lnTo>
                  <a:pt x="90" y="131"/>
                </a:lnTo>
                <a:lnTo>
                  <a:pt x="77" y="113"/>
                </a:lnTo>
                <a:lnTo>
                  <a:pt x="61" y="92"/>
                </a:lnTo>
                <a:lnTo>
                  <a:pt x="46" y="71"/>
                </a:lnTo>
                <a:lnTo>
                  <a:pt x="31" y="48"/>
                </a:lnTo>
                <a:lnTo>
                  <a:pt x="15" y="2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138"/>
          <p:cNvSpPr/>
          <p:nvPr/>
        </p:nvSpPr>
        <p:spPr>
          <a:xfrm>
            <a:off x="6643800" y="2514600"/>
            <a:ext cx="419040" cy="584280"/>
          </a:xfrm>
          <a:custGeom>
            <a:avLst/>
            <a:gdLst/>
            <a:ahLst/>
            <a:rect l="l" t="t" r="r" b="b"/>
            <a:pathLst>
              <a:path w="527" h="737">
                <a:moveTo>
                  <a:pt x="74" y="737"/>
                </a:moveTo>
                <a:lnTo>
                  <a:pt x="76" y="733"/>
                </a:lnTo>
                <a:lnTo>
                  <a:pt x="76" y="729"/>
                </a:lnTo>
                <a:lnTo>
                  <a:pt x="76" y="725"/>
                </a:lnTo>
                <a:lnTo>
                  <a:pt x="76" y="723"/>
                </a:lnTo>
                <a:lnTo>
                  <a:pt x="74" y="719"/>
                </a:lnTo>
                <a:lnTo>
                  <a:pt x="73" y="719"/>
                </a:lnTo>
                <a:lnTo>
                  <a:pt x="69" y="718"/>
                </a:lnTo>
                <a:lnTo>
                  <a:pt x="65" y="716"/>
                </a:lnTo>
                <a:lnTo>
                  <a:pt x="59" y="716"/>
                </a:lnTo>
                <a:lnTo>
                  <a:pt x="53" y="716"/>
                </a:lnTo>
                <a:lnTo>
                  <a:pt x="48" y="716"/>
                </a:lnTo>
                <a:lnTo>
                  <a:pt x="40" y="718"/>
                </a:lnTo>
                <a:lnTo>
                  <a:pt x="30" y="719"/>
                </a:lnTo>
                <a:lnTo>
                  <a:pt x="21" y="719"/>
                </a:lnTo>
                <a:lnTo>
                  <a:pt x="11" y="721"/>
                </a:lnTo>
                <a:lnTo>
                  <a:pt x="0" y="725"/>
                </a:lnTo>
                <a:lnTo>
                  <a:pt x="25" y="685"/>
                </a:lnTo>
                <a:lnTo>
                  <a:pt x="48" y="645"/>
                </a:lnTo>
                <a:lnTo>
                  <a:pt x="71" y="608"/>
                </a:lnTo>
                <a:lnTo>
                  <a:pt x="92" y="572"/>
                </a:lnTo>
                <a:lnTo>
                  <a:pt x="111" y="537"/>
                </a:lnTo>
                <a:lnTo>
                  <a:pt x="130" y="503"/>
                </a:lnTo>
                <a:lnTo>
                  <a:pt x="147" y="472"/>
                </a:lnTo>
                <a:lnTo>
                  <a:pt x="165" y="441"/>
                </a:lnTo>
                <a:lnTo>
                  <a:pt x="180" y="412"/>
                </a:lnTo>
                <a:lnTo>
                  <a:pt x="195" y="384"/>
                </a:lnTo>
                <a:lnTo>
                  <a:pt x="209" y="359"/>
                </a:lnTo>
                <a:lnTo>
                  <a:pt x="220" y="334"/>
                </a:lnTo>
                <a:lnTo>
                  <a:pt x="232" y="311"/>
                </a:lnTo>
                <a:lnTo>
                  <a:pt x="241" y="291"/>
                </a:lnTo>
                <a:lnTo>
                  <a:pt x="249" y="270"/>
                </a:lnTo>
                <a:lnTo>
                  <a:pt x="257" y="253"/>
                </a:lnTo>
                <a:lnTo>
                  <a:pt x="265" y="238"/>
                </a:lnTo>
                <a:lnTo>
                  <a:pt x="268" y="222"/>
                </a:lnTo>
                <a:lnTo>
                  <a:pt x="274" y="207"/>
                </a:lnTo>
                <a:lnTo>
                  <a:pt x="278" y="194"/>
                </a:lnTo>
                <a:lnTo>
                  <a:pt x="282" y="180"/>
                </a:lnTo>
                <a:lnTo>
                  <a:pt x="284" y="169"/>
                </a:lnTo>
                <a:lnTo>
                  <a:pt x="286" y="157"/>
                </a:lnTo>
                <a:lnTo>
                  <a:pt x="286" y="146"/>
                </a:lnTo>
                <a:lnTo>
                  <a:pt x="286" y="136"/>
                </a:lnTo>
                <a:lnTo>
                  <a:pt x="286" y="124"/>
                </a:lnTo>
                <a:lnTo>
                  <a:pt x="286" y="117"/>
                </a:lnTo>
                <a:lnTo>
                  <a:pt x="284" y="107"/>
                </a:lnTo>
                <a:lnTo>
                  <a:pt x="280" y="99"/>
                </a:lnTo>
                <a:lnTo>
                  <a:pt x="278" y="90"/>
                </a:lnTo>
                <a:lnTo>
                  <a:pt x="274" y="82"/>
                </a:lnTo>
                <a:lnTo>
                  <a:pt x="270" y="76"/>
                </a:lnTo>
                <a:lnTo>
                  <a:pt x="263" y="69"/>
                </a:lnTo>
                <a:lnTo>
                  <a:pt x="257" y="63"/>
                </a:lnTo>
                <a:lnTo>
                  <a:pt x="251" y="57"/>
                </a:lnTo>
                <a:lnTo>
                  <a:pt x="247" y="52"/>
                </a:lnTo>
                <a:lnTo>
                  <a:pt x="243" y="46"/>
                </a:lnTo>
                <a:lnTo>
                  <a:pt x="240" y="42"/>
                </a:lnTo>
                <a:lnTo>
                  <a:pt x="236" y="38"/>
                </a:lnTo>
                <a:lnTo>
                  <a:pt x="234" y="34"/>
                </a:lnTo>
                <a:lnTo>
                  <a:pt x="232" y="30"/>
                </a:lnTo>
                <a:lnTo>
                  <a:pt x="230" y="27"/>
                </a:lnTo>
                <a:lnTo>
                  <a:pt x="228" y="25"/>
                </a:lnTo>
                <a:lnTo>
                  <a:pt x="228" y="21"/>
                </a:lnTo>
                <a:lnTo>
                  <a:pt x="228" y="19"/>
                </a:lnTo>
                <a:lnTo>
                  <a:pt x="230" y="17"/>
                </a:lnTo>
                <a:lnTo>
                  <a:pt x="230" y="15"/>
                </a:lnTo>
                <a:lnTo>
                  <a:pt x="234" y="11"/>
                </a:lnTo>
                <a:lnTo>
                  <a:pt x="238" y="7"/>
                </a:lnTo>
                <a:lnTo>
                  <a:pt x="245" y="4"/>
                </a:lnTo>
                <a:lnTo>
                  <a:pt x="253" y="2"/>
                </a:lnTo>
                <a:lnTo>
                  <a:pt x="263" y="0"/>
                </a:lnTo>
                <a:lnTo>
                  <a:pt x="274" y="0"/>
                </a:lnTo>
                <a:lnTo>
                  <a:pt x="280" y="0"/>
                </a:lnTo>
                <a:lnTo>
                  <a:pt x="286" y="0"/>
                </a:lnTo>
                <a:lnTo>
                  <a:pt x="293" y="0"/>
                </a:lnTo>
                <a:lnTo>
                  <a:pt x="301" y="0"/>
                </a:lnTo>
                <a:lnTo>
                  <a:pt x="311" y="0"/>
                </a:lnTo>
                <a:lnTo>
                  <a:pt x="318" y="0"/>
                </a:lnTo>
                <a:lnTo>
                  <a:pt x="334" y="4"/>
                </a:lnTo>
                <a:lnTo>
                  <a:pt x="349" y="9"/>
                </a:lnTo>
                <a:lnTo>
                  <a:pt x="364" y="13"/>
                </a:lnTo>
                <a:lnTo>
                  <a:pt x="382" y="19"/>
                </a:lnTo>
                <a:lnTo>
                  <a:pt x="399" y="27"/>
                </a:lnTo>
                <a:lnTo>
                  <a:pt x="416" y="32"/>
                </a:lnTo>
                <a:lnTo>
                  <a:pt x="435" y="40"/>
                </a:lnTo>
                <a:lnTo>
                  <a:pt x="453" y="50"/>
                </a:lnTo>
                <a:lnTo>
                  <a:pt x="462" y="57"/>
                </a:lnTo>
                <a:lnTo>
                  <a:pt x="470" y="63"/>
                </a:lnTo>
                <a:lnTo>
                  <a:pt x="478" y="71"/>
                </a:lnTo>
                <a:lnTo>
                  <a:pt x="485" y="76"/>
                </a:lnTo>
                <a:lnTo>
                  <a:pt x="491" y="82"/>
                </a:lnTo>
                <a:lnTo>
                  <a:pt x="499" y="88"/>
                </a:lnTo>
                <a:lnTo>
                  <a:pt x="503" y="94"/>
                </a:lnTo>
                <a:lnTo>
                  <a:pt x="508" y="99"/>
                </a:lnTo>
                <a:lnTo>
                  <a:pt x="512" y="105"/>
                </a:lnTo>
                <a:lnTo>
                  <a:pt x="516" y="109"/>
                </a:lnTo>
                <a:lnTo>
                  <a:pt x="520" y="115"/>
                </a:lnTo>
                <a:lnTo>
                  <a:pt x="522" y="121"/>
                </a:lnTo>
                <a:lnTo>
                  <a:pt x="524" y="124"/>
                </a:lnTo>
                <a:lnTo>
                  <a:pt x="526" y="130"/>
                </a:lnTo>
                <a:lnTo>
                  <a:pt x="526" y="134"/>
                </a:lnTo>
                <a:lnTo>
                  <a:pt x="527" y="140"/>
                </a:lnTo>
                <a:lnTo>
                  <a:pt x="526" y="146"/>
                </a:lnTo>
                <a:lnTo>
                  <a:pt x="526" y="153"/>
                </a:lnTo>
                <a:lnTo>
                  <a:pt x="524" y="163"/>
                </a:lnTo>
                <a:lnTo>
                  <a:pt x="520" y="171"/>
                </a:lnTo>
                <a:lnTo>
                  <a:pt x="516" y="180"/>
                </a:lnTo>
                <a:lnTo>
                  <a:pt x="512" y="188"/>
                </a:lnTo>
                <a:lnTo>
                  <a:pt x="506" y="199"/>
                </a:lnTo>
                <a:lnTo>
                  <a:pt x="501" y="209"/>
                </a:lnTo>
                <a:lnTo>
                  <a:pt x="493" y="220"/>
                </a:lnTo>
                <a:lnTo>
                  <a:pt x="487" y="232"/>
                </a:lnTo>
                <a:lnTo>
                  <a:pt x="478" y="243"/>
                </a:lnTo>
                <a:lnTo>
                  <a:pt x="470" y="257"/>
                </a:lnTo>
                <a:lnTo>
                  <a:pt x="460" y="270"/>
                </a:lnTo>
                <a:lnTo>
                  <a:pt x="451" y="286"/>
                </a:lnTo>
                <a:lnTo>
                  <a:pt x="439" y="301"/>
                </a:lnTo>
                <a:lnTo>
                  <a:pt x="430" y="316"/>
                </a:lnTo>
                <a:lnTo>
                  <a:pt x="416" y="334"/>
                </a:lnTo>
                <a:lnTo>
                  <a:pt x="403" y="353"/>
                </a:lnTo>
                <a:lnTo>
                  <a:pt x="387" y="372"/>
                </a:lnTo>
                <a:lnTo>
                  <a:pt x="372" y="393"/>
                </a:lnTo>
                <a:lnTo>
                  <a:pt x="353" y="416"/>
                </a:lnTo>
                <a:lnTo>
                  <a:pt x="334" y="439"/>
                </a:lnTo>
                <a:lnTo>
                  <a:pt x="314" y="462"/>
                </a:lnTo>
                <a:lnTo>
                  <a:pt x="291" y="489"/>
                </a:lnTo>
                <a:lnTo>
                  <a:pt x="268" y="516"/>
                </a:lnTo>
                <a:lnTo>
                  <a:pt x="245" y="543"/>
                </a:lnTo>
                <a:lnTo>
                  <a:pt x="218" y="572"/>
                </a:lnTo>
                <a:lnTo>
                  <a:pt x="192" y="602"/>
                </a:lnTo>
                <a:lnTo>
                  <a:pt x="165" y="635"/>
                </a:lnTo>
                <a:lnTo>
                  <a:pt x="136" y="668"/>
                </a:lnTo>
                <a:lnTo>
                  <a:pt x="105" y="702"/>
                </a:lnTo>
                <a:lnTo>
                  <a:pt x="74" y="7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139"/>
          <p:cNvSpPr/>
          <p:nvPr/>
        </p:nvSpPr>
        <p:spPr>
          <a:xfrm>
            <a:off x="5468760" y="3282840"/>
            <a:ext cx="222480" cy="595440"/>
          </a:xfrm>
          <a:custGeom>
            <a:avLst/>
            <a:gdLst/>
            <a:ahLst/>
            <a:rect l="l" t="t" r="r" b="b"/>
            <a:pathLst>
              <a:path w="280" h="751">
                <a:moveTo>
                  <a:pt x="109" y="204"/>
                </a:moveTo>
                <a:lnTo>
                  <a:pt x="111" y="181"/>
                </a:lnTo>
                <a:lnTo>
                  <a:pt x="115" y="157"/>
                </a:lnTo>
                <a:lnTo>
                  <a:pt x="117" y="138"/>
                </a:lnTo>
                <a:lnTo>
                  <a:pt x="121" y="119"/>
                </a:lnTo>
                <a:lnTo>
                  <a:pt x="123" y="102"/>
                </a:lnTo>
                <a:lnTo>
                  <a:pt x="126" y="86"/>
                </a:lnTo>
                <a:lnTo>
                  <a:pt x="130" y="71"/>
                </a:lnTo>
                <a:lnTo>
                  <a:pt x="134" y="58"/>
                </a:lnTo>
                <a:lnTo>
                  <a:pt x="138" y="46"/>
                </a:lnTo>
                <a:lnTo>
                  <a:pt x="140" y="37"/>
                </a:lnTo>
                <a:lnTo>
                  <a:pt x="144" y="27"/>
                </a:lnTo>
                <a:lnTo>
                  <a:pt x="148" y="19"/>
                </a:lnTo>
                <a:lnTo>
                  <a:pt x="149" y="12"/>
                </a:lnTo>
                <a:lnTo>
                  <a:pt x="153" y="6"/>
                </a:lnTo>
                <a:lnTo>
                  <a:pt x="155" y="2"/>
                </a:lnTo>
                <a:lnTo>
                  <a:pt x="159" y="0"/>
                </a:lnTo>
                <a:lnTo>
                  <a:pt x="163" y="0"/>
                </a:lnTo>
                <a:lnTo>
                  <a:pt x="169" y="2"/>
                </a:lnTo>
                <a:lnTo>
                  <a:pt x="176" y="4"/>
                </a:lnTo>
                <a:lnTo>
                  <a:pt x="184" y="8"/>
                </a:lnTo>
                <a:lnTo>
                  <a:pt x="194" y="14"/>
                </a:lnTo>
                <a:lnTo>
                  <a:pt x="201" y="21"/>
                </a:lnTo>
                <a:lnTo>
                  <a:pt x="211" y="29"/>
                </a:lnTo>
                <a:lnTo>
                  <a:pt x="220" y="38"/>
                </a:lnTo>
                <a:lnTo>
                  <a:pt x="224" y="52"/>
                </a:lnTo>
                <a:lnTo>
                  <a:pt x="230" y="67"/>
                </a:lnTo>
                <a:lnTo>
                  <a:pt x="238" y="83"/>
                </a:lnTo>
                <a:lnTo>
                  <a:pt x="244" y="98"/>
                </a:lnTo>
                <a:lnTo>
                  <a:pt x="251" y="115"/>
                </a:lnTo>
                <a:lnTo>
                  <a:pt x="257" y="134"/>
                </a:lnTo>
                <a:lnTo>
                  <a:pt x="261" y="144"/>
                </a:lnTo>
                <a:lnTo>
                  <a:pt x="263" y="156"/>
                </a:lnTo>
                <a:lnTo>
                  <a:pt x="267" y="165"/>
                </a:lnTo>
                <a:lnTo>
                  <a:pt x="268" y="179"/>
                </a:lnTo>
                <a:lnTo>
                  <a:pt x="272" y="202"/>
                </a:lnTo>
                <a:lnTo>
                  <a:pt x="276" y="223"/>
                </a:lnTo>
                <a:lnTo>
                  <a:pt x="278" y="246"/>
                </a:lnTo>
                <a:lnTo>
                  <a:pt x="278" y="267"/>
                </a:lnTo>
                <a:lnTo>
                  <a:pt x="280" y="288"/>
                </a:lnTo>
                <a:lnTo>
                  <a:pt x="280" y="309"/>
                </a:lnTo>
                <a:lnTo>
                  <a:pt x="280" y="332"/>
                </a:lnTo>
                <a:lnTo>
                  <a:pt x="280" y="355"/>
                </a:lnTo>
                <a:lnTo>
                  <a:pt x="276" y="380"/>
                </a:lnTo>
                <a:lnTo>
                  <a:pt x="270" y="405"/>
                </a:lnTo>
                <a:lnTo>
                  <a:pt x="265" y="434"/>
                </a:lnTo>
                <a:lnTo>
                  <a:pt x="259" y="463"/>
                </a:lnTo>
                <a:lnTo>
                  <a:pt x="255" y="478"/>
                </a:lnTo>
                <a:lnTo>
                  <a:pt x="251" y="493"/>
                </a:lnTo>
                <a:lnTo>
                  <a:pt x="247" y="509"/>
                </a:lnTo>
                <a:lnTo>
                  <a:pt x="244" y="526"/>
                </a:lnTo>
                <a:lnTo>
                  <a:pt x="238" y="543"/>
                </a:lnTo>
                <a:lnTo>
                  <a:pt x="232" y="561"/>
                </a:lnTo>
                <a:lnTo>
                  <a:pt x="226" y="578"/>
                </a:lnTo>
                <a:lnTo>
                  <a:pt x="220" y="597"/>
                </a:lnTo>
                <a:lnTo>
                  <a:pt x="213" y="616"/>
                </a:lnTo>
                <a:lnTo>
                  <a:pt x="207" y="634"/>
                </a:lnTo>
                <a:lnTo>
                  <a:pt x="199" y="649"/>
                </a:lnTo>
                <a:lnTo>
                  <a:pt x="194" y="664"/>
                </a:lnTo>
                <a:lnTo>
                  <a:pt x="188" y="678"/>
                </a:lnTo>
                <a:lnTo>
                  <a:pt x="182" y="691"/>
                </a:lnTo>
                <a:lnTo>
                  <a:pt x="178" y="703"/>
                </a:lnTo>
                <a:lnTo>
                  <a:pt x="173" y="712"/>
                </a:lnTo>
                <a:lnTo>
                  <a:pt x="167" y="722"/>
                </a:lnTo>
                <a:lnTo>
                  <a:pt x="163" y="729"/>
                </a:lnTo>
                <a:lnTo>
                  <a:pt x="157" y="735"/>
                </a:lnTo>
                <a:lnTo>
                  <a:pt x="151" y="741"/>
                </a:lnTo>
                <a:lnTo>
                  <a:pt x="148" y="745"/>
                </a:lnTo>
                <a:lnTo>
                  <a:pt x="144" y="749"/>
                </a:lnTo>
                <a:lnTo>
                  <a:pt x="138" y="749"/>
                </a:lnTo>
                <a:lnTo>
                  <a:pt x="134" y="751"/>
                </a:lnTo>
                <a:lnTo>
                  <a:pt x="126" y="751"/>
                </a:lnTo>
                <a:lnTo>
                  <a:pt x="121" y="749"/>
                </a:lnTo>
                <a:lnTo>
                  <a:pt x="115" y="747"/>
                </a:lnTo>
                <a:lnTo>
                  <a:pt x="109" y="745"/>
                </a:lnTo>
                <a:lnTo>
                  <a:pt x="103" y="743"/>
                </a:lnTo>
                <a:lnTo>
                  <a:pt x="98" y="739"/>
                </a:lnTo>
                <a:lnTo>
                  <a:pt x="92" y="735"/>
                </a:lnTo>
                <a:lnTo>
                  <a:pt x="86" y="731"/>
                </a:lnTo>
                <a:lnTo>
                  <a:pt x="80" y="726"/>
                </a:lnTo>
                <a:lnTo>
                  <a:pt x="77" y="720"/>
                </a:lnTo>
                <a:lnTo>
                  <a:pt x="71" y="714"/>
                </a:lnTo>
                <a:lnTo>
                  <a:pt x="67" y="706"/>
                </a:lnTo>
                <a:lnTo>
                  <a:pt x="61" y="701"/>
                </a:lnTo>
                <a:lnTo>
                  <a:pt x="57" y="691"/>
                </a:lnTo>
                <a:lnTo>
                  <a:pt x="52" y="683"/>
                </a:lnTo>
                <a:lnTo>
                  <a:pt x="48" y="674"/>
                </a:lnTo>
                <a:lnTo>
                  <a:pt x="42" y="666"/>
                </a:lnTo>
                <a:lnTo>
                  <a:pt x="36" y="660"/>
                </a:lnTo>
                <a:lnTo>
                  <a:pt x="30" y="653"/>
                </a:lnTo>
                <a:lnTo>
                  <a:pt x="25" y="645"/>
                </a:lnTo>
                <a:lnTo>
                  <a:pt x="21" y="639"/>
                </a:lnTo>
                <a:lnTo>
                  <a:pt x="17" y="632"/>
                </a:lnTo>
                <a:lnTo>
                  <a:pt x="9" y="618"/>
                </a:lnTo>
                <a:lnTo>
                  <a:pt x="6" y="605"/>
                </a:lnTo>
                <a:lnTo>
                  <a:pt x="2" y="593"/>
                </a:lnTo>
                <a:lnTo>
                  <a:pt x="0" y="582"/>
                </a:lnTo>
                <a:lnTo>
                  <a:pt x="0" y="572"/>
                </a:lnTo>
                <a:lnTo>
                  <a:pt x="0" y="562"/>
                </a:lnTo>
                <a:lnTo>
                  <a:pt x="2" y="551"/>
                </a:lnTo>
                <a:lnTo>
                  <a:pt x="6" y="538"/>
                </a:lnTo>
                <a:lnTo>
                  <a:pt x="9" y="524"/>
                </a:lnTo>
                <a:lnTo>
                  <a:pt x="17" y="509"/>
                </a:lnTo>
                <a:lnTo>
                  <a:pt x="21" y="501"/>
                </a:lnTo>
                <a:lnTo>
                  <a:pt x="25" y="493"/>
                </a:lnTo>
                <a:lnTo>
                  <a:pt x="30" y="486"/>
                </a:lnTo>
                <a:lnTo>
                  <a:pt x="36" y="476"/>
                </a:lnTo>
                <a:lnTo>
                  <a:pt x="42" y="467"/>
                </a:lnTo>
                <a:lnTo>
                  <a:pt x="48" y="457"/>
                </a:lnTo>
                <a:lnTo>
                  <a:pt x="54" y="447"/>
                </a:lnTo>
                <a:lnTo>
                  <a:pt x="61" y="436"/>
                </a:lnTo>
                <a:lnTo>
                  <a:pt x="65" y="424"/>
                </a:lnTo>
                <a:lnTo>
                  <a:pt x="71" y="413"/>
                </a:lnTo>
                <a:lnTo>
                  <a:pt x="77" y="399"/>
                </a:lnTo>
                <a:lnTo>
                  <a:pt x="80" y="384"/>
                </a:lnTo>
                <a:lnTo>
                  <a:pt x="84" y="369"/>
                </a:lnTo>
                <a:lnTo>
                  <a:pt x="88" y="353"/>
                </a:lnTo>
                <a:lnTo>
                  <a:pt x="92" y="338"/>
                </a:lnTo>
                <a:lnTo>
                  <a:pt x="94" y="321"/>
                </a:lnTo>
                <a:lnTo>
                  <a:pt x="98" y="301"/>
                </a:lnTo>
                <a:lnTo>
                  <a:pt x="100" y="284"/>
                </a:lnTo>
                <a:lnTo>
                  <a:pt x="101" y="265"/>
                </a:lnTo>
                <a:lnTo>
                  <a:pt x="105" y="244"/>
                </a:lnTo>
                <a:lnTo>
                  <a:pt x="107" y="225"/>
                </a:lnTo>
                <a:lnTo>
                  <a:pt x="109" y="2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10:49:29Z</dcterms:modified>
  <cp:revision>47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